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8959850" cy="6721475"/>
  <p:notesSz cx="9871075" cy="6667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1200" cy="666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8080" y="857160"/>
            <a:ext cx="7593120" cy="569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r>
              <a:rPr b="1" lang="en-US" sz="2200" spc="-1" strike="noStrike">
                <a:solidFill>
                  <a:srgbClr val="a5392b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a5392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80800" y="248760"/>
            <a:ext cx="841212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7708680" y="37800"/>
            <a:ext cx="18666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MIL-24.1/13.1.3-19012007-52424/DMl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8791560" y="6357600"/>
            <a:ext cx="784080" cy="18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00CB-78BF-436E-B74F-4CF9A8606D5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cK Separator"/>
          <p:cNvSpPr/>
          <p:nvPr/>
        </p:nvSpPr>
        <p:spPr>
          <a:xfrm>
            <a:off x="1184400" y="101124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oc id"/>
          <p:cNvSpPr/>
          <p:nvPr/>
        </p:nvSpPr>
        <p:spPr>
          <a:xfrm>
            <a:off x="7723080" y="39960"/>
            <a:ext cx="183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MIL-24.1/13.1.3-19012007-52424/DMl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g num"/>
          <p:cNvSpPr/>
          <p:nvPr/>
        </p:nvSpPr>
        <p:spPr>
          <a:xfrm>
            <a:off x="8791560" y="6359040"/>
            <a:ext cx="78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92F0-FDF0-4FE4-90B7-20AA3F03DE2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8080" y="857160"/>
            <a:ext cx="7593120" cy="5695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180800" y="247320"/>
            <a:ext cx="8412120" cy="2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oc id"/>
          <p:cNvSpPr/>
          <p:nvPr/>
        </p:nvSpPr>
        <p:spPr>
          <a:xfrm>
            <a:off x="7723080" y="38160"/>
            <a:ext cx="183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MIL-24.1/13.1.3-19012007-52424/DMl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g num"/>
          <p:cNvSpPr/>
          <p:nvPr/>
        </p:nvSpPr>
        <p:spPr>
          <a:xfrm>
            <a:off x="8791560" y="6359040"/>
            <a:ext cx="78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1C1B-D427-4DE0-BE6F-E0605EFCBB3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doc id"/>
          <p:cNvSpPr/>
          <p:nvPr/>
        </p:nvSpPr>
        <p:spPr>
          <a:xfrm>
            <a:off x="7495200" y="38520"/>
            <a:ext cx="2076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MIL-24.1/13.1.3-19012007-52424/DMl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g num"/>
          <p:cNvSpPr/>
          <p:nvPr/>
        </p:nvSpPr>
        <p:spPr>
          <a:xfrm>
            <a:off x="8791560" y="6359760"/>
            <a:ext cx="78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DDE2995-BE34-47FF-9A1B-AD3C283B708E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6640" y="858960"/>
            <a:ext cx="7591320" cy="5692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180800" y="245880"/>
            <a:ext cx="8410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oc id"/>
          <p:cNvSpPr/>
          <p:nvPr/>
        </p:nvSpPr>
        <p:spPr>
          <a:xfrm>
            <a:off x="7723080" y="38160"/>
            <a:ext cx="183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MIL-24.1/13.1.3-19012007-52424/DMl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g num"/>
          <p:cNvSpPr/>
          <p:nvPr/>
        </p:nvSpPr>
        <p:spPr>
          <a:xfrm>
            <a:off x="8791560" y="6357600"/>
            <a:ext cx="78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C678-BE19-4722-A53C-31087883385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9520" y="858960"/>
            <a:ext cx="7589880" cy="5692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180800" y="245880"/>
            <a:ext cx="8410680" cy="2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oc id"/>
          <p:cNvSpPr/>
          <p:nvPr/>
        </p:nvSpPr>
        <p:spPr>
          <a:xfrm>
            <a:off x="7723080" y="38160"/>
            <a:ext cx="183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MIL-24.1/13.1.3-19012007-52424/DMl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g num"/>
          <p:cNvSpPr/>
          <p:nvPr/>
        </p:nvSpPr>
        <p:spPr>
          <a:xfrm>
            <a:off x="8791560" y="6359040"/>
            <a:ext cx="78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26BE-C719-4CFB-B8E4-75C62B3FC21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11320" y="857160"/>
            <a:ext cx="7591320" cy="5694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182240" y="246240"/>
            <a:ext cx="8410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oc id"/>
          <p:cNvSpPr/>
          <p:nvPr/>
        </p:nvSpPr>
        <p:spPr>
          <a:xfrm>
            <a:off x="7723080" y="39960"/>
            <a:ext cx="183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MIL-24.1/13.1.3-19012007-52424/DMl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g num"/>
          <p:cNvSpPr/>
          <p:nvPr/>
        </p:nvSpPr>
        <p:spPr>
          <a:xfrm>
            <a:off x="8791560" y="6359040"/>
            <a:ext cx="78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D208-F7F0-4816-A55E-10662A6439F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11320" y="857160"/>
            <a:ext cx="7591320" cy="5694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82240" y="246240"/>
            <a:ext cx="8409240" cy="3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oc id"/>
          <p:cNvSpPr/>
          <p:nvPr/>
        </p:nvSpPr>
        <p:spPr>
          <a:xfrm>
            <a:off x="7713360" y="39960"/>
            <a:ext cx="183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MIL-24.1/13.1.3-19012007-52424/DMl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g num"/>
          <p:cNvSpPr/>
          <p:nvPr/>
        </p:nvSpPr>
        <p:spPr>
          <a:xfrm>
            <a:off x="8793000" y="6360840"/>
            <a:ext cx="78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513C-394A-4F3D-9338-3E3ABA0B873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9520" y="857160"/>
            <a:ext cx="7591680" cy="5694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182600" y="244080"/>
            <a:ext cx="8407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oc id"/>
          <p:cNvSpPr/>
          <p:nvPr/>
        </p:nvSpPr>
        <p:spPr>
          <a:xfrm>
            <a:off x="7723080" y="38160"/>
            <a:ext cx="183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MIL-24.1/13.1.3-19012007-52424/DMl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g num"/>
          <p:cNvSpPr/>
          <p:nvPr/>
        </p:nvSpPr>
        <p:spPr>
          <a:xfrm>
            <a:off x="8791560" y="6357600"/>
            <a:ext cx="78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366E-DD1A-49E3-860B-9E62E43733B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8080" y="857160"/>
            <a:ext cx="7593120" cy="5694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180800" y="245880"/>
            <a:ext cx="8410680" cy="2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oc id"/>
          <p:cNvSpPr/>
          <p:nvPr/>
        </p:nvSpPr>
        <p:spPr>
          <a:xfrm>
            <a:off x="7723080" y="38160"/>
            <a:ext cx="183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MIL-24.1/13.1.3-19012007-52424/DMl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g num"/>
          <p:cNvSpPr/>
          <p:nvPr/>
        </p:nvSpPr>
        <p:spPr>
          <a:xfrm>
            <a:off x="8791560" y="6359040"/>
            <a:ext cx="78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2B6C-905D-4C65-929B-90CA9180B9B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doc id"/>
          <p:cNvSpPr/>
          <p:nvPr/>
        </p:nvSpPr>
        <p:spPr>
          <a:xfrm>
            <a:off x="7495200" y="38520"/>
            <a:ext cx="2076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MIL-24.1/13.1.3-19012007-52424/DMl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g num"/>
          <p:cNvSpPr/>
          <p:nvPr/>
        </p:nvSpPr>
        <p:spPr>
          <a:xfrm>
            <a:off x="8791560" y="6359760"/>
            <a:ext cx="78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B7289D1-8CC9-482C-83F2-475FDEA085D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858960"/>
            <a:ext cx="7591320" cy="5692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180800" y="245880"/>
            <a:ext cx="8410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4C6B-03F7-46BE-AB5C-CE88F4DFB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a5392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2400" y="1272960"/>
            <a:ext cx="861840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2400" y="2163240"/>
            <a:ext cx="861840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3FA2-3448-4FFE-A178-4242931A8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a5392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2400" y="1272960"/>
            <a:ext cx="4205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38520" y="1272960"/>
            <a:ext cx="4205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2400" y="2163240"/>
            <a:ext cx="4205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38520" y="2163240"/>
            <a:ext cx="4205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9497-6348-45AF-85E1-1981D88BF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a5392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2400" y="1272960"/>
            <a:ext cx="27748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36240" y="1272960"/>
            <a:ext cx="27748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0440" y="1272960"/>
            <a:ext cx="27748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2400" y="2163240"/>
            <a:ext cx="27748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36240" y="2163240"/>
            <a:ext cx="27748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0440" y="2163240"/>
            <a:ext cx="27748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B970-D135-4D38-9324-B08EC9D37C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a5392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2400" y="1272960"/>
            <a:ext cx="861840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0F1C-69DD-4C05-980E-A4F5494B3E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a5392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2400" y="1272960"/>
            <a:ext cx="861840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97CC-5BA2-4B9D-9084-2C73F68B9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a5392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2400" y="1272960"/>
            <a:ext cx="42055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38520" y="1272960"/>
            <a:ext cx="42055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D264-DF29-46D8-A752-D12FFC59E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a539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198B6-F2A0-4B82-94D6-49DD2BDDA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8618400" cy="155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1B27-EAD2-4F43-B363-1F1AC6A0D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a5392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2400" y="1272960"/>
            <a:ext cx="4205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8520" y="1272960"/>
            <a:ext cx="42055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2400" y="2163240"/>
            <a:ext cx="4205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3C60-D328-42E8-B0E8-89C9A1195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a5392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2400" y="1272960"/>
            <a:ext cx="42055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8520" y="1272960"/>
            <a:ext cx="4205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38520" y="2163240"/>
            <a:ext cx="4205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2681-BAD9-4451-9896-9B444A57F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a5392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2400" y="1272960"/>
            <a:ext cx="4205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38520" y="1272960"/>
            <a:ext cx="4205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2400" y="2163240"/>
            <a:ext cx="861840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2C06-5E63-40D3-87A7-7D14019EF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870600" y="6416280"/>
            <a:ext cx="18669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5E39-8DB7-4FF6-93FF-9CB3656C95C7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200" spc="-1" strike="noStrike">
                <a:solidFill>
                  <a:srgbClr val="a5392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5392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22400" y="1272960"/>
            <a:ext cx="861840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buClr>
                <a:srgbClr val="a5392b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95200" indent="-149040">
              <a:buClr>
                <a:srgbClr val="a5392b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31640" indent="-134640">
              <a:buClr>
                <a:srgbClr val="a5392b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82480" indent="-149040">
              <a:buClr>
                <a:srgbClr val="a5392b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82480" indent="-149040"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82480" indent="-149040"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McK Slide Elements"/>
          <p:cNvGrpSpPr/>
          <p:nvPr/>
        </p:nvGrpSpPr>
        <p:grpSpPr>
          <a:xfrm>
            <a:off x="122400" y="531720"/>
            <a:ext cx="8618400" cy="6162840"/>
            <a:chOff x="122400" y="531720"/>
            <a:chExt cx="8618400" cy="6162840"/>
          </a:xfrm>
        </p:grpSpPr>
        <p:sp>
          <p:nvSpPr>
            <p:cNvPr id="4" name="McK Measure" hidden="1"/>
            <p:cNvSpPr/>
            <p:nvPr/>
          </p:nvSpPr>
          <p:spPr>
            <a:xfrm>
              <a:off x="122400" y="531720"/>
              <a:ext cx="861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Unità di mis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McK Footnote" hidden="1"/>
            <p:cNvSpPr/>
            <p:nvPr/>
          </p:nvSpPr>
          <p:spPr>
            <a:xfrm>
              <a:off x="125280" y="6291000"/>
              <a:ext cx="816768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74560" indent="-574560">
                <a:tabLst>
                  <a:tab algn="l" pos="0"/>
                  <a:tab algn="r" pos="53352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Asteris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74560" indent="-574560">
                <a:spcBef>
                  <a:spcPts val="300"/>
                </a:spcBef>
                <a:tabLst>
                  <a:tab algn="l" pos="0"/>
                  <a:tab algn="r" pos="53352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Fonte: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Fo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Working Draft" hidden="1"/>
          <p:cNvSpPr/>
          <p:nvPr/>
        </p:nvSpPr>
        <p:spPr>
          <a:xfrm rot="5400000">
            <a:off x="8032680" y="2706120"/>
            <a:ext cx="1718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orking Draft - Last Modified 25/05/2007 15.31.3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inted" hidden="1"/>
          <p:cNvSpPr/>
          <p:nvPr/>
        </p:nvSpPr>
        <p:spPr>
          <a:xfrm rot="5400000">
            <a:off x="8407440" y="3852000"/>
            <a:ext cx="968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Printed 27/03/2007 17.30.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31" descr="logo_MAC_1"/>
          <p:cNvPicPr/>
          <p:nvPr/>
        </p:nvPicPr>
        <p:blipFill>
          <a:blip r:embed="rId2"/>
          <a:stretch/>
        </p:blipFill>
        <p:spPr>
          <a:xfrm>
            <a:off x="6181560" y="6297480"/>
            <a:ext cx="225432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mercatoalternativocapitale.it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ogo"/>
          <p:cNvPicPr/>
          <p:nvPr/>
        </p:nvPicPr>
        <p:blipFill>
          <a:blip r:embed="rId1"/>
          <a:stretch/>
        </p:blipFill>
        <p:spPr>
          <a:xfrm>
            <a:off x="1495440" y="763560"/>
            <a:ext cx="6299280" cy="3998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2611440" y="4959360"/>
            <a:ext cx="589284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it-IT" sz="1400" spc="-1" strike="noStrike" u="sng">
                <a:solidFill>
                  <a:srgbClr val="a5392b"/>
                </a:solidFill>
                <a:uFillTx/>
                <a:latin typeface="Arial"/>
                <a:hlinkClick r:id="rId2"/>
              </a:rPr>
              <a:t>www.mercatoalternativocapitale.it</a:t>
            </a:r>
            <a:r>
              <a:rPr b="1" lang="it-IT" sz="1400" spc="-1" strike="noStrike">
                <a:solidFill>
                  <a:srgbClr val="ef4632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Chieti, 13 Ottobre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Ing. Cristiano Talpo – Responsabile Emittenti – ProMAC Sp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801880" y="3722760"/>
            <a:ext cx="58928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egnaposto numero diapositiva 4"/>
          <p:cNvSpPr/>
          <p:nvPr/>
        </p:nvSpPr>
        <p:spPr>
          <a:xfrm>
            <a:off x="6870600" y="6416640"/>
            <a:ext cx="186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0926-202E-440C-9813-D1584F6F36E5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egnaposto numero diapositiva 1"/>
          <p:cNvSpPr/>
          <p:nvPr/>
        </p:nvSpPr>
        <p:spPr>
          <a:xfrm>
            <a:off x="6870600" y="6416640"/>
            <a:ext cx="186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E41E-4906-4887-9267-E486E6157ACC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egnaposto numero diapositiva 3"/>
          <p:cNvSpPr/>
          <p:nvPr/>
        </p:nvSpPr>
        <p:spPr>
          <a:xfrm>
            <a:off x="6870600" y="6416640"/>
            <a:ext cx="186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A3D2A630-3116-4069-9BBB-DC0BD28D9637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e1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5"/>
          <p:cNvGraphicFramePr/>
          <p:nvPr/>
        </p:nvGraphicFramePr>
        <p:xfrm>
          <a:off x="884160" y="1131840"/>
          <a:ext cx="6986520" cy="47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131840"/>
                    <a:ext cx="6986520" cy="47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8"/>
          <p:cNvSpPr/>
          <p:nvPr/>
        </p:nvSpPr>
        <p:spPr>
          <a:xfrm>
            <a:off x="1909800" y="5627520"/>
            <a:ext cx="1089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rebuchet MS"/>
              </a:rPr>
              <a:t>MA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160" y="88920"/>
            <a:ext cx="868032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2400" spc="-1" strike="noStrike">
                <a:solidFill>
                  <a:srgbClr val="a5392b"/>
                </a:solidFill>
                <a:latin typeface="Trebuchet MS"/>
              </a:rPr>
              <a:t>Raccolta capitale media a 1 anno dalla partenza del mercato (mln €)</a:t>
            </a:r>
            <a:endParaRPr b="1" lang="en-US" sz="2400" spc="-1" strike="noStrike">
              <a:solidFill>
                <a:srgbClr val="a5392b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63600" y="6238800"/>
            <a:ext cx="529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Fonte: Euronext, London Stock Exchange, M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024600" y="5627520"/>
            <a:ext cx="106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rebuchet MS"/>
              </a:rPr>
              <a:t>AI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2112840" y="176364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4151160" y="176544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929200" y="257976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030560" y="5627520"/>
            <a:ext cx="12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rebuchet MS"/>
              </a:rPr>
              <a:t>ALTERNEX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 rot="16200000">
            <a:off x="213840" y="310392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ln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450720" y="592596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asso di conversione 1 £=1,3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63600" y="6416640"/>
            <a:ext cx="529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(Solo IPO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9160" y="125280"/>
            <a:ext cx="861840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2400" spc="-1" strike="noStrike">
                <a:solidFill>
                  <a:srgbClr val="a5392b"/>
                </a:solidFill>
                <a:latin typeface="Trebuchet MS"/>
              </a:rPr>
              <a:t>IL MAC: UNA REALE OPPORTUNITÀ PER LE PMI</a:t>
            </a:r>
            <a:endParaRPr b="1" lang="en-US" sz="2400" spc="-1" strike="noStrike">
              <a:solidFill>
                <a:srgbClr val="a5392b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25440" y="565200"/>
            <a:ext cx="8383680" cy="450720"/>
          </a:xfrm>
          <a:prstGeom prst="rect">
            <a:avLst/>
          </a:prstGeom>
          <a:solidFill>
            <a:srgbClr val="e1e1e1"/>
          </a:solidFill>
          <a:ln w="0">
            <a:noFill/>
          </a:ln>
          <a:effectLst>
            <a:outerShdw dist="17819" dir="2700000" blurRad="0" rotWithShape="0">
              <a:srgbClr val="a5392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417600" y="666720"/>
            <a:ext cx="814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4 IMPRESE QUO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7"/>
          <p:cNvGrpSpPr/>
          <p:nvPr/>
        </p:nvGrpSpPr>
        <p:grpSpPr>
          <a:xfrm>
            <a:off x="104760" y="1757520"/>
            <a:ext cx="2738520" cy="2324880"/>
            <a:chOff x="104760" y="1757520"/>
            <a:chExt cx="2738520" cy="2324880"/>
          </a:xfrm>
        </p:grpSpPr>
        <p:sp>
          <p:nvSpPr>
            <p:cNvPr id="192" name="Rectangle 8"/>
            <p:cNvSpPr/>
            <p:nvPr/>
          </p:nvSpPr>
          <p:spPr>
            <a:xfrm>
              <a:off x="104760" y="1757520"/>
              <a:ext cx="2738520" cy="232488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  <a:effectLst>
              <a:outerShdw dist="17819" dir="2700000" blurRad="0" rotWithShape="0">
                <a:srgbClr val="a5392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139320" y="1943640"/>
              <a:ext cx="26877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rebuchet MS"/>
                <a:buChar char="•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10"/>
          <p:cNvSpPr/>
          <p:nvPr/>
        </p:nvSpPr>
        <p:spPr>
          <a:xfrm>
            <a:off x="2379600" y="1200240"/>
            <a:ext cx="4334040" cy="449280"/>
          </a:xfrm>
          <a:prstGeom prst="rect">
            <a:avLst/>
          </a:prstGeom>
          <a:solidFill>
            <a:srgbClr val="e1e1e1"/>
          </a:solidFill>
          <a:ln w="0">
            <a:noFill/>
          </a:ln>
          <a:effectLst>
            <a:outerShdw dist="17819" dir="2700000" blurRad="0" rotWithShape="0">
              <a:srgbClr val="a5392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430200" y="1300320"/>
            <a:ext cx="814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ALCUNI DATI REA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90360" y="1776240"/>
            <a:ext cx="281484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Tessitura Pontelambr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IPO price 4,00 €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Raccolta 6,00 mln 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Capitalizzazione 1° giorno quot. 14,96 mln 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Flottante 1.500.000 azioni        (40,11% del capitale socia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16 Investi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6021360" y="1752480"/>
            <a:ext cx="2749680" cy="2302920"/>
            <a:chOff x="6021360" y="1752480"/>
            <a:chExt cx="2749680" cy="2302920"/>
          </a:xfrm>
        </p:grpSpPr>
        <p:sp>
          <p:nvSpPr>
            <p:cNvPr id="198" name="Rectangle 14"/>
            <p:cNvSpPr/>
            <p:nvPr/>
          </p:nvSpPr>
          <p:spPr>
            <a:xfrm>
              <a:off x="6021360" y="1752480"/>
              <a:ext cx="2749680" cy="230292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  <a:effectLst>
              <a:outerShdw dist="17819" dir="2700000" blurRad="0" rotWithShape="0">
                <a:srgbClr val="a5392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6055920" y="1937160"/>
              <a:ext cx="26992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rebuchet MS"/>
                <a:buChar char="•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16"/>
          <p:cNvSpPr/>
          <p:nvPr/>
        </p:nvSpPr>
        <p:spPr>
          <a:xfrm>
            <a:off x="5791320" y="1776240"/>
            <a:ext cx="3233520" cy="25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Area Impiant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IPO price 40,00 €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Raccolta 5,76 mln 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Capitalizzazione 1° giorno quo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45,76 mln 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Flottante 144.000 azioni           (12,59% del capitale socia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7 Investi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13"/>
          <p:cNvGrpSpPr/>
          <p:nvPr/>
        </p:nvGrpSpPr>
        <p:grpSpPr>
          <a:xfrm>
            <a:off x="3008160" y="1766880"/>
            <a:ext cx="2749680" cy="2304360"/>
            <a:chOff x="3008160" y="1766880"/>
            <a:chExt cx="2749680" cy="2304360"/>
          </a:xfrm>
        </p:grpSpPr>
        <p:sp>
          <p:nvSpPr>
            <p:cNvPr id="202" name="Rectangle 14"/>
            <p:cNvSpPr/>
            <p:nvPr/>
          </p:nvSpPr>
          <p:spPr>
            <a:xfrm>
              <a:off x="3008160" y="1766880"/>
              <a:ext cx="2749680" cy="230436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  <a:effectLst>
              <a:outerShdw dist="17819" dir="2700000" blurRad="0" rotWithShape="0">
                <a:srgbClr val="a5392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5"/>
            <p:cNvSpPr/>
            <p:nvPr/>
          </p:nvSpPr>
          <p:spPr>
            <a:xfrm>
              <a:off x="3042720" y="1951560"/>
              <a:ext cx="26992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rebuchet MS"/>
                <a:buChar char="•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6"/>
          <p:cNvSpPr/>
          <p:nvPr/>
        </p:nvSpPr>
        <p:spPr>
          <a:xfrm>
            <a:off x="2981160" y="1776240"/>
            <a:ext cx="2757600" cy="24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Raffaele Carus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IPO price 15,50 €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Raccolta 8,53 mln 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Capitalizzazione 1° giorno quot. 34,41 mln 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Flottante 550.000 azioni           (24,77% del capitale socia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18 Investi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3"/>
          <p:cNvGrpSpPr/>
          <p:nvPr/>
        </p:nvGrpSpPr>
        <p:grpSpPr>
          <a:xfrm>
            <a:off x="3033720" y="4205160"/>
            <a:ext cx="2749680" cy="2304360"/>
            <a:chOff x="3033720" y="4205160"/>
            <a:chExt cx="2749680" cy="2304360"/>
          </a:xfrm>
        </p:grpSpPr>
        <p:sp>
          <p:nvSpPr>
            <p:cNvPr id="206" name="Rectangle 14"/>
            <p:cNvSpPr/>
            <p:nvPr/>
          </p:nvSpPr>
          <p:spPr>
            <a:xfrm>
              <a:off x="3033720" y="4205160"/>
              <a:ext cx="2749680" cy="230436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  <a:effectLst>
              <a:outerShdw dist="17819" dir="2700000" blurRad="0" rotWithShape="0">
                <a:srgbClr val="a5392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5"/>
            <p:cNvSpPr/>
            <p:nvPr/>
          </p:nvSpPr>
          <p:spPr>
            <a:xfrm>
              <a:off x="3068280" y="4389840"/>
              <a:ext cx="26992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rebuchet MS"/>
                <a:buChar char="•"/>
                <a:tabLst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6"/>
          <p:cNvSpPr/>
          <p:nvPr/>
        </p:nvSpPr>
        <p:spPr>
          <a:xfrm>
            <a:off x="3070080" y="4253040"/>
            <a:ext cx="2757600" cy="26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S.E.I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IPO price 2,20 €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Raccolta 11,00 mln 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Capitalizzazione 1° giorno quo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63,14 mln 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Flottante 5.000.000 azioni           (17,42% del capitale socia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6 Investi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e1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2400" spc="-1" strike="noStrike">
                <a:solidFill>
                  <a:srgbClr val="a5392b"/>
                </a:solidFill>
                <a:latin typeface="Trebuchet MS"/>
              </a:rPr>
              <a:t>Le principali banche e istituzioni del paese sono coinvolte nell’iniziativa</a:t>
            </a:r>
            <a:endParaRPr b="1" lang="en-US" sz="2400" spc="-1" strike="noStrike">
              <a:solidFill>
                <a:srgbClr val="a5392b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602240" y="1074600"/>
            <a:ext cx="3903480" cy="508644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836960" y="1692360"/>
            <a:ext cx="3543480" cy="17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AB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AIDA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Assosi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Borsa Italia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Confindust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InfoCam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IPI (</a:t>
            </a: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Istituto Promozione Industriale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4735080" y="1150920"/>
            <a:ext cx="3613320" cy="482760"/>
            <a:chOff x="4735080" y="1150920"/>
            <a:chExt cx="3613320" cy="482760"/>
          </a:xfrm>
        </p:grpSpPr>
        <p:sp>
          <p:nvSpPr>
            <p:cNvPr id="61" name="AutoShape 8"/>
            <p:cNvSpPr/>
            <p:nvPr/>
          </p:nvSpPr>
          <p:spPr>
            <a:xfrm rot="5400000">
              <a:off x="6300360" y="-414360"/>
              <a:ext cx="482760" cy="36133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3613320"/>
                <a:gd name="textAreaBottom" fmla="*/ 3613680 h 361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98" y="0"/>
                  </a:lnTo>
                  <a:lnTo>
                    <a:pt x="21600" y="10800"/>
                  </a:lnTo>
                  <a:lnTo>
                    <a:pt x="1889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5392b"/>
            </a:solidFill>
            <a:ln w="12600">
              <a:solidFill>
                <a:srgbClr val="e1e1e1"/>
              </a:solidFill>
              <a:miter/>
            </a:ln>
            <a:effectLst>
              <a:outerShdw dist="17819" dir="2700000" blurRad="0" rotWithShape="0">
                <a:srgbClr val="e1e1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9"/>
            <p:cNvSpPr/>
            <p:nvPr/>
          </p:nvSpPr>
          <p:spPr>
            <a:xfrm>
              <a:off x="5238720" y="1270080"/>
              <a:ext cx="2608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182520" indent="-182520" algn="ctr">
                <a:lnSpc>
                  <a:spcPct val="100000"/>
                </a:lnSpc>
                <a:spcAft>
                  <a:spcPts val="99"/>
                </a:spcAft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Trebuchet MS"/>
                </a:rPr>
                <a:t>Istituzio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10"/>
          <p:cNvSpPr/>
          <p:nvPr/>
        </p:nvSpPr>
        <p:spPr>
          <a:xfrm>
            <a:off x="339840" y="1074600"/>
            <a:ext cx="3903480" cy="508644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1"/>
          <p:cNvGrpSpPr/>
          <p:nvPr/>
        </p:nvGrpSpPr>
        <p:grpSpPr>
          <a:xfrm>
            <a:off x="472680" y="1150920"/>
            <a:ext cx="3614760" cy="482760"/>
            <a:chOff x="472680" y="1150920"/>
            <a:chExt cx="3614760" cy="482760"/>
          </a:xfrm>
        </p:grpSpPr>
        <p:sp>
          <p:nvSpPr>
            <p:cNvPr id="65" name="AutoShape 12"/>
            <p:cNvSpPr/>
            <p:nvPr/>
          </p:nvSpPr>
          <p:spPr>
            <a:xfrm rot="5400000">
              <a:off x="2038680" y="-415080"/>
              <a:ext cx="482760" cy="361476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3614760"/>
                <a:gd name="textAreaBottom" fmla="*/ 3615120 h 361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98" y="0"/>
                  </a:lnTo>
                  <a:lnTo>
                    <a:pt x="21600" y="10800"/>
                  </a:lnTo>
                  <a:lnTo>
                    <a:pt x="1889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5392b"/>
            </a:solidFill>
            <a:ln w="12600">
              <a:solidFill>
                <a:srgbClr val="e1e1e1"/>
              </a:solidFill>
              <a:miter/>
            </a:ln>
            <a:effectLst>
              <a:outerShdw dist="17819" dir="2700000" blurRad="0" rotWithShape="0">
                <a:srgbClr val="e1e1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>
              <a:off x="976320" y="1270080"/>
              <a:ext cx="2609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182520" indent="-182520" algn="ctr">
                <a:lnSpc>
                  <a:spcPct val="100000"/>
                </a:lnSpc>
                <a:spcAft>
                  <a:spcPts val="99"/>
                </a:spcAft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Trebuchet MS"/>
                </a:rPr>
                <a:t>Banche e 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14"/>
          <p:cNvSpPr/>
          <p:nvPr/>
        </p:nvSpPr>
        <p:spPr>
          <a:xfrm>
            <a:off x="534960" y="1692360"/>
            <a:ext cx="3544920" cy="43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Banca Akros – Gruppo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Banca Antonvene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Banca CARI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Banca CR Firenz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Banca Finn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Banca Popolare dell’Emilia Romag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Banca Popolare di Vic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Banca Sel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BN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Centrobanca – Gruppo U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CentroS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CRED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Gruppo Banco Popol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Intesa Sanpao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M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Uni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4738320" y="3622680"/>
            <a:ext cx="3613320" cy="482760"/>
            <a:chOff x="4738320" y="3622680"/>
            <a:chExt cx="3613320" cy="482760"/>
          </a:xfrm>
        </p:grpSpPr>
        <p:sp>
          <p:nvSpPr>
            <p:cNvPr id="69" name="AutoShape 16"/>
            <p:cNvSpPr/>
            <p:nvPr/>
          </p:nvSpPr>
          <p:spPr>
            <a:xfrm rot="5400000">
              <a:off x="6303600" y="2057040"/>
              <a:ext cx="482760" cy="36133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3613320"/>
                <a:gd name="textAreaBottom" fmla="*/ 3613680 h 361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98" y="0"/>
                  </a:lnTo>
                  <a:lnTo>
                    <a:pt x="21600" y="10800"/>
                  </a:lnTo>
                  <a:lnTo>
                    <a:pt x="1889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5392b"/>
            </a:solidFill>
            <a:ln w="12600">
              <a:solidFill>
                <a:srgbClr val="e1e1e1"/>
              </a:solidFill>
              <a:miter/>
            </a:ln>
            <a:effectLst>
              <a:outerShdw dist="17819" dir="2700000" blurRad="0" rotWithShape="0">
                <a:srgbClr val="e1e1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7"/>
            <p:cNvSpPr/>
            <p:nvPr/>
          </p:nvSpPr>
          <p:spPr>
            <a:xfrm>
              <a:off x="5241960" y="3741840"/>
              <a:ext cx="2608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182520" indent="-182520" algn="ctr">
                <a:lnSpc>
                  <a:spcPct val="100000"/>
                </a:lnSpc>
                <a:spcAft>
                  <a:spcPts val="99"/>
                </a:spcAft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Trebuchet MS"/>
                </a:rPr>
                <a:t>Banche Sponsor non soci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18"/>
          <p:cNvSpPr/>
          <p:nvPr/>
        </p:nvSpPr>
        <p:spPr>
          <a:xfrm>
            <a:off x="4840200" y="4251240"/>
            <a:ext cx="371808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Banca Agrilea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Banca Popolare dell’Etruria e del Laz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Cassa di Risparmio di Volte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Gruppo Cassa di Risparmio di Ferr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numero diapositiva 2"/>
          <p:cNvSpPr/>
          <p:nvPr/>
        </p:nvSpPr>
        <p:spPr>
          <a:xfrm>
            <a:off x="6870600" y="6416640"/>
            <a:ext cx="186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316C-4998-4EBA-8CBE-DE98B9E8FBDC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36440" y="1792440"/>
            <a:ext cx="1598760" cy="4590720"/>
          </a:xfrm>
          <a:prstGeom prst="rect">
            <a:avLst/>
          </a:prstGeom>
          <a:solidFill>
            <a:srgbClr val="aaa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09600" y="1992240"/>
            <a:ext cx="1932120" cy="682560"/>
          </a:xfrm>
          <a:prstGeom prst="rect">
            <a:avLst/>
          </a:prstGeom>
          <a:solidFill>
            <a:srgbClr val="e1e1e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a5392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Merca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Regolamenta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09600" y="3840120"/>
            <a:ext cx="1932120" cy="682560"/>
          </a:xfrm>
          <a:prstGeom prst="rect">
            <a:avLst/>
          </a:prstGeom>
          <a:solidFill>
            <a:srgbClr val="e1e1e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a5392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Private Equ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2503440" y="1639800"/>
            <a:ext cx="34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549520" y="1302480"/>
            <a:ext cx="34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Principali caratteristi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6127920" y="1302480"/>
            <a:ext cx="26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Potenziali critic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6127920" y="1639800"/>
            <a:ext cx="260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136440" y="812880"/>
            <a:ext cx="218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Opzioni disponibili per finanziare la cresc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>
            <a:off x="136440" y="1639800"/>
            <a:ext cx="218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842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2400" spc="-1" strike="noStrike">
                <a:solidFill>
                  <a:srgbClr val="a5392b"/>
                </a:solidFill>
                <a:latin typeface="Trebuchet MS"/>
              </a:rPr>
              <a:t>Perchè i mercati alternativi hanno successo</a:t>
            </a:r>
            <a:endParaRPr b="1" lang="en-US" sz="2400" spc="-1" strike="noStrike">
              <a:solidFill>
                <a:srgbClr val="a5392b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2549520" y="1959120"/>
            <a:ext cx="28926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dec" pos="8002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Apertura al re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dec" pos="8002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dec" pos="8002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Prospetto informativo necess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dec" pos="8002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dec" pos="8002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Flottante, capitalizzazione e requisiti patrimoniali min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2549520" y="3840120"/>
            <a:ext cx="3443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dec" pos="8002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Clausole limi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dec" pos="8002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dec" pos="8002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Disciplina gest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2"/>
          <p:cNvSpPr/>
          <p:nvPr/>
        </p:nvSpPr>
        <p:spPr>
          <a:xfrm>
            <a:off x="6114960" y="1755720"/>
            <a:ext cx="260352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dec" pos="8002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dec" pos="8002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Costo della quotazione potenzialmente elev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dec" pos="8002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dec" pos="8002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Assoggettamento a normative di settore più vincola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dec" pos="8002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dec" pos="8002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3"/>
          <p:cNvSpPr/>
          <p:nvPr/>
        </p:nvSpPr>
        <p:spPr>
          <a:xfrm>
            <a:off x="6102360" y="3840120"/>
            <a:ext cx="283356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dec" pos="8002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Perdita di indipendenza nella gestione per l’imprendi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dec" pos="8002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dec" pos="8002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Termini e modalità di smobilizzo dell’investimento vincola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4"/>
          <p:cNvSpPr/>
          <p:nvPr/>
        </p:nvSpPr>
        <p:spPr>
          <a:xfrm>
            <a:off x="322200" y="5478480"/>
            <a:ext cx="1932120" cy="682560"/>
          </a:xfrm>
          <a:prstGeom prst="rect">
            <a:avLst/>
          </a:prstGeom>
          <a:solidFill>
            <a:srgbClr val="e1e1e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a5392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Sistema banc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2562120" y="5478480"/>
            <a:ext cx="34434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dec" pos="8002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Inefficiente finanziare crescita a lungo termine con debiti a breve term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dec" pos="8002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6114960" y="5478480"/>
            <a:ext cx="2833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dec" pos="8002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Costi eleva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dec" pos="8002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dec" pos="80028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Basile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5440" y="455400"/>
            <a:ext cx="88423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2200" spc="-1" strike="noStrike">
                <a:solidFill>
                  <a:srgbClr val="a5392b"/>
                </a:solidFill>
                <a:latin typeface="Trebuchet MS"/>
              </a:rPr>
              <a:t>MISSIONE E PRINCIPI COSTITUTIVI DEL MAC</a:t>
            </a:r>
            <a:endParaRPr b="1" lang="en-US" sz="2200" spc="-1" strike="noStrike">
              <a:solidFill>
                <a:srgbClr val="a5392b"/>
              </a:solidFill>
              <a:latin typeface="Arial"/>
            </a:endParaRPr>
          </a:p>
        </p:txBody>
      </p:sp>
      <p:cxnSp>
        <p:nvCxnSpPr>
          <p:cNvPr id="91" name="AutoShape 3"/>
          <p:cNvCxnSpPr/>
          <p:nvPr/>
        </p:nvCxnSpPr>
        <p:spPr>
          <a:xfrm>
            <a:off x="7638840" y="6328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2" name="Rectangle 4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e1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598320" y="1373040"/>
            <a:ext cx="2938320" cy="4399200"/>
            <a:chOff x="598320" y="1373040"/>
            <a:chExt cx="2938320" cy="4399200"/>
          </a:xfrm>
        </p:grpSpPr>
        <p:sp>
          <p:nvSpPr>
            <p:cNvPr id="95" name="Rectangle 7"/>
            <p:cNvSpPr/>
            <p:nvPr/>
          </p:nvSpPr>
          <p:spPr>
            <a:xfrm>
              <a:off x="641880" y="1373040"/>
              <a:ext cx="203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rebuchet MS"/>
                </a:rPr>
                <a:t>Mission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"/>
            <p:cNvSpPr/>
            <p:nvPr/>
          </p:nvSpPr>
          <p:spPr>
            <a:xfrm>
              <a:off x="598320" y="1833480"/>
              <a:ext cx="2938320" cy="3938760"/>
            </a:xfrm>
            <a:custGeom>
              <a:avLst/>
              <a:gdLst>
                <a:gd name="textAreaLeft" fmla="*/ 0 w 2938320"/>
                <a:gd name="textAreaRight" fmla="*/ 2938680 w 2938320"/>
                <a:gd name="textAreaTop" fmla="*/ 0 h 3938760"/>
                <a:gd name="textAreaBottom" fmla="*/ 3939120 h 393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51" y="0"/>
                  </a:lnTo>
                  <a:lnTo>
                    <a:pt x="21600" y="10800"/>
                  </a:lnTo>
                  <a:lnTo>
                    <a:pt x="1925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a5392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739080" y="2637000"/>
              <a:ext cx="2781000" cy="21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rebuchet MS"/>
                </a:rPr>
                <a:t>Il MAC ha lo scopo di promuovere la crescita e il rafforzamento dell’economia italian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0"/>
            <p:cNvSpPr/>
            <p:nvPr/>
          </p:nvSpPr>
          <p:spPr>
            <a:xfrm>
              <a:off x="598320" y="1663560"/>
              <a:ext cx="2938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125280" y="1373040"/>
            <a:ext cx="8372520" cy="5321520"/>
            <a:chOff x="125280" y="1373040"/>
            <a:chExt cx="8372520" cy="5321520"/>
          </a:xfrm>
        </p:grpSpPr>
        <p:sp>
          <p:nvSpPr>
            <p:cNvPr id="100" name="McK Footnote"/>
            <p:cNvSpPr/>
            <p:nvPr/>
          </p:nvSpPr>
          <p:spPr>
            <a:xfrm>
              <a:off x="125280" y="6511680"/>
              <a:ext cx="816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74560" indent="-574560">
                <a:spcBef>
                  <a:spcPts val="300"/>
                </a:spcBef>
                <a:tabLst>
                  <a:tab algn="l" pos="0"/>
                  <a:tab algn="r" pos="53352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ultilateral Trading Facil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13"/>
            <p:cNvGrpSpPr/>
            <p:nvPr/>
          </p:nvGrpSpPr>
          <p:grpSpPr>
            <a:xfrm>
              <a:off x="3716280" y="1373040"/>
              <a:ext cx="4781520" cy="4673520"/>
              <a:chOff x="3716280" y="1373040"/>
              <a:chExt cx="4781520" cy="4673520"/>
            </a:xfrm>
          </p:grpSpPr>
          <p:sp>
            <p:nvSpPr>
              <p:cNvPr id="102" name="Rectangle 14"/>
              <p:cNvSpPr/>
              <p:nvPr/>
            </p:nvSpPr>
            <p:spPr>
              <a:xfrm>
                <a:off x="3960720" y="1903320"/>
                <a:ext cx="4432320" cy="414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lvl="1" marL="144360" indent="-142920">
                  <a:lnSpc>
                    <a:spcPct val="100000"/>
                  </a:lnSpc>
                  <a:spcAft>
                    <a:spcPts val="1063"/>
                  </a:spcAft>
                  <a:buClr>
                    <a:srgbClr val="a5392b"/>
                  </a:buClr>
                  <a:buFont typeface="Trebuchet MS"/>
                  <a:buChar char="•"/>
                  <a:tabLst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it-IT" sz="1700" spc="-1" strike="noStrike">
                    <a:solidFill>
                      <a:srgbClr val="000000"/>
                    </a:solidFill>
                    <a:latin typeface="Trebuchet MS"/>
                  </a:rPr>
                  <a:t>Forte collegamento con banche, istituzioni ed associazioni che operano sul territorio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44360" indent="-142920">
                  <a:lnSpc>
                    <a:spcPct val="100000"/>
                  </a:lnSpc>
                  <a:buClr>
                    <a:srgbClr val="a5392b"/>
                  </a:buClr>
                  <a:buFont typeface="Trebuchet MS"/>
                  <a:buChar char="•"/>
                  <a:tabLst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44360" indent="-142920">
                  <a:lnSpc>
                    <a:spcPct val="100000"/>
                  </a:lnSpc>
                  <a:spcAft>
                    <a:spcPts val="1063"/>
                  </a:spcAft>
                  <a:buClr>
                    <a:srgbClr val="a5392b"/>
                  </a:buClr>
                  <a:buFont typeface="Trebuchet MS"/>
                  <a:buChar char="•"/>
                  <a:tabLst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it-IT" sz="1700" spc="-1" strike="noStrike">
                    <a:solidFill>
                      <a:srgbClr val="000000"/>
                    </a:solidFill>
                    <a:latin typeface="Trebuchet MS"/>
                  </a:rPr>
                  <a:t>Requisiti semplificati e costi contenuti per l’ammissione alla negoziazione e per la permanenza sul Mercato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44360" indent="-142920">
                  <a:lnSpc>
                    <a:spcPct val="100000"/>
                  </a:lnSpc>
                  <a:buClr>
                    <a:srgbClr val="a5392b"/>
                  </a:buClr>
                  <a:buFont typeface="Trebuchet MS"/>
                  <a:buChar char="•"/>
                  <a:tabLst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44360" indent="-142920">
                  <a:lnSpc>
                    <a:spcPct val="100000"/>
                  </a:lnSpc>
                  <a:spcAft>
                    <a:spcPts val="1063"/>
                  </a:spcAft>
                  <a:buClr>
                    <a:srgbClr val="a5392b"/>
                  </a:buClr>
                  <a:buFont typeface="Trebuchet MS"/>
                  <a:buChar char="•"/>
                  <a:tabLst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it-IT" sz="1700" spc="-1" strike="noStrike">
                    <a:solidFill>
                      <a:srgbClr val="000000"/>
                    </a:solidFill>
                    <a:latin typeface="Trebuchet MS"/>
                  </a:rPr>
                  <a:t>Accesso per la PMI richiede un numero non elevato di nuovi soci, con focus su investitori istituzionali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44360" indent="-142920">
                  <a:lnSpc>
                    <a:spcPct val="100000"/>
                  </a:lnSpc>
                  <a:buClr>
                    <a:srgbClr val="a5392b"/>
                  </a:buClr>
                  <a:buFont typeface="Trebuchet MS"/>
                  <a:buChar char="•"/>
                  <a:tabLst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44360" indent="-142920">
                  <a:lnSpc>
                    <a:spcPct val="100000"/>
                  </a:lnSpc>
                  <a:spcAft>
                    <a:spcPts val="1063"/>
                  </a:spcAft>
                  <a:buClr>
                    <a:srgbClr val="a5392b"/>
                  </a:buClr>
                  <a:buFont typeface="Trebuchet MS"/>
                  <a:buChar char="•"/>
                  <a:tabLst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it-IT" sz="1700" spc="-1" strike="noStrike">
                    <a:solidFill>
                      <a:srgbClr val="000000"/>
                    </a:solidFill>
                    <a:latin typeface="Trebuchet MS"/>
                  </a:rPr>
                  <a:t>Meccanismi per assicurare la formazione di prezzi significativi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3726000" y="1373040"/>
                <a:ext cx="2388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Trebuchet MS"/>
                  </a:rPr>
                  <a:t>Principi costitutiv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7"/>
              <p:cNvSpPr/>
              <p:nvPr/>
            </p:nvSpPr>
            <p:spPr>
              <a:xfrm>
                <a:off x="3726000" y="1663560"/>
                <a:ext cx="477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18"/>
              <p:cNvSpPr/>
              <p:nvPr/>
            </p:nvSpPr>
            <p:spPr>
              <a:xfrm>
                <a:off x="3716280" y="1887480"/>
                <a:ext cx="320760" cy="31284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a5392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19"/>
              <p:cNvSpPr/>
              <p:nvPr/>
            </p:nvSpPr>
            <p:spPr>
              <a:xfrm>
                <a:off x="3728880" y="2786040"/>
                <a:ext cx="320760" cy="31284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a5392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20"/>
              <p:cNvSpPr/>
              <p:nvPr/>
            </p:nvSpPr>
            <p:spPr>
              <a:xfrm>
                <a:off x="3728880" y="3989520"/>
                <a:ext cx="320760" cy="31248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a5392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21"/>
              <p:cNvSpPr/>
              <p:nvPr/>
            </p:nvSpPr>
            <p:spPr>
              <a:xfrm>
                <a:off x="3716280" y="5122800"/>
                <a:ext cx="320760" cy="32220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a5392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Segnaposto numero diapositiva 20"/>
          <p:cNvSpPr/>
          <p:nvPr/>
        </p:nvSpPr>
        <p:spPr>
          <a:xfrm>
            <a:off x="6870600" y="6416640"/>
            <a:ext cx="186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AAB1-5F64-4B19-B45C-32DD59776625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2"/>
          <p:cNvSpPr/>
          <p:nvPr/>
        </p:nvSpPr>
        <p:spPr>
          <a:xfrm>
            <a:off x="6870600" y="6416640"/>
            <a:ext cx="186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9991-B486-4F44-8D7D-E1260FA33475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e1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225360"/>
            <a:ext cx="896148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2400" spc="-1" strike="noStrike">
                <a:solidFill>
                  <a:srgbClr val="a5392b"/>
                </a:solidFill>
                <a:latin typeface="Trebuchet MS"/>
              </a:rPr>
              <a:t>IL MAC PERMETTE DI AUMENTARE LA DOTAZIONE DI CAPITALE FAVORENDO L’INGRESSO DI INVESTITORI PROFESSIONALI</a:t>
            </a:r>
            <a:endParaRPr b="1" lang="en-US" sz="2400" spc="-1" strike="noStrike">
              <a:solidFill>
                <a:srgbClr val="a5392b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33280" y="1300320"/>
            <a:ext cx="86392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2520" indent="-18252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Fondi di Private 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Ban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Assicur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Fondi Pen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Fondazioni Banca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Società di gestione del risparm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Imprese di grandi dimens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Singoli membri di una bo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Società iscritte a uno degli elenchi di cui agli articoli 106, 107 oppure 113 del T.U.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SzPct val="120000"/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173160" y="5321160"/>
            <a:ext cx="8526240" cy="838440"/>
          </a:xfrm>
          <a:prstGeom prst="roundRect">
            <a:avLst>
              <a:gd name="adj" fmla="val 3579"/>
            </a:avLst>
          </a:prstGeom>
          <a:solidFill>
            <a:srgbClr val="aaaaaa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a5392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Clienti classificati come professionali ai sensi della sezione II dell’allegato II della MIF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2163600" y="5202360"/>
            <a:ext cx="5059440" cy="838080"/>
          </a:xfrm>
          <a:prstGeom prst="roundRect">
            <a:avLst>
              <a:gd name="adj" fmla="val 3579"/>
            </a:avLst>
          </a:prstGeom>
          <a:solidFill>
            <a:srgbClr val="aaaaaa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a5392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2184480" y="3747960"/>
            <a:ext cx="5059440" cy="838440"/>
          </a:xfrm>
          <a:prstGeom prst="roundRect">
            <a:avLst>
              <a:gd name="adj" fmla="val 3579"/>
            </a:avLst>
          </a:prstGeom>
          <a:solidFill>
            <a:srgbClr val="aaaaaa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a5392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2187720" y="876240"/>
            <a:ext cx="5059080" cy="838440"/>
          </a:xfrm>
          <a:prstGeom prst="roundRect">
            <a:avLst>
              <a:gd name="adj" fmla="val 3579"/>
            </a:avLst>
          </a:prstGeom>
          <a:solidFill>
            <a:srgbClr val="aaaaaa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a5392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2349360" y="5423040"/>
            <a:ext cx="49215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Struttura finanziaria  in equilib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5240" y="167760"/>
            <a:ext cx="83944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2400" spc="-1" strike="noStrike">
                <a:solidFill>
                  <a:srgbClr val="a5392b"/>
                </a:solidFill>
                <a:latin typeface="Trebuchet MS"/>
              </a:rPr>
              <a:t>Cosa si aspettano gli investitori sul MAC?</a:t>
            </a:r>
            <a:endParaRPr b="1" lang="en-US" sz="2400" spc="-1" strike="noStrike">
              <a:solidFill>
                <a:srgbClr val="a5392b"/>
              </a:solidFill>
              <a:latin typeface="Arial"/>
            </a:endParaRPr>
          </a:p>
        </p:txBody>
      </p:sp>
      <p:sp>
        <p:nvSpPr>
          <p:cNvPr id="121" name="Rectangle 17" hidden="1"/>
          <p:cNvSpPr/>
          <p:nvPr/>
        </p:nvSpPr>
        <p:spPr>
          <a:xfrm>
            <a:off x="1440" y="0"/>
            <a:ext cx="15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ccia a destra 21"/>
          <p:cNvSpPr/>
          <p:nvPr/>
        </p:nvSpPr>
        <p:spPr>
          <a:xfrm>
            <a:off x="979560" y="1038240"/>
            <a:ext cx="601560" cy="4762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e1e1e1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2300400" y="1092240"/>
            <a:ext cx="48276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Un progetto indust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ccia a destra 23"/>
          <p:cNvSpPr/>
          <p:nvPr/>
        </p:nvSpPr>
        <p:spPr>
          <a:xfrm>
            <a:off x="1019160" y="2521080"/>
            <a:ext cx="574560" cy="4744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e1e1e1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ccia a destra 25"/>
          <p:cNvSpPr/>
          <p:nvPr/>
        </p:nvSpPr>
        <p:spPr>
          <a:xfrm>
            <a:off x="1044720" y="3936960"/>
            <a:ext cx="560160" cy="49860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e1e1e1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2908440" y="3965400"/>
            <a:ext cx="34178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Ritorno finanz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ccia a destra 28"/>
          <p:cNvSpPr/>
          <p:nvPr/>
        </p:nvSpPr>
        <p:spPr>
          <a:xfrm>
            <a:off x="1084320" y="5391000"/>
            <a:ext cx="560160" cy="49860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e1e1e1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egnaposto numero diapositiva 19"/>
          <p:cNvSpPr/>
          <p:nvPr/>
        </p:nvSpPr>
        <p:spPr>
          <a:xfrm>
            <a:off x="6870600" y="6416640"/>
            <a:ext cx="18669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B828-AD4C-4E5C-BEC3-AF67CE0D1784}" type="slidenum">
              <a:rPr b="0" lang="it-IT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189160" y="2332080"/>
            <a:ext cx="5059440" cy="838080"/>
          </a:xfrm>
          <a:prstGeom prst="roundRect">
            <a:avLst>
              <a:gd name="adj" fmla="val 3579"/>
            </a:avLst>
          </a:prstGeom>
          <a:solidFill>
            <a:srgbClr val="aaaaaa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a5392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301840" y="2548080"/>
            <a:ext cx="48276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Una storia attra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9160" y="178920"/>
            <a:ext cx="861840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2200" spc="-1" strike="noStrike">
                <a:solidFill>
                  <a:srgbClr val="a5392b"/>
                </a:solidFill>
                <a:latin typeface="Trebuchet MS"/>
              </a:rPr>
              <a:t>LA PROCEDURA PER L’AMMISSIONE DELL’IMPRESA AL MAC È RAPIDA E SEMPLICE</a:t>
            </a:r>
            <a:endParaRPr b="1" lang="en-US" sz="2200" spc="-1" strike="noStrike">
              <a:solidFill>
                <a:srgbClr val="a5392b"/>
              </a:solidFill>
              <a:latin typeface="Arial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203040" y="3052800"/>
            <a:ext cx="6647040" cy="0"/>
          </a:xfrm>
          <a:prstGeom prst="line">
            <a:avLst/>
          </a:prstGeom>
          <a:ln w="38160">
            <a:solidFill>
              <a:srgbClr val="a53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203040" y="2995560"/>
            <a:ext cx="0" cy="114480"/>
          </a:xfrm>
          <a:prstGeom prst="line">
            <a:avLst/>
          </a:prstGeom>
          <a:ln w="38160">
            <a:solidFill>
              <a:srgbClr val="a53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6850080" y="2995560"/>
            <a:ext cx="0" cy="114480"/>
          </a:xfrm>
          <a:prstGeom prst="line">
            <a:avLst/>
          </a:prstGeom>
          <a:ln w="38160">
            <a:solidFill>
              <a:srgbClr val="a53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6626160" y="744480"/>
            <a:ext cx="2054160" cy="1819440"/>
          </a:xfrm>
          <a:prstGeom prst="rect">
            <a:avLst/>
          </a:prstGeom>
          <a:solidFill>
            <a:srgbClr val="aaaaaa"/>
          </a:solidFill>
          <a:ln w="0">
            <a:noFill/>
          </a:ln>
          <a:effectLst>
            <a:outerShdw dist="17819" dir="2700000" blurRad="0" rotWithShape="0">
              <a:srgbClr val="a5392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966000" y="2090880"/>
            <a:ext cx="1249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Avvio delle negoziazi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966000" y="902880"/>
            <a:ext cx="150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MERC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1" descr="handelsraum_julius_baer"/>
          <p:cNvPicPr/>
          <p:nvPr/>
        </p:nvPicPr>
        <p:blipFill>
          <a:blip r:embed="rId1"/>
          <a:stretch/>
        </p:blipFill>
        <p:spPr>
          <a:xfrm>
            <a:off x="6100920" y="1204920"/>
            <a:ext cx="2574720" cy="7621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2"/>
          <p:cNvSpPr/>
          <p:nvPr/>
        </p:nvSpPr>
        <p:spPr>
          <a:xfrm>
            <a:off x="5049720" y="3386160"/>
            <a:ext cx="3154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Il collocamento è gestito dallo 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Specia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L’imprenditore 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può scegliere</a:t>
            </a: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 i propri soci  (in fase di collocamento, se c’è domanda superiore all’offer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1490760" y="3386160"/>
            <a:ext cx="18669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Le informazioni  derivano d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3200" indent="-131760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bilancio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3200" indent="-131760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eserciz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189240" y="3386160"/>
            <a:ext cx="172872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L’ammissione viene deliberata da Borsa Italia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3200" indent="-131760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entro10 gior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131760" y="3386160"/>
            <a:ext cx="14079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33200" indent="-13176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Lo 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Sponsor </a:t>
            </a: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è  la banca del territo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3200" indent="-131760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>
            <a:off x="4437000" y="625320"/>
            <a:ext cx="2289240" cy="2313000"/>
          </a:xfrm>
          <a:custGeom>
            <a:avLst/>
            <a:gdLst>
              <a:gd name="textAreaLeft" fmla="*/ 266040 w 2289240"/>
              <a:gd name="textAreaRight" fmla="*/ 2023200 w 2289240"/>
              <a:gd name="textAreaTop" fmla="*/ 372960 h 2313000"/>
              <a:gd name="textAreaBottom" fmla="*/ 1940040 h 2313000"/>
            </a:gdLst>
            <a:ahLst/>
            <a:rect l="textAreaLeft" t="textAreaTop" r="textAreaRight" b="textAreaBottom"/>
            <a:pathLst>
              <a:path w="21600" h="21600">
                <a:moveTo>
                  <a:pt x="0" y="3484"/>
                </a:moveTo>
                <a:lnTo>
                  <a:pt x="17894" y="3484"/>
                </a:ln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17894" y="18116"/>
                </a:lnTo>
                <a:lnTo>
                  <a:pt x="0" y="18116"/>
                </a:lnTo>
                <a:lnTo>
                  <a:pt x="2510" y="10800"/>
                </a:lnTo>
                <a:lnTo>
                  <a:pt x="0" y="3484"/>
                </a:lnTo>
                <a:close/>
              </a:path>
            </a:pathLst>
          </a:custGeom>
          <a:solidFill>
            <a:srgbClr val="e1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7"/>
          <p:cNvSpPr/>
          <p:nvPr/>
        </p:nvSpPr>
        <p:spPr>
          <a:xfrm>
            <a:off x="174600" y="995400"/>
            <a:ext cx="1920960" cy="1571760"/>
          </a:xfrm>
          <a:prstGeom prst="pie">
            <a:avLst/>
          </a:prstGeom>
          <a:solidFill>
            <a:srgbClr val="e1e1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230040" y="1082520"/>
            <a:ext cx="15544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" rIns="39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L’impresa contatta uno degli Sponsor di riferimento per la sua reg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9"/>
          <p:cNvSpPr/>
          <p:nvPr/>
        </p:nvSpPr>
        <p:spPr>
          <a:xfrm>
            <a:off x="1781280" y="995400"/>
            <a:ext cx="1920600" cy="1571760"/>
          </a:xfrm>
          <a:prstGeom prst="pie">
            <a:avLst/>
          </a:prstGeom>
          <a:solidFill>
            <a:srgbClr val="e1e1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2147760" y="1082520"/>
            <a:ext cx="12430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" rIns="39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Presenta la domanda di ammissione e la scheda inform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1"/>
          <p:cNvSpPr/>
          <p:nvPr/>
        </p:nvSpPr>
        <p:spPr>
          <a:xfrm>
            <a:off x="3376440" y="995400"/>
            <a:ext cx="1920960" cy="1571760"/>
          </a:xfrm>
          <a:prstGeom prst="pie">
            <a:avLst/>
          </a:prstGeom>
          <a:solidFill>
            <a:srgbClr val="e1e1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3743280" y="1082520"/>
            <a:ext cx="12430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Ottiene l’ammissione alla negozi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5334120" y="1455840"/>
            <a:ext cx="1531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Effettua il collocamento priv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817720" y="3071880"/>
            <a:ext cx="1501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33200" indent="-131760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Circa 6 settim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3160" y="4375080"/>
            <a:ext cx="78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Requisi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190440" y="4637160"/>
            <a:ext cx="201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201600" y="4737240"/>
            <a:ext cx="197964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4360" indent="-14292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Spa – azioni dematerializ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Bilancio* certific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Relazione semestr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Requisiti onorabilit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Mandato Spo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Mandato Spe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092400" y="5038560"/>
            <a:ext cx="1749600" cy="914400"/>
          </a:xfrm>
          <a:prstGeom prst="rect">
            <a:avLst/>
          </a:prstGeom>
          <a:solidFill>
            <a:srgbClr val="e1e1e1"/>
          </a:solidFill>
          <a:ln w="9360">
            <a:solidFill>
              <a:srgbClr val="e1e1e1"/>
            </a:solidFill>
            <a:miter/>
          </a:ln>
          <a:effectLst>
            <a:outerShdw dist="17819" dir="2700000" blurRad="0" rotWithShape="0">
              <a:srgbClr val="a5392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Dopo aver ottenuto l’ammissione alla negozi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5726160" y="4786200"/>
            <a:ext cx="18590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4360" indent="-14292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Bilancio* certific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Relazione semestrale non certific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Informativa periodica assembl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buClr>
                <a:srgbClr val="a5392b"/>
              </a:buClr>
              <a:buFont typeface="Trebuchet M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Informativa eventi specifi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1"/>
          <p:cNvSpPr/>
          <p:nvPr/>
        </p:nvSpPr>
        <p:spPr>
          <a:xfrm rot="5400000">
            <a:off x="5195880" y="5413320"/>
            <a:ext cx="296640" cy="255600"/>
          </a:xfrm>
          <a:prstGeom prst="upArrow">
            <a:avLst>
              <a:gd name="adj1" fmla="val 48861"/>
              <a:gd name="adj2" fmla="val 48074"/>
            </a:avLst>
          </a:prstGeom>
          <a:solidFill>
            <a:srgbClr val="606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egnaposto numero diapositiva 3"/>
          <p:cNvSpPr/>
          <p:nvPr/>
        </p:nvSpPr>
        <p:spPr>
          <a:xfrm>
            <a:off x="6870600" y="6416640"/>
            <a:ext cx="186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D606-330A-4A62-A3D1-5E300C7768CF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logo"/>
          <p:cNvPicPr/>
          <p:nvPr/>
        </p:nvPicPr>
        <p:blipFill>
          <a:blip r:embed="rId1"/>
          <a:stretch/>
        </p:blipFill>
        <p:spPr>
          <a:xfrm>
            <a:off x="1996920" y="1552680"/>
            <a:ext cx="3978360" cy="25257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2463840" y="2982960"/>
            <a:ext cx="58928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sellaDiTesto 6"/>
          <p:cNvSpPr/>
          <p:nvPr/>
        </p:nvSpPr>
        <p:spPr>
          <a:xfrm>
            <a:off x="3438000" y="3370320"/>
            <a:ext cx="23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5392b"/>
                </a:solidFill>
                <a:latin typeface="Trebuchet MS"/>
              </a:rPr>
              <a:t>Statisti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1"/>
          <p:cNvSpPr/>
          <p:nvPr/>
        </p:nvSpPr>
        <p:spPr>
          <a:xfrm>
            <a:off x="6870600" y="6416640"/>
            <a:ext cx="186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A87C-2A18-4A63-998B-DD1ED087C82F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egnaposto numero diapositiva 3"/>
          <p:cNvSpPr/>
          <p:nvPr/>
        </p:nvSpPr>
        <p:spPr>
          <a:xfrm>
            <a:off x="6870600" y="6416640"/>
            <a:ext cx="186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8F094852-FE96-4561-B86A-0C3CB1D362D2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e1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309600" y="-679320"/>
          <a:ext cx="8550360" cy="855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-679320"/>
                    <a:ext cx="8550360" cy="85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7000" y="139680"/>
            <a:ext cx="7653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2100" spc="-1" strike="noStrike">
                <a:solidFill>
                  <a:srgbClr val="a5392b"/>
                </a:solidFill>
                <a:latin typeface="Trebuchet MS"/>
              </a:rPr>
              <a:t>MAC vs. Mercati Azionari di Borsa Italiana </a:t>
            </a:r>
            <a:br>
              <a:rPr sz="2100"/>
            </a:br>
            <a:r>
              <a:rPr b="1" lang="it-IT" sz="2100" spc="-1" strike="noStrike">
                <a:solidFill>
                  <a:srgbClr val="a5392b"/>
                </a:solidFill>
                <a:latin typeface="Trebuchet MS"/>
              </a:rPr>
              <a:t>(17/09/07-17/09/08)</a:t>
            </a:r>
            <a:endParaRPr b="1" lang="en-US" sz="2100" spc="-1" strike="noStrike">
              <a:solidFill>
                <a:srgbClr val="a5392b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63600" y="6238800"/>
            <a:ext cx="529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rebuchet MS"/>
              </a:rPr>
              <a:t>Fonte: Borsa Italiana, M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3:12:52Z</dcterms:created>
  <dc:creator>Corporate</dc:creator>
  <dc:description>Version 1.1</dc:description>
  <cp:keywords>Message Universal Template A4</cp:keywords>
  <dc:language>en-US</dc:language>
  <cp:lastModifiedBy>Cristiano Talpo</cp:lastModifiedBy>
  <cp:lastPrinted>2007-03-27T15:30:13Z</cp:lastPrinted>
  <dcterms:modified xsi:type="dcterms:W3CDTF">2008-10-10T08:02:23Z</dcterms:modified>
  <cp:revision>366</cp:revision>
  <dc:subject/>
  <dc:title>Titol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DocID">
    <vt:lpwstr/>
  </property>
  <property fmtid="{D5CDD505-2E9C-101B-9397-08002B2CF9AE}" pid="4" name="DocIDPosition">
    <vt:r8>0</vt:r8>
  </property>
  <property fmtid="{D5CDD505-2E9C-101B-9397-08002B2CF9AE}" pid="5" name="DocIDinSlide">
    <vt:bool>1</vt:bool>
  </property>
  <property fmtid="{D5CDD505-2E9C-101B-9397-08002B2CF9AE}" pid="6" name="DocIDinTitle">
    <vt:bool>1</vt:bool>
  </property>
  <property fmtid="{D5CDD505-2E9C-101B-9397-08002B2CF9AE}" pid="7" name="Event">
    <vt:lpwstr/>
  </property>
  <property fmtid="{D5CDD505-2E9C-101B-9397-08002B2CF9AE}" pid="8" name="Final">
    <vt:bool>1</vt:bool>
  </property>
  <property fmtid="{D5CDD505-2E9C-101B-9397-08002B2CF9AE}" pid="9" name="McKPaperSize">
    <vt:lpwstr>A4</vt:lpwstr>
  </property>
  <property fmtid="{D5CDD505-2E9C-101B-9397-08002B2CF9AE}" pid="10" name="NotesPageLayout">
    <vt:lpwstr>Message</vt:lpwstr>
  </property>
  <property fmtid="{D5CDD505-2E9C-101B-9397-08002B2CF9AE}" pid="11" name="Title">
    <vt:lpwstr>Titolo</vt:lpwstr>
  </property>
  <property fmtid="{D5CDD505-2E9C-101B-9397-08002B2CF9AE}" pid="12" name="Universal Objects">
    <vt:bool>1</vt:bool>
  </property>
</Properties>
</file>