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723-EC30-46E5-A1D8-80E6D6CD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1F0-87B3-409F-A6B1-33C158D3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2AA-37C7-4CA7-9ED1-F5FBD564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9B5-0E4B-4090-BC9B-41B2C862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D59-57F6-4C86-863D-94C106B4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10C-2AE5-43E5-AF88-7FED7AF8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4D1-4279-4725-B539-04B1D2EA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5A4-C659-4D14-A91A-76FBAC95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ED3-D41B-4182-842A-93654BEC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B4D-00BA-4A65-8802-35F5AAAE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8F7-D792-4C40-BB88-32BBDF9B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E18-15CE-4CBE-AFE3-FA0CBFA1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563F-CF9A-4053-9F45-9C3658B9721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bruzzo nel confronto n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principali criticità e opportun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380880" y="3505320"/>
            <a:ext cx="822960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534520" cy="6477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533520" y="1981080"/>
            <a:ext cx="8381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umero occupati:</a:t>
            </a:r>
            <a:br>
              <a:rPr sz="4000"/>
            </a:b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un confronto con il livello pre-cr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534520" cy="488484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7067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i in miglia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cri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et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cri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u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 (2,6%)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 mi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Aqui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c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e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8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76 (0,4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53"/>
          <p:cNvSpPr/>
          <p:nvPr/>
        </p:nvSpPr>
        <p:spPr>
          <a:xfrm>
            <a:off x="534960" y="649116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asso di crescita 2010/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Occupati per genere:</a:t>
            </a:r>
            <a:br>
              <a:rPr sz="4000"/>
            </a:b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un confronto con il livello pre-cr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4878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i in miglia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cri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 (-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m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(-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livello rispetto alla situazione pre-crisi (fatto 100 il valore del 200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u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m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ITA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AutoShape 40"/>
          <p:cNvSpPr/>
          <p:nvPr/>
        </p:nvSpPr>
        <p:spPr>
          <a:xfrm>
            <a:off x="6248520" y="5334120"/>
            <a:ext cx="838080" cy="304560"/>
          </a:xfrm>
          <a:prstGeom prst="leftArrow">
            <a:avLst>
              <a:gd name="adj1" fmla="val 50000"/>
              <a:gd name="adj2" fmla="val 687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asso di occupazione:</a:t>
            </a:r>
            <a:br>
              <a:rPr sz="4000"/>
            </a:b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un confronto con il livello pre-cr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229600" cy="4667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cri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u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zogio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asso di disoccupazione:</a:t>
            </a:r>
            <a:br>
              <a:rPr sz="4000"/>
            </a:b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un confronto con il livello pre-cr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667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cri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u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zogio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534520" cy="64771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380880" y="2666880"/>
            <a:ext cx="85345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943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533520" y="2666880"/>
            <a:ext cx="81532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76520" y="228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Tenuta occupazione: nonostante il calo degli invest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380880" y="2133720"/>
            <a:ext cx="838224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76520" y="228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Tenuta occupazione: nonostante il calo del fattu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ostante l’inasprimento dei t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610840" cy="5791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28600" y="3809880"/>
            <a:ext cx="8458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erché l’Italia non cr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5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CIT /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SCITA 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protez. occup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 / 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943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533520" y="2286000"/>
            <a:ext cx="8381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68080" y="30492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ostante la ristrutturazione azien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esportazioni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confronto con i livelli pre-cr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i in miglia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pre-cri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o è stato recuper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40.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67.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1.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&amp;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3.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6.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. Chim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.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.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maceu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.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gomma/p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4.5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li di 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.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ttro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.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.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. elettr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.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chin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9.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1.4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zi traspor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5.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6.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o e al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.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truttura esportativa diventa ancora più concentrata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zione % sul to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zi traspor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ch. app. me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gomma/p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&amp;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a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li 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ttro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AutoShape 44"/>
          <p:cNvSpPr/>
          <p:nvPr/>
        </p:nvSpPr>
        <p:spPr>
          <a:xfrm>
            <a:off x="8153280" y="41911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5"/>
          <p:cNvSpPr/>
          <p:nvPr/>
        </p:nvSpPr>
        <p:spPr>
          <a:xfrm>
            <a:off x="8153280" y="5715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6"/>
          <p:cNvSpPr/>
          <p:nvPr/>
        </p:nvSpPr>
        <p:spPr>
          <a:xfrm>
            <a:off x="8153280" y="2666880"/>
            <a:ext cx="3812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7"/>
          <p:cNvSpPr/>
          <p:nvPr/>
        </p:nvSpPr>
        <p:spPr>
          <a:xfrm>
            <a:off x="8153280" y="4724280"/>
            <a:ext cx="3812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 volte ritornano……</a:t>
            </a:r>
            <a:br>
              <a:rPr sz="40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composizione % T&amp;A Abruzz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304920" y="1371600"/>
          <a:ext cx="84582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4"/>
          <p:cNvSpPr/>
          <p:nvPr/>
        </p:nvSpPr>
        <p:spPr>
          <a:xfrm flipV="1">
            <a:off x="6629400" y="159984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ercorsi di cresc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Fondo stabilità – riforma del welfare – project b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ITAL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sostegno domanda interna – liberalizzazione – semplificaz. – riforme mercato del lavoro – rimborsi 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ABRUZZ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 fattori di competitivit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Rigenerare i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fattori di competitività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, attraverso un percorso che prevede strategie per l</a:t>
            </a: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o territo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nque strateg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ttrattività del territorio e quindi competitiv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) Doing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gitalizzazione dell’econo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4) internazional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odello manifatturiero-terz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Posizionamento Abruzzo nei principali indicatori </a:t>
            </a:r>
            <a:r>
              <a:rPr b="0" lang="it-IT" sz="2400" spc="-1" strike="noStrike">
                <a:solidFill>
                  <a:srgbClr val="1f497d"/>
                </a:solidFill>
                <a:latin typeface="Arial"/>
              </a:rPr>
              <a:t>(20 regio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. COMPETITIVITA’ (ruolo delle P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bruzzo soffre di un evidente ritardo di produttiv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tuazione particolarmente difficile per i servizi e per il comparto delle piccole 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936800"/>
          <a:ext cx="8291520" cy="1463760"/>
        </p:xfrm>
        <a:graphic>
          <a:graphicData uri="http://schemas.openxmlformats.org/drawingml/2006/table">
            <a:tbl>
              <a:tblPr/>
              <a:tblGrid>
                <a:gridCol w="1658880"/>
                <a:gridCol w="1656000"/>
                <a:gridCol w="1658880"/>
                <a:gridCol w="1658880"/>
                <a:gridCol w="165888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ttività (PU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 servi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 serv impr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 man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 piccole impr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123" name="AutoShape 24"/>
          <p:cNvSpPr/>
          <p:nvPr/>
        </p:nvSpPr>
        <p:spPr>
          <a:xfrm>
            <a:off x="1042920" y="3429000"/>
            <a:ext cx="504720" cy="1008000"/>
          </a:xfrm>
          <a:prstGeom prst="up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5"/>
          <p:cNvSpPr/>
          <p:nvPr/>
        </p:nvSpPr>
        <p:spPr>
          <a:xfrm>
            <a:off x="2700360" y="3429000"/>
            <a:ext cx="504720" cy="1008000"/>
          </a:xfrm>
          <a:prstGeom prst="up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6"/>
          <p:cNvSpPr/>
          <p:nvPr/>
        </p:nvSpPr>
        <p:spPr>
          <a:xfrm>
            <a:off x="7740720" y="3500280"/>
            <a:ext cx="504720" cy="100836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egnaposto contenuto 5" descr=""/>
          <p:cNvPicPr/>
          <p:nvPr/>
        </p:nvPicPr>
        <p:blipFill>
          <a:blip r:embed="rId1"/>
          <a:srcRect l="-16113" t="0" r="-16113" b="0"/>
          <a:stretch/>
        </p:blipFill>
        <p:spPr>
          <a:xfrm>
            <a:off x="-1219320" y="139680"/>
            <a:ext cx="11226960" cy="6718320"/>
          </a:xfrm>
          <a:prstGeom prst="rect">
            <a:avLst/>
          </a:prstGeom>
          <a:ln w="0">
            <a:noFill/>
          </a:ln>
        </p:spPr>
      </p:pic>
      <p:sp>
        <p:nvSpPr>
          <p:cNvPr id="127" name="Rettangolo 6"/>
          <p:cNvSpPr/>
          <p:nvPr/>
        </p:nvSpPr>
        <p:spPr>
          <a:xfrm>
            <a:off x="5888160" y="577800"/>
            <a:ext cx="3016080" cy="27986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Connettore 2 9"/>
          <p:cNvCxnSpPr/>
          <p:nvPr/>
        </p:nvCxnSpPr>
        <p:spPr>
          <a:xfrm>
            <a:off x="6190920" y="1197000"/>
            <a:ext cx="1183320" cy="18770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129" name="CasellaDiTesto 10"/>
          <p:cNvSpPr/>
          <p:nvPr/>
        </p:nvSpPr>
        <p:spPr>
          <a:xfrm>
            <a:off x="1902240" y="129528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apitale umano non valorizza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7740720" y="314172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1042920" y="306864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78000" y="1890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. COMPETITIVITA’ (ruolo capitale uma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Arial"/>
              </a:rPr>
              <a:t>Posizionamento Abruzzo nei principali indicatori (20 regio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2997360"/>
          <a:ext cx="8064360" cy="2692080"/>
        </p:xfrm>
        <a:graphic>
          <a:graphicData uri="http://schemas.openxmlformats.org/drawingml/2006/table">
            <a:tbl>
              <a:tblPr/>
              <a:tblGrid>
                <a:gridCol w="2016000"/>
                <a:gridCol w="2017800"/>
                <a:gridCol w="2014560"/>
                <a:gridCol w="2016000"/>
              </a:tblGrid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ttività universi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cipazione scuole su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so scolarizz popol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vimez) 26.6% emigrazione laure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° regione del mez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21"/>
          <p:cNvSpPr/>
          <p:nvPr/>
        </p:nvSpPr>
        <p:spPr>
          <a:xfrm>
            <a:off x="7596360" y="5013360"/>
            <a:ext cx="1008000" cy="1440000"/>
          </a:xfrm>
          <a:prstGeom prst="upArrow">
            <a:avLst>
              <a:gd name="adj1" fmla="val 50000"/>
              <a:gd name="adj2" fmla="val 357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1116000" y="5157720"/>
            <a:ext cx="792000" cy="1295640"/>
          </a:xfrm>
          <a:prstGeom prst="upArrow">
            <a:avLst>
              <a:gd name="adj1" fmla="val 50000"/>
              <a:gd name="adj2" fmla="val 4089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1978200" y="127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. COMPETITIVITA’ (ruolo capitale u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fattori più rilevanti per l’attrattività di un pa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crescita del P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Prelievo fi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Ease of doing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) spesa in R&amp;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) durata dei proc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6) export dei servi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7) studenti nel terz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76720" y="2286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. Doing bus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dici di correlazione (UE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133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ncio/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scita 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protezione mercato lav. 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/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ncio/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scita 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z merc. lav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 / 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ttangolo 4"/>
          <p:cNvSpPr/>
          <p:nvPr/>
        </p:nvSpPr>
        <p:spPr>
          <a:xfrm>
            <a:off x="2209680" y="4343400"/>
            <a:ext cx="1468440" cy="676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tangolo 5"/>
          <p:cNvSpPr/>
          <p:nvPr/>
        </p:nvSpPr>
        <p:spPr>
          <a:xfrm>
            <a:off x="5529240" y="4950000"/>
            <a:ext cx="1467000" cy="677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5"/>
          <p:cNvSpPr/>
          <p:nvPr/>
        </p:nvSpPr>
        <p:spPr>
          <a:xfrm>
            <a:off x="446400" y="5751360"/>
            <a:ext cx="44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no protezione riduce il deficit sta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no protezione più capitali es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nti di inefficienza del Doing Business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talia è al 87° posto della classifica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levata imposizione fi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efficienza del sistema giusti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gidità del mercato del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Burocrazia trasversale a elevata inci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litiche di star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3. Digitalizzazione dell’ec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te contributo sulla crescita della produttiv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dello di interdipendenza manifatturiero-terzi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Posizionamento Abruzzo nei principali indic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FRASTRUTTURE IMMAT. DI COMUN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FRASTRUTTURE MATE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00280"/>
          <a:ext cx="8107200" cy="1347840"/>
        </p:xfrm>
        <a:graphic>
          <a:graphicData uri="http://schemas.openxmlformats.org/drawingml/2006/table">
            <a:tbl>
              <a:tblPr/>
              <a:tblGrid>
                <a:gridCol w="2027160"/>
                <a:gridCol w="2027160"/>
                <a:gridCol w="2027520"/>
                <a:gridCol w="20253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 nelle piccole impr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usione web impr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usione banda lar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zo internet impr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68360" y="4797360"/>
          <a:ext cx="8107200" cy="1462320"/>
        </p:xfrm>
        <a:graphic>
          <a:graphicData uri="http://schemas.openxmlformats.org/drawingml/2006/table">
            <a:tbl>
              <a:tblPr/>
              <a:tblGrid>
                <a:gridCol w="2701800"/>
                <a:gridCol w="2703600"/>
                <a:gridCol w="27018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orti ferro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orti aer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orti su s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AutoShape 35"/>
          <p:cNvSpPr/>
          <p:nvPr/>
        </p:nvSpPr>
        <p:spPr>
          <a:xfrm>
            <a:off x="971640" y="2781360"/>
            <a:ext cx="504720" cy="1008000"/>
          </a:xfrm>
          <a:prstGeom prst="up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6"/>
          <p:cNvSpPr/>
          <p:nvPr/>
        </p:nvSpPr>
        <p:spPr>
          <a:xfrm>
            <a:off x="7524720" y="2852640"/>
            <a:ext cx="504720" cy="1008000"/>
          </a:xfrm>
          <a:prstGeom prst="up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7"/>
          <p:cNvSpPr/>
          <p:nvPr/>
        </p:nvSpPr>
        <p:spPr>
          <a:xfrm>
            <a:off x="2739600" y="127080"/>
            <a:ext cx="41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. Digitalizzazione dell’ec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Posizionamento Abruzzo nei principali indic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4. INTERNAZION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8360" y="1700280"/>
          <a:ext cx="8107200" cy="1347840"/>
        </p:xfrm>
        <a:graphic>
          <a:graphicData uri="http://schemas.openxmlformats.org/drawingml/2006/table">
            <a:tbl>
              <a:tblPr/>
              <a:tblGrid>
                <a:gridCol w="1351080"/>
                <a:gridCol w="1350720"/>
                <a:gridCol w="1352520"/>
                <a:gridCol w="1351080"/>
                <a:gridCol w="1351080"/>
                <a:gridCol w="1350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/p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/p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p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 beni 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 v/est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 v/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AutoShape 27"/>
          <p:cNvSpPr/>
          <p:nvPr/>
        </p:nvSpPr>
        <p:spPr>
          <a:xfrm>
            <a:off x="6588000" y="2565360"/>
            <a:ext cx="863640" cy="792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8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8686800" cy="3195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9"/>
          <p:cNvSpPr/>
          <p:nvPr/>
        </p:nvSpPr>
        <p:spPr>
          <a:xfrm>
            <a:off x="1169640" y="352116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idenza export / P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/>
          <p:cNvSpPr/>
          <p:nvPr/>
        </p:nvSpPr>
        <p:spPr>
          <a:xfrm>
            <a:off x="5486400" y="5562720"/>
            <a:ext cx="304920" cy="1066680"/>
          </a:xfrm>
          <a:prstGeom prst="upArrow">
            <a:avLst>
              <a:gd name="adj1" fmla="val 50000"/>
              <a:gd name="adj2" fmla="val 874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4. Per favorire INTERNAZIONALIZZAZIONE si pongono due problemi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uolo Inno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mensione azien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nnov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n può basarsi su ipotesi astratte del tipo Silicon Valley, almeno nel breve perio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obiettivi importanti ma che richiedono provvedimenti a vasto raggio com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zione capitale uma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izzazione istruzi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ono obiettivi di lungo peri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5. Sistema manifatturiero-terziario: spinta da integ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Segnaposto contenuto 3" descr=""/>
          <p:cNvPicPr/>
          <p:nvPr/>
        </p:nvPicPr>
        <p:blipFill>
          <a:blip r:embed="rId1"/>
          <a:srcRect l="-16113" t="0" r="-16113" b="0"/>
          <a:stretch/>
        </p:blipFill>
        <p:spPr>
          <a:xfrm>
            <a:off x="-1168560" y="914400"/>
            <a:ext cx="11284200" cy="5943600"/>
          </a:xfrm>
          <a:prstGeom prst="rect">
            <a:avLst/>
          </a:prstGeom>
          <a:ln w="0">
            <a:noFill/>
          </a:ln>
        </p:spPr>
      </p:pic>
      <p:sp>
        <p:nvSpPr>
          <p:cNvPr id="165" name="Rettangolo 6"/>
          <p:cNvSpPr/>
          <p:nvPr/>
        </p:nvSpPr>
        <p:spPr>
          <a:xfrm>
            <a:off x="3564000" y="1154160"/>
            <a:ext cx="4965480" cy="251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Connettore 2 8"/>
          <p:cNvCxnSpPr/>
          <p:nvPr/>
        </p:nvCxnSpPr>
        <p:spPr>
          <a:xfrm flipV="1">
            <a:off x="2208240" y="2193480"/>
            <a:ext cx="2208960" cy="14724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67" name="Connettore 2 10"/>
          <p:cNvCxnSpPr/>
          <p:nvPr/>
        </p:nvCxnSpPr>
        <p:spPr>
          <a:xfrm>
            <a:off x="2338200" y="4039920"/>
            <a:ext cx="3477240" cy="1447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168" name="Line 7"/>
          <p:cNvSpPr/>
          <p:nvPr/>
        </p:nvSpPr>
        <p:spPr>
          <a:xfrm>
            <a:off x="104292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2195640" y="3860640"/>
            <a:ext cx="0" cy="208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451880" y="1066680"/>
            <a:ext cx="34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zione e non sostit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orsa degli indicatori 1998-2010 Tassi di crescita in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066680"/>
          <a:ext cx="8229600" cy="58676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G ind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G servi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uzzo (1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12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12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z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lia 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z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uli V.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uli V.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tino A.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lia 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mo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mb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deg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tino A.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lic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mb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g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lia 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uzzo (10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12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12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mo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mb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uzzo (12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12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127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 d’Ao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mo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zogio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zogio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zogio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110"/>
          <p:cNvSpPr/>
          <p:nvPr/>
        </p:nvSpPr>
        <p:spPr>
          <a:xfrm>
            <a:off x="2444040" y="0"/>
            <a:ext cx="49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dinamiche dello svilu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Posizionamento Abruzzo nei principali indic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5. Serv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REDITO, TURISMO E SERVIZI SOC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2590920"/>
          <a:ext cx="8291520" cy="1349280"/>
        </p:xfrm>
        <a:graphic>
          <a:graphicData uri="http://schemas.openxmlformats.org/drawingml/2006/table">
            <a:tbl>
              <a:tblPr/>
              <a:tblGrid>
                <a:gridCol w="2073240"/>
                <a:gridCol w="2073240"/>
                <a:gridCol w="2071800"/>
                <a:gridCol w="207324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tà crediti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 tu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ismo mesi non esti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o serv soci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8a6"/>
                    </a:solidFill>
                  </a:tcPr>
                </a:tc>
              </a:tr>
            </a:tbl>
          </a:graphicData>
        </a:graphic>
      </p:graphicFrame>
      <p:sp>
        <p:nvSpPr>
          <p:cNvPr id="177" name="AutoShape 42"/>
          <p:cNvSpPr/>
          <p:nvPr/>
        </p:nvSpPr>
        <p:spPr>
          <a:xfrm>
            <a:off x="3200400" y="4114800"/>
            <a:ext cx="647640" cy="720720"/>
          </a:xfrm>
          <a:prstGeom prst="upArrow">
            <a:avLst>
              <a:gd name="adj1" fmla="val 50000"/>
              <a:gd name="adj2" fmla="val 278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3"/>
          <p:cNvSpPr/>
          <p:nvPr/>
        </p:nvSpPr>
        <p:spPr>
          <a:xfrm>
            <a:off x="7467480" y="4038480"/>
            <a:ext cx="648000" cy="720720"/>
          </a:xfrm>
          <a:prstGeom prst="upArrow">
            <a:avLst>
              <a:gd name="adj1" fmla="val 50000"/>
              <a:gd name="adj2" fmla="val 2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elazione deficit e crescita econo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4" descr=""/>
          <p:cNvPicPr/>
          <p:nvPr/>
        </p:nvPicPr>
        <p:blipFill>
          <a:blip r:embed="rId1"/>
          <a:stretch/>
        </p:blipFill>
        <p:spPr>
          <a:xfrm>
            <a:off x="457200" y="973080"/>
            <a:ext cx="8229600" cy="5645160"/>
          </a:xfrm>
          <a:prstGeom prst="rect">
            <a:avLst/>
          </a:prstGeom>
          <a:ln w="0">
            <a:noFill/>
          </a:ln>
        </p:spPr>
      </p:pic>
      <p:sp>
        <p:nvSpPr>
          <p:cNvPr id="52" name="CasellaDiTesto 5"/>
          <p:cNvSpPr/>
          <p:nvPr/>
        </p:nvSpPr>
        <p:spPr>
          <a:xfrm>
            <a:off x="6175800" y="1197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E27 1995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nettore 1 7"/>
          <p:cNvSpPr/>
          <p:nvPr/>
        </p:nvSpPr>
        <p:spPr>
          <a:xfrm>
            <a:off x="4064040" y="3838680"/>
            <a:ext cx="0" cy="1946160"/>
          </a:xfrm>
          <a:prstGeom prst="line">
            <a:avLst/>
          </a:prstGeom>
          <a:ln w="25560">
            <a:solidFill>
              <a:srgbClr val="bbe0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ttore 1 10"/>
          <p:cNvSpPr/>
          <p:nvPr/>
        </p:nvSpPr>
        <p:spPr>
          <a:xfrm flipH="1">
            <a:off x="1255320" y="3838680"/>
            <a:ext cx="2808360" cy="0"/>
          </a:xfrm>
          <a:prstGeom prst="line">
            <a:avLst/>
          </a:prstGeom>
          <a:ln w="25560">
            <a:solidFill>
              <a:srgbClr val="bbe0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ttore 1 13"/>
          <p:cNvSpPr/>
          <p:nvPr/>
        </p:nvSpPr>
        <p:spPr>
          <a:xfrm>
            <a:off x="2198520" y="4273560"/>
            <a:ext cx="0" cy="1511280"/>
          </a:xfrm>
          <a:prstGeom prst="line">
            <a:avLst/>
          </a:prstGeom>
          <a:ln w="25560">
            <a:solidFill>
              <a:srgbClr val="bbe0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ttore 1 15"/>
          <p:cNvSpPr/>
          <p:nvPr/>
        </p:nvSpPr>
        <p:spPr>
          <a:xfrm flipH="1">
            <a:off x="1255320" y="4146480"/>
            <a:ext cx="942840" cy="0"/>
          </a:xfrm>
          <a:prstGeom prst="line">
            <a:avLst/>
          </a:prstGeom>
          <a:ln w="25560">
            <a:solidFill>
              <a:srgbClr val="bbe0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5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sembra esistere una relazione diretta tra protezione del mercato del lavoro e crescita 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"/>
          <p:cNvPicPr/>
          <p:nvPr/>
        </p:nvPicPr>
        <p:blipFill>
          <a:blip r:embed="rId1"/>
          <a:stretch/>
        </p:blipFill>
        <p:spPr>
          <a:xfrm>
            <a:off x="297000" y="1417680"/>
            <a:ext cx="8550000" cy="5214960"/>
          </a:xfrm>
          <a:prstGeom prst="rect">
            <a:avLst/>
          </a:prstGeom>
          <a:ln w="0">
            <a:noFill/>
          </a:ln>
        </p:spPr>
      </p:pic>
      <p:sp>
        <p:nvSpPr>
          <p:cNvPr id="59" name="CasellaDiTesto 4"/>
          <p:cNvSpPr/>
          <p:nvPr/>
        </p:nvSpPr>
        <p:spPr>
          <a:xfrm>
            <a:off x="5604840" y="626580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dice di protezione mercato la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IDE rappresentano il canale preferenziale per sostenere la crescita economica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con spazi del bilancio pubblico ridot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magine 3" descr=""/>
          <p:cNvPicPr/>
          <p:nvPr/>
        </p:nvPicPr>
        <p:blipFill>
          <a:blip r:embed="rId1"/>
          <a:stretch/>
        </p:blipFill>
        <p:spPr>
          <a:xfrm>
            <a:off x="268200" y="1227240"/>
            <a:ext cx="841860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flessibilità del mercato del lavoro costituisce uno dei principali fattori di attrazione degli investimenti diretti esteri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magine 3" descr=""/>
          <p:cNvPicPr/>
          <p:nvPr/>
        </p:nvPicPr>
        <p:blipFill>
          <a:blip r:embed="rId1"/>
          <a:stretch/>
        </p:blipFill>
        <p:spPr>
          <a:xfrm>
            <a:off x="268200" y="1241280"/>
            <a:ext cx="84186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Modelli di sviluppo: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via Ide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via deficit pubb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magine 2" descr=""/>
          <p:cNvPicPr/>
          <p:nvPr/>
        </p:nvPicPr>
        <p:blipFill>
          <a:blip r:embed="rId1"/>
          <a:stretch/>
        </p:blipFill>
        <p:spPr>
          <a:xfrm>
            <a:off x="282600" y="1600200"/>
            <a:ext cx="8404200" cy="4807080"/>
          </a:xfrm>
          <a:prstGeom prst="rect">
            <a:avLst/>
          </a:prstGeom>
          <a:ln w="0">
            <a:noFill/>
          </a:ln>
        </p:spPr>
      </p:pic>
      <p:sp>
        <p:nvSpPr>
          <p:cNvPr id="66" name="Rettangolo 4"/>
          <p:cNvSpPr/>
          <p:nvPr/>
        </p:nvSpPr>
        <p:spPr>
          <a:xfrm>
            <a:off x="3105000" y="1749600"/>
            <a:ext cx="4500720" cy="15951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6116760" y="186228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odell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6"/>
          <p:cNvSpPr/>
          <p:nvPr/>
        </p:nvSpPr>
        <p:spPr>
          <a:xfrm>
            <a:off x="1481040" y="4260960"/>
            <a:ext cx="1947960" cy="1496880"/>
          </a:xfrm>
          <a:prstGeom prst="rect">
            <a:avLst/>
          </a:prstGeom>
          <a:noFill/>
          <a:ln w="3816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7"/>
          <p:cNvSpPr/>
          <p:nvPr/>
        </p:nvSpPr>
        <p:spPr>
          <a:xfrm>
            <a:off x="2951640" y="5148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65240" y="68580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anza attrattività ter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5257800" y="6858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 dati per l’Abruz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si di crescita del Pil (in 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uzz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a5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zogi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nella Tarquinio</dc:creator>
  <dc:description/>
  <dc:language>en-US</dc:language>
  <cp:lastModifiedBy>Antonella Tarquinio</cp:lastModifiedBy>
  <dcterms:modified xsi:type="dcterms:W3CDTF">2012-04-27T09:13:0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