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726-376D-484B-88C9-736A0D67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561-01FE-4191-AA85-B7E95EA7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7F8-23D6-46E0-93A8-B17C5FA6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CD9-5BE9-447B-A927-1B252A4A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6AD-C4FC-4077-AC3F-62585DD4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B0C-4011-479E-9D43-DA8FE17C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30F-CA46-4C38-A744-E1693784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AA4-AF4B-40FB-A383-F0B43959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39E-0457-4E7B-8BB8-7E23142D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6CA-354B-4A97-A8CD-1E83C123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E65-4DE5-42D4-86B8-1DB8DAD4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A771-F142-40C6-8A18-8351A134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B6B0-B293-4146-B06E-C7BD3E611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2997360"/>
            <a:ext cx="8820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Indagine semestrale sull’industria abruzzese 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II semestre 2011</a:t>
            </a:r>
            <a:br>
              <a:rPr sz="3200"/>
            </a:br>
            <a:br>
              <a:rPr sz="3200"/>
            </a:b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a cura di </a:t>
            </a:r>
            <a:br>
              <a:rPr sz="1800"/>
            </a:b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Giuseppe D’Amico (Confindustria Abruzzo)</a:t>
            </a:r>
            <a:br>
              <a:rPr sz="1800"/>
            </a:b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Luciano Fratocchi (Centro Studi Confindustria Abruzzo ed Università di L’Aquila)</a:t>
            </a:r>
            <a:br>
              <a:rPr sz="1800"/>
            </a:b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Massimo Parisse (Università di L’Aquila)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Confindustria Pescara, 27 Aprile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30680" y="-27000"/>
            <a:ext cx="3470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3280" y="158760"/>
            <a:ext cx="702144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ome andrà secondo gli imprenditori? 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e previsioni per il I semestre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4520" y="1614600"/>
            <a:ext cx="8453520" cy="4622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92360" y="2205000"/>
            <a:ext cx="2592360" cy="4437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440" y="1628640"/>
            <a:ext cx="25574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ome andrà secondo gli imprenditori? 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e previsioni per il I semestre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56000" y="98280"/>
            <a:ext cx="6624360" cy="6613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740720" y="549360"/>
            <a:ext cx="1368360" cy="6237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295280" cy="963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9840" y="158400"/>
            <a:ext cx="77058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ome andrà secondo gli imprenditor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87280" y="981000"/>
            <a:ext cx="8567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8840" y="981000"/>
            <a:ext cx="8624880" cy="5788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1223640" cy="911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58400"/>
            <a:ext cx="78487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ome andrà secondo gli imprenditor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4581360"/>
            <a:ext cx="649440" cy="21607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852640"/>
            <a:ext cx="649440" cy="29527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3933720"/>
            <a:ext cx="1584360" cy="2924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439640" cy="1071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158760"/>
            <a:ext cx="756144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ome andrà secondo gli imprenditor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7280" y="1298520"/>
            <a:ext cx="856944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76720" y="-27000"/>
            <a:ext cx="2447640" cy="1820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30400"/>
            <a:ext cx="88567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Gli autori dell’Indagine sono grati all’Ing. Marco Iezzi ed al dott. Andrea Galeota per il supporto fornito nelle fasi di raccolta ed analisi de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7640" y="304560"/>
            <a:ext cx="73090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Avvert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4360" y="1844640"/>
            <a:ext cx="89996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dati alla base dell’Indagine semestrale del Centro Studi di Confindustria Abruzzo sono stati raccolti tra la fine di Gennaio e la fine di Marzo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2920" y="938160"/>
            <a:ext cx="8856720" cy="5803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7640" y="44280"/>
            <a:ext cx="73090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o scenario internazionale di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1152360" cy="857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3015000">
            <a:off x="5914080" y="3886920"/>
            <a:ext cx="718920" cy="1676520"/>
          </a:xfrm>
          <a:prstGeom prst="upArrow">
            <a:avLst>
              <a:gd name="adj1" fmla="val 50000"/>
              <a:gd name="adj2" fmla="val 583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7280" y="1341360"/>
            <a:ext cx="8567640" cy="5472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7640" y="304560"/>
            <a:ext cx="73090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o scenario internazionale di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956720" y="3500280"/>
            <a:ext cx="358560" cy="720720"/>
          </a:xfrm>
          <a:prstGeom prst="upArrow">
            <a:avLst>
              <a:gd name="adj1" fmla="val 50000"/>
              <a:gd name="adj2" fmla="val 5025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7640" y="304560"/>
            <a:ext cx="73090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o scenario internazionale di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295280" cy="963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1600" y="1082520"/>
            <a:ext cx="8740800" cy="57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7640" y="304560"/>
            <a:ext cx="73090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o scenario di riferimento: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ndicatori di sintesi a livello reg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44520" y="1803240"/>
            <a:ext cx="845352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6080" y="1600200"/>
            <a:ext cx="8510400" cy="4781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280" y="158760"/>
            <a:ext cx="720108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ome è andata secondo gli imprenditori?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I semestre 2011 vs I semestre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5373720"/>
            <a:ext cx="8820000" cy="8636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20000" y="1989000"/>
            <a:ext cx="1584360" cy="45817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6804000" cy="6804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2340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ome è andata secondo gli imprenditori? 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II semestre 2011 vs I semest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24720" y="836640"/>
            <a:ext cx="1584360" cy="57340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4520" y="1052640"/>
            <a:ext cx="8453520" cy="5703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3280" y="115920"/>
            <a:ext cx="7021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e aspettative sono state confermate?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Previsioni vs Consuntivo II sem.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1223640" cy="911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7640" y="1628640"/>
            <a:ext cx="1008360" cy="5229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1557360"/>
            <a:ext cx="1008000" cy="5229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1557360"/>
            <a:ext cx="1224000" cy="5229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20:33:01Z</dcterms:created>
  <dc:creator>Luciano Fratocchi</dc:creator>
  <dc:description/>
  <dc:language>en-US</dc:language>
  <cp:lastModifiedBy>Andrea Galeota</cp:lastModifiedBy>
  <dcterms:modified xsi:type="dcterms:W3CDTF">2012-04-26T06:54:27Z</dcterms:modified>
  <cp:revision>51</cp:revision>
  <dc:subject/>
  <dc:title>Indagine semestrale sull’industria abruzzese  I semestre 2010 a cura di Giuseppe D’Amico – Luciano Fratocchi – Massimo Parisse   Confindustria Chieti, 8 Novembre 2010</dc:title>
</cp:coreProperties>
</file>