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C3E-46FB-416A-8084-7285CAE1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0E2-CCAA-46D1-8141-1600D8FF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E3B-5611-4CA7-A5E1-148A94D8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02B-8688-481B-B49C-FE2397E9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F2B-E621-4356-8D88-68A2B18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642-F8EC-47E9-B476-399BA943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5B6-20B6-4068-A3C3-68A44364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410-DFF3-4ED0-818B-978385F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4D6-2FB9-4996-BCD7-CDF431A6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AB62-3347-4587-B47E-06091CD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DD5-4C73-46B6-85EF-32573E9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3C2-C217-41E5-8187-9F87986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15F5-49F6-447B-AA83-4617B20F2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MPLIFICAZIONE AMMINIST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INIZIATIVE DEL GOVERNO PR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Maria Giulia Cosen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agistrato esperto presso l’Ufficio Semplificazione (UANAS) del Dipartimento della Funzione Pub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ee d’azion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a semplificazione amministra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duzione degli oneri amministrativi (condivisione dell’obiettivo del 25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duzione e certezza dei temp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ingegnerizzazione dei process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plificazione dell’attività delle regioni e degli enti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iniziative del DFP – UANAS incluse nel piano d’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09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urazione e riduzione degli on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 ambi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semplificazione degli anni ‘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egific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iber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plificazione procedimentale: LEGGE n. 241/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eggi annuali di semplificazione: LEGGE n. 59/97 e succ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riforme del 2005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leggi nn. 15, 80, 82 e 246/200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incipi dell’ordinamento comuni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valenza dell’applicazione del diritto pri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cordi sostitutivi di provvedi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.I.A. e silenzio-asse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dice dell’amministrazione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mplificazione degli adempimenti amministrativi delle imprese (art. 5 l.n. 24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rotocollo d’intesa Piccola Industri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FP (24 marzo 2007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53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razione degli oneri informativi delle impr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damento dei controlli ambientali sulle imprese certificate agli enti di certificazione della qualità ambi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d.d.l. “Nicolais” (AC 216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zione dei tempi per decid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abilizzazione dei dipen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nsione di garanzie per gli utenti ai gestori di servizi pubbl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rganizzazione dei processi in deroga alla n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ionalizzazione dei controlli ambientali per le imprese certif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zione della Commissione UE del 24 genna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RAMMA D’AZIONE PER LA RIDUZIONE DEGLI ONERI AMMINISTRATIVI NELL’U.E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biettivo: ridurre gli oneri amministrativi del 25% entro il 2012 (Consiglio di primavera, 8-9 marzo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Beneficio atteso: aumento del 1,4% del 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todologia: EU S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RAMMA D’AZIONE PER LA RIDUZIONE DEGLI ONERI AMMINISTRATIVI NELL’U.E.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MPO DI APPLIC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egolamenti e direttive 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sure nazionali di recepimento e attu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3 SETTORI PRIORI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+ alcune “fast track ac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GOVERNO PRO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ituzione del Comitato Interministe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ituzione del Tavolo per le semplific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azione del piano di azione per la semplificazione e la qualità della regolazione (bozza al parere del Consiglio di Stato, approvazione attesa per maggio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piano d’azi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et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gge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misurab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2694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isce un quadro unitario delle iniziative del Governo in tema di semplif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8:17:27Z</dcterms:created>
  <dc:creator> Maria Giulia Cosentino</dc:creator>
  <dc:description/>
  <dc:language>en-US</dc:language>
  <cp:lastModifiedBy> Maria Giulia Cosentino</cp:lastModifiedBy>
  <dcterms:modified xsi:type="dcterms:W3CDTF">2007-04-20T09:41:47Z</dcterms:modified>
  <cp:revision>10</cp:revision>
  <dc:subject/>
  <dc:title>SEMPLIFICAZIONE AMMINISTRATIVA</dc:title>
</cp:coreProperties>
</file>