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71175" cy="7470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828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82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58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82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558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FC3F-80F3-4AB0-AEEC-3C5637BEFE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002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DA5D-6C55-48A9-B675-AD8AD0A7A3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045B-68F8-4D90-9098-32237DABA1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48F2-C6F8-40F6-9EEA-EE6E59FA22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8087-B126-40DA-8D5E-F2E2FC6B1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99920" y="-360"/>
            <a:ext cx="9070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2880-D9DA-46B6-A466-01544AB1DC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002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8EFF-B1FA-4423-B30C-834062923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828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3CF6-61C3-4123-A511-6406D96D82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6002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E571-799B-4F82-A77E-F170BB942A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002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E0EC-51D1-48E0-8006-B511B3963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02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828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92D1-F78B-41A8-9123-57CD337196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2820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5840" y="15998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002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2820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855840" y="40676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FF4D-D1DB-48C5-BD34-B4EB0D603F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9920" y="-360"/>
            <a:ext cx="9070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82880" y="40676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82880" y="15998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676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7840" y="1909800"/>
            <a:ext cx="2846520" cy="265572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2577960" y="581040"/>
            <a:ext cx="1868760" cy="1743120"/>
          </a:xfrm>
          <a:prstGeom prst="rect">
            <a:avLst/>
          </a:prstGeom>
          <a:solidFill>
            <a:srgbClr val="759ee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99920" y="2323800"/>
            <a:ext cx="9070920" cy="2074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400" spc="-1" strike="noStrike">
                <a:solidFill>
                  <a:srgbClr val="133b9c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9920" y="4814640"/>
            <a:ext cx="9070920" cy="265572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44280" indent="0">
              <a:spcBef>
                <a:spcPts val="451"/>
              </a:spcBef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2000" spc="-1" strike="noStrike">
                <a:solidFill>
                  <a:srgbClr val="133b9c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lvl="1" marL="44280">
              <a:spcBef>
                <a:spcPts val="451"/>
              </a:spcBef>
              <a:buClr>
                <a:srgbClr val="133b9c"/>
              </a:buClr>
              <a:buFont typeface="Verdana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2000" spc="-1" strike="noStrike">
                <a:solidFill>
                  <a:srgbClr val="133b9c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lvl="2" marL="44280">
              <a:spcBef>
                <a:spcPts val="451"/>
              </a:spcBef>
              <a:buClr>
                <a:srgbClr val="133b9c"/>
              </a:buClr>
              <a:buFont typeface="Verdana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2000" spc="-1" strike="noStrike">
                <a:solidFill>
                  <a:srgbClr val="133b9c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lvl="3" marL="44280">
              <a:spcBef>
                <a:spcPts val="451"/>
              </a:spcBef>
              <a:buClr>
                <a:srgbClr val="133b9c"/>
              </a:buClr>
              <a:buFont typeface="Verdana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2000" spc="-1" strike="noStrike">
                <a:solidFill>
                  <a:srgbClr val="133b9c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lvl="4" marL="44280">
              <a:spcBef>
                <a:spcPts val="451"/>
              </a:spcBef>
              <a:buClr>
                <a:srgbClr val="133b9c"/>
              </a:buClr>
              <a:buFont typeface="Verdana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2000" spc="-1" strike="noStrike">
                <a:solidFill>
                  <a:srgbClr val="133b9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lvl="5" marL="44280">
              <a:spcBef>
                <a:spcPts val="451"/>
              </a:spcBef>
              <a:buClr>
                <a:srgbClr val="133b9c"/>
              </a:buClr>
              <a:buFont typeface="Verdana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2000" spc="-1" strike="noStrike">
                <a:solidFill>
                  <a:srgbClr val="133b9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 lvl="6" marL="44280">
              <a:spcBef>
                <a:spcPts val="451"/>
              </a:spcBef>
              <a:buClr>
                <a:srgbClr val="133b9c"/>
              </a:buClr>
              <a:buFont typeface="Verdana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2000" spc="-1" strike="noStrike">
                <a:solidFill>
                  <a:srgbClr val="133b9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22023" r="0" b="20830"/>
          <a:stretch/>
        </p:blipFill>
        <p:spPr>
          <a:xfrm>
            <a:off x="2611440" y="912960"/>
            <a:ext cx="1868400" cy="99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6002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84040" indent="0">
              <a:spcBef>
                <a:spcPts val="451"/>
              </a:spcBef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284040" indent="-284040">
              <a:spcBef>
                <a:spcPts val="451"/>
              </a:spcBef>
              <a:buClr>
                <a:srgbClr val="133b9c"/>
              </a:buClr>
              <a:buFont typeface="Lucida Grande"/>
              <a:buChar char="–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2" marL="284040" indent="-284040">
              <a:spcBef>
                <a:spcPts val="451"/>
              </a:spcBef>
              <a:buClr>
                <a:srgbClr val="133b9c"/>
              </a:buClr>
              <a:buFont typeface="Lucida Grande"/>
              <a:buChar char="»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3" marL="284040" indent="-284040">
              <a:spcBef>
                <a:spcPts val="451"/>
              </a:spcBef>
              <a:buClr>
                <a:srgbClr val="133b9c"/>
              </a:buClr>
              <a:buFont typeface="Lucida Grande"/>
              <a:buChar char="–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4" marL="284040" indent="-284040">
              <a:spcBef>
                <a:spcPts val="451"/>
              </a:spcBef>
              <a:buClr>
                <a:srgbClr val="133b9c"/>
              </a:buClr>
              <a:buFont typeface="Times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5" marL="284040" indent="-284040">
              <a:spcBef>
                <a:spcPts val="451"/>
              </a:spcBef>
              <a:buClr>
                <a:srgbClr val="133b9c"/>
              </a:buClr>
              <a:buFont typeface="Times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6" marL="284040" indent="-284040">
              <a:spcBef>
                <a:spcPts val="451"/>
              </a:spcBef>
              <a:buClr>
                <a:srgbClr val="133b9c"/>
              </a:buClr>
              <a:buFont typeface="Times"/>
              <a:buChar char="•"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7105680"/>
            <a:ext cx="22240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6080" tIns="0" bIns="0" anchor="b">
            <a:noAutofit/>
          </a:bodyPr>
          <a:p>
            <a:pPr marL="44280"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100" spc="-1" strike="noStrike">
                <a:solidFill>
                  <a:srgbClr val="133b9c"/>
                </a:solidFill>
                <a:latin typeface="Verdana"/>
              </a:rPr>
              <a:t>20 aprile 2007</a:t>
            </a:r>
            <a:endParaRPr b="0" lang="en-US" sz="11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1"/>
          </p:nvPr>
        </p:nvSpPr>
        <p:spPr>
          <a:xfrm>
            <a:off x="7808400" y="7105680"/>
            <a:ext cx="1258920" cy="24912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b">
            <a:noAutofit/>
          </a:bodyPr>
          <a:lstStyle>
            <a:lvl1pPr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  <a:defRPr b="0" lang="en-US" sz="1100" spc="-1" strike="noStrike">
                <a:solidFill>
                  <a:srgbClr val="133b9c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fld id="{8DD089DF-8E91-428A-BD25-E427993BFFD0}" type="slidenum">
              <a:rPr b="0" lang="en-US" sz="1100" spc="-1" strike="noStrike">
                <a:solidFill>
                  <a:srgbClr val="133b9c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77840" y="166680"/>
            <a:ext cx="1422360" cy="1327320"/>
          </a:xfrm>
          <a:prstGeom prst="rect">
            <a:avLst/>
          </a:prstGeom>
          <a:solidFill>
            <a:srgbClr val="ff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marL="44280" indent="0"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1" lang="en-US" sz="2700" spc="-1" strike="noStrike">
                <a:solidFill>
                  <a:srgbClr val="133b9c"/>
                </a:solidFill>
                <a:latin typeface="Frutiger 45 Light"/>
              </a:rPr>
              <a:t>Click to edit the title text format</a:t>
            </a:r>
            <a:endParaRPr b="1" lang="en-US" sz="27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46" name=""/>
          <p:cNvSpPr/>
          <p:nvPr/>
        </p:nvSpPr>
        <p:spPr>
          <a:xfrm>
            <a:off x="3112920" y="7105680"/>
            <a:ext cx="34671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6080" tIns="0" bIns="0" anchor="b">
            <a:noAutofit/>
          </a:bodyPr>
          <a:p>
            <a:pPr marL="44280"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100" spc="-1" strike="noStrike">
                <a:solidFill>
                  <a:srgbClr val="133b9c"/>
                </a:solidFill>
                <a:latin typeface="Verdana"/>
              </a:rPr>
              <a:t>La semplificazione amministrativa</a:t>
            </a:r>
            <a:endParaRPr b="0" lang="en-US" sz="1100" spc="-1" strike="noStrike">
              <a:solidFill>
                <a:srgbClr val="133b9c"/>
              </a:solidFill>
              <a:latin typeface="Verdana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426600" y="6308640"/>
            <a:ext cx="1099800" cy="1009800"/>
            <a:chOff x="9426600" y="6308640"/>
            <a:chExt cx="1099800" cy="1009800"/>
          </a:xfrm>
        </p:grpSpPr>
        <p:sp>
          <p:nvSpPr>
            <p:cNvPr id="48" name=""/>
            <p:cNvSpPr/>
            <p:nvPr/>
          </p:nvSpPr>
          <p:spPr>
            <a:xfrm>
              <a:off x="9426600" y="6308640"/>
              <a:ext cx="1080720" cy="1009800"/>
            </a:xfrm>
            <a:prstGeom prst="rect">
              <a:avLst/>
            </a:prstGeom>
            <a:solidFill>
              <a:srgbClr val="759ee3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133b9c"/>
                </a:solidFill>
                <a:latin typeface="Verdana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rcRect l="0" t="22023" r="0" b="20830"/>
            <a:stretch/>
          </p:blipFill>
          <p:spPr>
            <a:xfrm>
              <a:off x="9445680" y="6500880"/>
              <a:ext cx="1080720" cy="577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99920" y="4814640"/>
            <a:ext cx="9070920" cy="649080"/>
          </a:xfrm>
          <a:prstGeom prst="rect">
            <a:avLst/>
          </a:prstGeom>
          <a:noFill/>
          <a:ln w="0">
            <a:noFill/>
          </a:ln>
        </p:spPr>
        <p:txBody>
          <a:bodyPr lIns="57600" rIns="149760" tIns="57600" bIns="57600" anchor="t">
            <a:normAutofit/>
          </a:bodyPr>
          <a:p>
            <a:pPr marL="44280" indent="0">
              <a:spcBef>
                <a:spcPts val="451"/>
              </a:spcBef>
              <a:buNone/>
              <a:tabLst>
                <a:tab algn="l" pos="0"/>
                <a:tab algn="l" pos="1036800"/>
                <a:tab algn="l" pos="2073240"/>
                <a:tab algn="l" pos="3110040"/>
                <a:tab algn="l" pos="4146480"/>
                <a:tab algn="l" pos="5183280"/>
                <a:tab algn="l" pos="6219720"/>
                <a:tab algn="l" pos="7256520"/>
                <a:tab algn="l" pos="8292960"/>
                <a:tab algn="l" pos="9329760"/>
                <a:tab algn="l" pos="10366200"/>
              </a:tabLst>
            </a:pPr>
            <a:r>
              <a:rPr b="0" lang="en-US" sz="1600" spc="-1" strike="noStrike">
                <a:solidFill>
                  <a:srgbClr val="133b9c"/>
                </a:solidFill>
                <a:latin typeface="Verdana"/>
              </a:rPr>
              <a:t>Pescara, 20 aprile 2007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735200" y="2707920"/>
            <a:ext cx="784836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8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La semplificazione amministrativa:</a:t>
            </a:r>
            <a:endParaRPr b="0" lang="en-US" sz="2800" spc="-1" strike="noStrike">
              <a:solidFill>
                <a:srgbClr val="133b9c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0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Esigenze ed opportunità nel settore delle infrastrutture energetiche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2800" spc="-1" strike="noStrike">
              <a:solidFill>
                <a:srgbClr val="133b9c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2800" spc="-1" strike="noStrike">
              <a:solidFill>
                <a:srgbClr val="133b9c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3000" y="132840"/>
            <a:ext cx="9071280" cy="72252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Il ruolo del legislatore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7640" y="1356840"/>
            <a:ext cx="4579920" cy="173052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 fontScale="94000"/>
          </a:bodyPr>
          <a:p>
            <a:pPr marL="258120" indent="-258120">
              <a:lnSpc>
                <a:spcPct val="14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Inserire il silenzio assenso per le amministrazioni preposte alla tutela paesaggistico-ambientale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58120" indent="-258120">
              <a:lnSpc>
                <a:spcPct val="14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Formalizzare la partecipazione dei concessionari alle conferenze dei servizi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58120" indent="-2581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Non considerare i concessionari come PA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38120" y="1862280"/>
            <a:ext cx="295272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Parlamento</a:t>
            </a:r>
            <a:endParaRPr b="0" lang="en-US" sz="2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38120" y="4456080"/>
            <a:ext cx="2952720" cy="144000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Regione Abruzzo</a:t>
            </a:r>
            <a:endParaRPr b="0" lang="en-US" sz="2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3693600" y="2409840"/>
            <a:ext cx="2017440" cy="381600"/>
          </a:xfrm>
          <a:prstGeom prst="rect">
            <a:avLst/>
          </a:prstGeom>
          <a:solidFill>
            <a:srgbClr val="ccffff"/>
          </a:solidFill>
          <a:ln w="9360">
            <a:solidFill>
              <a:srgbClr val="133b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33b9c"/>
                </a:solidFill>
                <a:latin typeface="Verdana"/>
              </a:rPr>
              <a:t>DdL Nicolais</a:t>
            </a:r>
            <a:endParaRPr b="0" lang="en-US" sz="2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3775320" y="4890960"/>
            <a:ext cx="1999440" cy="637560"/>
          </a:xfrm>
          <a:prstGeom prst="rect">
            <a:avLst/>
          </a:prstGeom>
          <a:solidFill>
            <a:srgbClr val="ccffff"/>
          </a:solidFill>
          <a:ln w="9360">
            <a:solidFill>
              <a:srgbClr val="133b9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33b9c"/>
                </a:solidFill>
                <a:latin typeface="Verdana"/>
              </a:rPr>
              <a:t>Rivedere la </a:t>
            </a:r>
            <a:endParaRPr b="0" lang="en-US" sz="24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33b9c"/>
                </a:solidFill>
                <a:latin typeface="Verdana"/>
              </a:rPr>
              <a:t>L.R. 83/1988</a:t>
            </a:r>
            <a:endParaRPr b="0" lang="en-US" sz="2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4167360"/>
            <a:ext cx="42865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rmAutofit fontScale="87000"/>
          </a:bodyPr>
          <a:p>
            <a:pPr marL="238680" indent="-238680">
              <a:lnSpc>
                <a:spcPct val="19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Prevedere l’uso della conferenza dei servizi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38680" indent="-238680">
              <a:lnSpc>
                <a:spcPct val="19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Inserire la Denuncia di inizio lavori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38680" indent="-238680">
              <a:lnSpc>
                <a:spcPct val="19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Semplificare il procedimento aspropriativo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DEFE-584F-49D9-ACEE-E5C1C8563392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3000" y="60480"/>
            <a:ext cx="9071280" cy="72216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Conclusioni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31400" y="2150640"/>
            <a:ext cx="8696520" cy="35290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lvl="1" marL="841320" indent="-209520" algn="just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migliore pianificazione ed un uso razionale del territorio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 algn="just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riduzione degli adempimenti amministrativ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 algn="just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riduzione dei tempi complessivi di esecuzione dei lavor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 algn="just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Maggiore facilit</a:t>
            </a:r>
            <a:r>
              <a:rPr b="1" lang="en-US" sz="1600" spc="-1" strike="noStrike">
                <a:solidFill>
                  <a:srgbClr val="133b9c"/>
                </a:solidFill>
                <a:latin typeface="Verdana"/>
              </a:rPr>
              <a:t>à nel realizzare interventi per migliorare la</a:t>
            </a: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 qualità del servizio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97040" y="5273640"/>
            <a:ext cx="3657240" cy="1369800"/>
            <a:chOff x="797040" y="5273640"/>
            <a:chExt cx="3657240" cy="1369800"/>
          </a:xfrm>
        </p:grpSpPr>
        <p:sp>
          <p:nvSpPr>
            <p:cNvPr id="150" name=""/>
            <p:cNvSpPr/>
            <p:nvPr/>
          </p:nvSpPr>
          <p:spPr>
            <a:xfrm>
              <a:off x="1084320" y="5273640"/>
              <a:ext cx="3098520" cy="1369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endParaRPr b="0" lang="en-US" sz="1200" spc="-1" strike="noStrike">
                <a:solidFill>
                  <a:srgbClr val="133b9c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7040" y="5631120"/>
              <a:ext cx="3657240" cy="4237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it-IT" sz="1800" spc="-1" strike="noStrike">
                  <a:solidFill>
                    <a:srgbClr val="133b9c"/>
                  </a:solidFill>
                  <a:latin typeface="Verdana"/>
                </a:rPr>
                <a:t>Riduzione dei costi</a:t>
              </a:r>
              <a:endParaRPr b="0" lang="en-US" sz="1800" spc="-1" strike="noStrike">
                <a:solidFill>
                  <a:srgbClr val="133b9c"/>
                </a:solidFill>
                <a:latin typeface="Verdana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748520" y="4545000"/>
            <a:ext cx="6172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600"/>
                </a:solidFill>
                <a:latin typeface="Verdana"/>
              </a:rPr>
              <a:t>per fornire una risposta alle esigenze della clientela</a:t>
            </a:r>
            <a:endParaRPr b="0" lang="en-US" sz="1800" spc="-1" strike="noStrike">
              <a:solidFill>
                <a:srgbClr val="133b9c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56280" y="5248440"/>
            <a:ext cx="3553920" cy="1426680"/>
            <a:chOff x="6056280" y="5248440"/>
            <a:chExt cx="3553920" cy="1426680"/>
          </a:xfrm>
        </p:grpSpPr>
        <p:sp>
          <p:nvSpPr>
            <p:cNvPr id="154" name=""/>
            <p:cNvSpPr/>
            <p:nvPr/>
          </p:nvSpPr>
          <p:spPr>
            <a:xfrm>
              <a:off x="6264000" y="5291280"/>
              <a:ext cx="3098520" cy="13694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endParaRPr b="0" lang="en-US" sz="1200" spc="-1" strike="noStrike">
                <a:solidFill>
                  <a:srgbClr val="133b9c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56280" y="5248440"/>
              <a:ext cx="3553920" cy="14266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it-IT" sz="1800" spc="-1" strike="noStrike">
                  <a:solidFill>
                    <a:srgbClr val="133b9c"/>
                  </a:solidFill>
                  <a:latin typeface="Verdana"/>
                </a:rPr>
                <a:t>Rapido avvio dell’operatività degli impianti oggetto di investimento </a:t>
              </a:r>
              <a:endParaRPr b="0" lang="en-US" sz="1800" spc="-1" strike="noStrike">
                <a:solidFill>
                  <a:srgbClr val="133b9c"/>
                </a:solidFill>
                <a:latin typeface="Verdana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73000" y="703440"/>
            <a:ext cx="9792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La realizzazione degli interventi di semplificazione amministrativa potranno favorire sviluppo delle reti di distribuzione e, al contempo, determinare una:</a:t>
            </a:r>
            <a:endParaRPr b="0" lang="en-US" sz="18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973760" y="5460840"/>
            <a:ext cx="649080" cy="936720"/>
          </a:xfrm>
          <a:custGeom>
            <a:avLst/>
            <a:gdLst/>
            <a:ahLst/>
            <a:rect l="l" t="t" r="r" b="b"/>
            <a:pathLst>
              <a:path w="672" h="768">
                <a:moveTo>
                  <a:pt x="0" y="0"/>
                </a:moveTo>
                <a:lnTo>
                  <a:pt x="0" y="768"/>
                </a:lnTo>
                <a:lnTo>
                  <a:pt x="672" y="380"/>
                </a:lnTo>
                <a:lnTo>
                  <a:pt x="0" y="0"/>
                </a:lnTo>
                <a:close/>
              </a:path>
            </a:pathLst>
          </a:custGeom>
          <a:solidFill>
            <a:srgbClr val="ff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F992-2BEA-429F-BFAF-964E9D08B59A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35200" y="2707920"/>
            <a:ext cx="784836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8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La semplificazione amministrativa:</a:t>
            </a:r>
            <a:endParaRPr b="0" lang="en-US" sz="2800" spc="-1" strike="noStrike">
              <a:solidFill>
                <a:srgbClr val="133b9c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0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Esigenze ed opportunità nel settore delle infrastrutture energetiche</a:t>
            </a:r>
            <a:endParaRPr b="0" lang="en-US" sz="2000" spc="-1" strike="noStrike">
              <a:solidFill>
                <a:srgbClr val="133b9c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2800" spc="-1" strike="noStrike">
              <a:solidFill>
                <a:srgbClr val="133b9c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28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90A4-C213-4BA4-A4F9-7CDB52D87462}" type="slidenum">
              <a:t>12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9920" y="193320"/>
            <a:ext cx="9070920" cy="6620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L’importanza dell’energia nell’attività  di impresa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0200" y="2158560"/>
            <a:ext cx="7693200" cy="338292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74680" indent="-27468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L’energia è indispensabile per la produzione di beni e serviz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-27468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E’ un fattore strategico per la competitività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-27468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Le esigenze della clientela imprenditoriale sono, rispetto a quelle della clientela domestica, più complesse e richiedono una maggiore integrazione con l’assetto delle infrastrutture sul territorio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D519-121B-4438-AB66-5E27F77189A7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99920" y="264600"/>
            <a:ext cx="9070920" cy="6620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L’esperienza del distributore di energia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0200" y="2006280"/>
            <a:ext cx="7693200" cy="338436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74680" indent="-27468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Il distributore di energia elettrica e di gas è chiamato a svolgere un servizio pubblico in regime di concession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-27468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Deve interagire tra le esigenze della collettività e, in particolare, del mondo imprenditoriale, e le regole ed il ruolo della Pubblica Amministrazion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-27468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Ogni intervento di sviluppo o manutenzione straordinaria delle reti di distribuzione è soggetta ad un procedimento di autorizzazion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0" algn="just">
              <a:lnSpc>
                <a:spcPct val="14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E55D-CF63-493B-9952-39D0DE364E59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44280" y="317160"/>
            <a:ext cx="9070920" cy="53820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Conseguenze della burocrazia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389240"/>
            <a:ext cx="9254880" cy="400176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1260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ff7a00"/>
                </a:solidFill>
                <a:latin typeface="Verdana"/>
              </a:rPr>
              <a:t>Un’eccessiva burocrazia nell’ambito delle procedure autorizzative genera: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difficoltà nello sviluppo e nella manutenzione delle reti di distribuzion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sovrapposizione dei procedimenti amministrativi (autorizzazione, espropriazione, predisposizione strumenti urbanistici, ecc.)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ricadute sui clienti final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2" marL="1244520" indent="-209520">
              <a:lnSpc>
                <a:spcPct val="170000"/>
              </a:lnSpc>
              <a:spcBef>
                <a:spcPts val="337"/>
              </a:spcBef>
              <a:buClr>
                <a:srgbClr val="ff9600"/>
              </a:buClr>
              <a:buFont typeface="Wingdings" charset="2"/>
              <a:buChar char=""/>
              <a:tabLst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Ritardi nell’esecuzione dei lavor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2" marL="1244520" indent="-209520">
              <a:lnSpc>
                <a:spcPct val="170000"/>
              </a:lnSpc>
              <a:spcBef>
                <a:spcPts val="337"/>
              </a:spcBef>
              <a:buClr>
                <a:srgbClr val="ff9600"/>
              </a:buClr>
              <a:buFont typeface="Wingdings" charset="2"/>
              <a:buChar char=""/>
              <a:tabLst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Insufficienza delle reti di distribuzione rispetto al fabbisogno del territorio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2" marL="1244520" indent="-209520">
              <a:lnSpc>
                <a:spcPct val="170000"/>
              </a:lnSpc>
              <a:spcBef>
                <a:spcPts val="337"/>
              </a:spcBef>
              <a:buClr>
                <a:srgbClr val="ff9600"/>
              </a:buClr>
              <a:buFont typeface="Wingdings" charset="2"/>
              <a:buChar char=""/>
              <a:tabLst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Mancanza di garanzie sulla qualità del servizio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E331-1B87-46B8-A7BB-7FFA8118BCD5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899320" y="2151000"/>
            <a:ext cx="2879640" cy="151128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133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4920" rIns="124920" tIns="62280" bIns="62280" anchor="ctr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655720" y="2151000"/>
            <a:ext cx="4394520" cy="1511280"/>
          </a:xfrm>
          <a:custGeom>
            <a:avLst/>
            <a:gdLst>
              <a:gd name="textAreaLeft" fmla="*/ 0 w 4394520"/>
              <a:gd name="textAreaRight" fmla="*/ 4394880 w 439452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66" y="0"/>
                </a:lnTo>
                <a:lnTo>
                  <a:pt x="21600" y="10800"/>
                </a:lnTo>
                <a:lnTo>
                  <a:pt x="187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28440">
            <a:solidFill>
              <a:srgbClr val="133b9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4920" rIns="124920" tIns="62280" bIns="62280" anchor="ctr">
            <a:no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719360" y="2151000"/>
            <a:ext cx="1441440" cy="151128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02" y="0"/>
                </a:lnTo>
                <a:lnTo>
                  <a:pt x="21600" y="10800"/>
                </a:lnTo>
                <a:lnTo>
                  <a:pt x="1590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133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99920" y="204840"/>
            <a:ext cx="9070920" cy="72216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Il processo di esecuzione dei lavori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2556000"/>
            <a:ext cx="164448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Preventivo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Progetto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736800" y="2550960"/>
            <a:ext cx="1800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Autorizzazione 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amministrativa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220680" y="2614680"/>
            <a:ext cx="1353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Richiesta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 </a:t>
            </a: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del cliente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6861240" y="2525760"/>
            <a:ext cx="164448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Pianificazione lavoro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Esecuzione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720280" y="2765520"/>
            <a:ext cx="1353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Attivazione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855800" y="3859200"/>
            <a:ext cx="653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7a00"/>
                </a:solidFill>
                <a:latin typeface="Verdana"/>
              </a:rPr>
              <a:t>12 gg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949560" y="3859200"/>
            <a:ext cx="13240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7a00"/>
                </a:solidFill>
                <a:latin typeface="Verdana"/>
              </a:rPr>
              <a:t>2 mesi a 3 anni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7029720" y="3859200"/>
            <a:ext cx="653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5280" rIns="125280" tIns="62640" bIns="626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7a00"/>
                </a:solidFill>
                <a:latin typeface="Verdana"/>
              </a:rPr>
              <a:t>47 gg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220680" y="3807000"/>
            <a:ext cx="13539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7a00"/>
                </a:solidFill>
                <a:latin typeface="Verdana"/>
              </a:rPr>
              <a:t>Tempi medi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531800" y="1685880"/>
            <a:ext cx="1355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33b9c"/>
                </a:solidFill>
                <a:latin typeface="Verdana"/>
              </a:rPr>
              <a:t>Attività del distributore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632640" y="1685880"/>
            <a:ext cx="1353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33b9c"/>
                </a:solidFill>
                <a:latin typeface="Verdana"/>
              </a:rPr>
              <a:t>Attività del distributore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3594240" y="1685880"/>
            <a:ext cx="20732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33b9c"/>
                </a:solidFill>
                <a:latin typeface="Verdana"/>
              </a:rPr>
              <a:t>Attività della Pubblica Amministrazione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2873520" y="4671720"/>
            <a:ext cx="4510080" cy="212760"/>
          </a:xfrm>
          <a:prstGeom prst="triangle">
            <a:avLst>
              <a:gd name="adj" fmla="val 49704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759ee3"/>
            </a:solidFill>
            <a:miter/>
          </a:ln>
          <a:effectLst>
            <a:outerShdw dist="17819" dir="2700000" blurRad="0" rotWithShape="0">
              <a:srgbClr val="455e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spAutoFit/>
          </a:bodyPr>
          <a:p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938160" y="5397480"/>
            <a:ext cx="8380440" cy="978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Verdana"/>
              </a:rPr>
              <a:t>La somma dei tempi medi dell’attività che svolge il distributore è inferiore al tempo minimo previsto per ottenere l’autorizzazion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600" spc="-1" strike="noStrike">
                <a:solidFill>
                  <a:srgbClr val="4d4d4d"/>
                </a:solidFill>
                <a:latin typeface="Verdana"/>
              </a:rPr>
              <a:t>Da un minimo di  2 mesi ad un massimo di  3 ann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63DD-D54D-41A2-A743-349E19982914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20680" y="1438200"/>
          <a:ext cx="7273800" cy="32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1438200"/>
                    <a:ext cx="7273800" cy="32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4280" y="205920"/>
            <a:ext cx="9070920" cy="71604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Gli obiettivi dell’Authority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15" name=""/>
          <p:cNvSpPr/>
          <p:nvPr/>
        </p:nvSpPr>
        <p:spPr>
          <a:xfrm>
            <a:off x="723960" y="865080"/>
            <a:ext cx="94359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800" spc="-1" strike="noStrike">
                <a:solidFill>
                  <a:srgbClr val="133b9c"/>
                </a:solidFill>
                <a:latin typeface="Verdana"/>
              </a:rPr>
              <a:t>Tempi medi Enel di allacciamento alla rete di energia elettrica in giorni lavorativi (2005)</a:t>
            </a:r>
            <a:endParaRPr b="0" lang="en-US" sz="18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09760" y="4484520"/>
            <a:ext cx="12175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Con gruppo di misura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949320" y="3878280"/>
            <a:ext cx="496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613320" y="3433680"/>
            <a:ext cx="498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15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075120" y="4484520"/>
            <a:ext cx="12175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Con lavori semplici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362480" y="4484520"/>
            <a:ext cx="12175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Con lavori complessi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74840" y="4078440"/>
            <a:ext cx="712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1,55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111480" y="3763800"/>
            <a:ext cx="712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8,88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384800" y="2006640"/>
            <a:ext cx="712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47,10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1357200"/>
            <a:ext cx="712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60*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2173320" y="3114720"/>
            <a:ext cx="714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20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749600" y="3591000"/>
            <a:ext cx="7124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Verdana"/>
              </a:rPr>
              <a:t>12,40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733400" y="4484520"/>
            <a:ext cx="1219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1" lang="it-IT" sz="1200" spc="-1" strike="noStrike">
                <a:solidFill>
                  <a:srgbClr val="133b9c"/>
                </a:solidFill>
                <a:latin typeface="Verdana"/>
              </a:rPr>
              <a:t>Preventivo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985000" y="2151000"/>
            <a:ext cx="4421160" cy="209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it-IT" sz="1800" spc="-1" strike="noStrike">
                <a:solidFill>
                  <a:srgbClr val="4d4d4d"/>
                </a:solidFill>
                <a:latin typeface="Verdana"/>
              </a:rPr>
              <a:t>Gli obiettivi di qualità dell’Authority sono al netto dei tempi necessari all’ottenimento degli atti  autorizzatori (concessioni, autorizzazioni, servitù, espropriazioni)</a:t>
            </a:r>
            <a:endParaRPr b="0" lang="en-US" sz="18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49400" y="2440080"/>
            <a:ext cx="3027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280" rIns="125280" tIns="62640" bIns="62640" anchor="t">
            <a:spAutoFit/>
          </a:bodyPr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133b9c"/>
                </a:solidFill>
                <a:latin typeface="Verdana"/>
              </a:rPr>
              <a:t>* Da applicarsi nell’85% dei casi (90% per MT)</a:t>
            </a:r>
            <a:endParaRPr b="0" lang="en-US" sz="12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38120" y="5176800"/>
            <a:ext cx="8607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rmAutofit fontScale="90000"/>
          </a:bodyPr>
          <a:p>
            <a:pPr marL="246960" indent="-246960" algn="just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Intervento con gruppo di misura: </a:t>
            </a:r>
            <a:r>
              <a:rPr b="0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attivazione di una fornitura a seguito di nuovo contratto o modifica o subentro ad una fornitura esistente attraverso interventi limitati al contatore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46960" indent="-246960" algn="just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Preventivo: </a:t>
            </a:r>
            <a:r>
              <a:rPr b="0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valorizzazione economica e temporale di un intervento richiesto dal cliente relativo all’esecuzione di lavori semplici o complessi</a:t>
            </a: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 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46960" indent="-246960" algn="just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Lavori semplici: </a:t>
            </a:r>
            <a:r>
              <a:rPr b="0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intervento limitato al contatore ed al cavo di derivazione che alimenta lo stesso (presa)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46960" indent="-246960" algn="just">
              <a:lnSpc>
                <a:spcPct val="7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Lavori complessi: </a:t>
            </a:r>
            <a:r>
              <a:rPr b="0" lang="it-IT" sz="14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realizzazione, modifica o sostituzione di parti di impianto non rientranti nei lavori semplici 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3543-BD31-42F6-A70B-6D8ABC41C759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9920" y="-360"/>
            <a:ext cx="9070920" cy="10666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Il procedimento di autorizzazione per la costruzione di un elettrodotto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03200" y="1139760"/>
          <a:ext cx="8209080" cy="59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139760"/>
                    <a:ext cx="82090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90284-FBC3-4A49-AA08-ED7B914856A4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44280" y="306000"/>
            <a:ext cx="9070920" cy="47628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Le amministrazioni coinvolte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041120"/>
            <a:ext cx="9253440" cy="74916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85680" indent="0">
              <a:lnSpc>
                <a:spcPct val="11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800" spc="-1" strike="noStrike">
                <a:solidFill>
                  <a:srgbClr val="133b9c"/>
                </a:solidFill>
                <a:latin typeface="Verdana"/>
              </a:rPr>
              <a:t>Per la costruzione ed esercizio della rete di distribuzione di energia elettrica Enel Distribuzione è chiamata ad interloquire con:</a:t>
            </a:r>
            <a:endParaRPr b="0" lang="en-US" sz="18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8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222120" y="2004840"/>
            <a:ext cx="5139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rmAutofit/>
          </a:bodyPr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Region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Provinc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Comun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Arpa</a:t>
            </a:r>
            <a:r>
              <a:rPr b="1" lang="en-US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/</a:t>
            </a: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Arta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Soprintendenze (Archeologica – Beni Ambientali)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Parchi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Corpo Forestale dello Stato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Comunità montane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Autorità di bacino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Consorzi di bonifica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807080" y="2004840"/>
            <a:ext cx="51386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rmAutofit/>
          </a:bodyPr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Anas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Autostrade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Ferrovie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Ministero delle Telecomunicazioni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Ministero della Difesa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Capitanerie di Porto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Agenzie regionali per la Navigazione Interna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ENAV 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  <a:ea typeface="ヒラギノ角ゴ Pro W3"/>
              </a:rPr>
              <a:t>ENAC, ecc.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587E-8FF4-40EB-AA9E-0D6A91C365E7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99920" y="0"/>
            <a:ext cx="9070920" cy="72216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Interventi di semplificazione </a:t>
            </a:r>
            <a:r>
              <a:rPr b="1" lang="en-US" sz="2400" spc="-1" strike="noStrike">
                <a:solidFill>
                  <a:srgbClr val="133b9c"/>
                </a:solidFill>
                <a:latin typeface="Verdana"/>
              </a:rPr>
              <a:t>(</a:t>
            </a:r>
            <a:r>
              <a:rPr b="1" lang="it-IT" sz="2400" spc="-1" strike="noStrike">
                <a:solidFill>
                  <a:srgbClr val="133b9c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133b9c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133b9c"/>
              </a:solidFill>
              <a:latin typeface="Frutiger 45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501920"/>
            <a:ext cx="8696160" cy="5186160"/>
          </a:xfrm>
          <a:prstGeom prst="rect">
            <a:avLst/>
          </a:prstGeom>
          <a:noFill/>
          <a:ln w="0">
            <a:noFill/>
          </a:ln>
        </p:spPr>
        <p:txBody>
          <a:bodyPr lIns="57600" rIns="103680" tIns="57600" bIns="57600" anchor="t">
            <a:normAutofit/>
          </a:bodyPr>
          <a:p>
            <a:pPr marL="274680" indent="-27468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Inserimento negli strumenti urbanistici delle reti di distribuzion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-27468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Coinvolgimento del distributore nella programmazione del territorio e nella pianificazione dei programmi di lottizzazion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-27468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Integrazione delle procedure autorizzative con altre normative di settore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marL="274680" indent="-27468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•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600" spc="-1" strike="noStrike">
                <a:solidFill>
                  <a:srgbClr val="133b9c"/>
                </a:solidFill>
                <a:latin typeface="Verdana"/>
              </a:rPr>
              <a:t>Semplificazione dei procedimenti amministrativi</a:t>
            </a:r>
            <a:endParaRPr b="0" lang="en-US" sz="16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–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Uso della Conferenza dei servizi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–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Termini perentori per la conclusione del procedimento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–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Silenzio assenso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–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Prevedere la Denuncia di Inizio Lavori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lvl="1" marL="841320" indent="-209520">
              <a:lnSpc>
                <a:spcPct val="170000"/>
              </a:lnSpc>
              <a:spcBef>
                <a:spcPts val="451"/>
              </a:spcBef>
              <a:buClr>
                <a:srgbClr val="ff9600"/>
              </a:buClr>
              <a:buFont typeface="Verdana"/>
              <a:buChar char="–"/>
              <a:tabLst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r>
              <a:rPr b="1" lang="it-IT" sz="1400" spc="-1" strike="noStrike">
                <a:solidFill>
                  <a:srgbClr val="133b9c"/>
                </a:solidFill>
                <a:latin typeface="Verdana"/>
              </a:rPr>
              <a:t>Escludere dall’autorizzazione gli impianti a minor impatto ambientale</a:t>
            </a: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  <a:p>
            <a:pPr marL="2746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1035000"/>
                <a:tab algn="l" pos="2070000"/>
                <a:tab algn="l" pos="3105000"/>
                <a:tab algn="l" pos="4140360"/>
                <a:tab algn="l" pos="5175360"/>
                <a:tab algn="l" pos="6210360"/>
                <a:tab algn="l" pos="7245360"/>
                <a:tab algn="l" pos="8280360"/>
                <a:tab algn="l" pos="9315360"/>
                <a:tab algn="l" pos="10350360"/>
              </a:tabLst>
            </a:pPr>
            <a:endParaRPr b="0" lang="en-US" sz="1400" spc="-1" strike="noStrike">
              <a:solidFill>
                <a:srgbClr val="133b9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C1B6-7C7D-4EEB-852C-9CF888B9DC8D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 della copia di valutazione di Office 2004</dc:creator>
  <dc:description/>
  <dc:language>en-US</dc:language>
  <cp:lastModifiedBy>a240478</cp:lastModifiedBy>
  <dcterms:modified xsi:type="dcterms:W3CDTF">2007-04-17T08:32:35Z</dcterms:modified>
  <cp:revision>88</cp:revision>
  <dc:subject/>
  <dc:title>Presentazione di PowerPoint</dc:title>
</cp:coreProperties>
</file>