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D76-C4BB-4AD1-8AB1-49C9B832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3481-93BA-45DB-B4D1-429B83F0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357-AC29-469F-8AE2-FFBB247D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754-EF81-4D3E-9C95-5AE7D825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EC61-8274-4B45-806E-178B9F74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65EE-17D8-42F8-A67A-46165F1C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B12-2F33-4C71-A8C1-AEE4E891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0188-E8AC-4F7F-92E1-82D03EF8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3C3D-69FB-4E5E-91F3-9A9E84A1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0C3-FBE0-4D6C-B41B-FBA9A4DF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20D-D366-4D6F-BC60-DD992124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F5E-DC85-4BE1-9370-D27DEF82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67E7-B4E6-474C-88D5-54C900AE13C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3120" y="206064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49560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BONIF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9560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 SITI CONTAMINA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9560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4797360"/>
            <a:ext cx="6048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6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99"/>
                </a:solidFill>
                <a:latin typeface="Arial"/>
              </a:rPr>
              <a:t>Mariano Cresciman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6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99"/>
                </a:solidFill>
                <a:latin typeface="Arial"/>
              </a:rPr>
              <a:t>Federchi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6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6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                                   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Pescara, 11 Luglio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18920" cy="7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17680" y="422280"/>
            <a:ext cx="16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44280"/>
            <a:ext cx="878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3160" y="20192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44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incipali novità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907920"/>
            <a:ext cx="864216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Messa in sicurezza 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d’emergenza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art. 240, comma 1, lett. m)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ogni intervento immediato o a breve termine, da mettere in opera nelle condizioni di emergen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7040" indent="-263160" algn="just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concentrazioni attuali o potenziali dei vapori in spazi confinati prossime ai livelli di esplosività o idonee a causare effetti nocivi acuti alla salu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7040" indent="-263160" algn="just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presenza di quantità significative di prodotto in fase separata sul suolo o in corsi di acqua superficiali o nella fal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7040" indent="-263160" algn="just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contaminazione di pozzi ad utilizzo idropotabile o per scopi agricol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7040" indent="-263160" algn="just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pericolo di incendi ed esplosio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Messa in sicurezza operativa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art. 240, comma 1, lett. n)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interventi di contenimento della contaminazione da mettere in atto in via transitoria in siti con attività in esercizio, in attesa di ulteriori interventi da realizzarsi alla cessazione dell’attività; devono essere predisposti idonei piani di monitoragg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Messa in sicurezza permanente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art. 240, comma 1, lett. o)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l’insieme degli interventi atti a isolare in modo definitivo le fonti inquinanti rispetto alle matrici ambientali circostanti; devono essere previsti piani di monitoraggio e controllo e limitazioni d’uso rispetto alle previsioni degli strumenti urbanisti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17680" y="422280"/>
            <a:ext cx="16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44280"/>
            <a:ext cx="878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3160" y="20192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1197000"/>
            <a:ext cx="43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981000"/>
            <a:ext cx="85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44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incipali novità 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9079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785880"/>
            <a:ext cx="864252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20000"/>
              </a:lnSpc>
              <a:spcAft>
                <a:spcPts val="451"/>
              </a:spcAft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ts val="0"/>
              </a:lnSpc>
              <a:spcAft>
                <a:spcPts val="451"/>
              </a:spcAft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ts val="0"/>
              </a:lnSpc>
              <a:spcAft>
                <a:spcPts val="451"/>
              </a:spcAft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90000"/>
              </a:lnSpc>
              <a:spcAft>
                <a:spcPts val="451"/>
              </a:spcAft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ompetenze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: parzialmente variate. Approvazione dei progetti di competenza dalla Regione  (art. 242). Siti di interesse nazionale restano di competenza del Ministero Ambiente ma è eliminato il concerto con Ministero Attività Produttive e Salute (art. 2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ts val="0"/>
              </a:lnSpc>
              <a:spcAft>
                <a:spcPts val="451"/>
              </a:spcAft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90000"/>
              </a:lnSpc>
              <a:spcAft>
                <a:spcPts val="451"/>
              </a:spcAft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omunicazione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, secondo le modalità previste dal danno, anche al Prefetto (art. 242 e 304) con tutti gli aspetti pertinenti  della situazione (le generalità dell’operatore, le caratteristiche  del sito interessato, le matrici ambientali presumibilmente coinvolte e la descrizione degli interventi da esegu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90000"/>
              </a:lnSpc>
              <a:spcAft>
                <a:spcPts val="451"/>
              </a:spcAft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Autocertificazione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: chiude il  procedimento in caso di notifica e non superamento delle CSC (art. 242, co.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20000"/>
              </a:lnSpc>
              <a:spcAft>
                <a:spcPts val="451"/>
              </a:spcAft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90000"/>
              </a:lnSpc>
              <a:spcAft>
                <a:spcPts val="451"/>
              </a:spcAft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Trattamento acque di falda emunte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 nelle operazioni di bonifica: si applicano i limiti di scarico in acque superficiali (art. 2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ts val="0"/>
              </a:lnSpc>
              <a:spcAft>
                <a:spcPts val="451"/>
              </a:spcAft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90000"/>
              </a:lnSpc>
              <a:spcAft>
                <a:spcPts val="451"/>
              </a:spcAft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ontroll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90000"/>
              </a:lnSpc>
              <a:spcAft>
                <a:spcPts val="45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conformità degli interventi ai progetti: Provincia e ARPA (art. 248, co.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90000"/>
              </a:lnSpc>
              <a:spcAft>
                <a:spcPts val="45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completamento degli interventi: Provincia su relazione tecnica di ARPA (art. 248, co.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90000"/>
              </a:lnSpc>
              <a:spcAft>
                <a:spcPts val="45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potere sostitutivo della Regione in caso la Provincia non provveda al rilascio della certificazione di avvenuta bonifica (art. 242, co. 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ts val="0"/>
              </a:lnSpc>
              <a:spcAft>
                <a:spcPts val="451"/>
              </a:spcAft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"/>
              </a:lnSpc>
              <a:spcAft>
                <a:spcPts val="451"/>
              </a:spcAft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17680" y="422280"/>
            <a:ext cx="16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44280"/>
            <a:ext cx="878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3160" y="20192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197000"/>
            <a:ext cx="43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981000"/>
            <a:ext cx="85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9079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44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incipali novità  (segu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933480"/>
            <a:ext cx="8640720" cy="57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57480" indent="-35748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Accordi di programma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 (art. 2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480" indent="-35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Tutti i soggetti obbligati agli interventi,  scadenze temporali differenziate (6, 12, 18 mesi) legate all’approvazione del documento di AdR sulla base della necessità di provvedere a contestuale bonifica di  più s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480" indent="-35748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480" indent="-35748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Oneri e privilegi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 (art. 25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520" indent="-2156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Gli interventi costituiscono  onere reale sul sito contaminato (&gt; CSR) che deve essere indicato nel certificato di destinazione urbanis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520" indent="-2156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Le spese sono assistite solo da privilegio speciale immobilia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520" indent="-2156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Il proprietario non responsabile può essere tenuto a rispondere delle spese solo nei limiti del valore di mercato del sito a seguito degli interventi di bonif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480" indent="-357480" algn="just">
              <a:lnSpc>
                <a:spcPts val="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480" indent="-35748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anzioni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 (art. 2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520" indent="-2156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Sanzionato il reato di “inquinamento e omessa bonifica” (nel decreto Ronchi era prevista anche la fattispecie di “pericolo concreto e attuale e omessa bonifica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520" indent="-2156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prevista una condizione di non punibilità per i reati ambientali connessi alla situazione di contaminazione in caso di bonif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3920" algn="just">
              <a:lnSpc>
                <a:spcPct val="4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480" indent="-35748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Transitorio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 (art. 2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480" indent="-35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Possibilità, su richiesta dell’operatore, di  rimodulare gli obiettivi di bonifica già autorizzati entro 6 mesi dall’entrata in vigore del codice (29.10.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17680" y="422280"/>
            <a:ext cx="16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44280"/>
            <a:ext cx="878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13160" y="20192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1197000"/>
            <a:ext cx="43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981000"/>
            <a:ext cx="85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9079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44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incipali novità:  Alleg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981000"/>
            <a:ext cx="86058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riteri per l’analisi di rischio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 (inversa) sito specifica (All.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Contaminanti indice, punto di conformità  per le acque sotterranee al di fuori del sito (tra 50 e 500 m dalla sorgente); per  sostanze cancerogene rischio incrementale accettabile 10</a:t>
            </a:r>
            <a:r>
              <a:rPr b="0" lang="it-IT" sz="1800" spc="-1" strike="noStrike" baseline="30000">
                <a:solidFill>
                  <a:srgbClr val="333399"/>
                </a:solidFill>
                <a:latin typeface="Arial"/>
              </a:rPr>
              <a:t>-5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;  per  sostanze non cancerogene, ADI o T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riteri generali per la caratterizzazione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 (All.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Ubicazione ragionata dei punti di campionamento in aggiunta alla sistematica,  profilo di contaminazione sulla verticale riferito alla frazione granulometrica inferiore a 2 cm; elaborazione del modello concettu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riteri per l’esecuzione degli interventi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All.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rocedure semplificate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 per siti di ridotte dimensioni o di eventi accidentali di superficie inferiore a 1000 m</a:t>
            </a:r>
            <a:r>
              <a:rPr b="0" lang="it-IT" sz="1800" spc="-1" strike="noStrike" baseline="30000">
                <a:solidFill>
                  <a:srgbClr val="333399"/>
                </a:solidFill>
                <a:latin typeface="Arial"/>
              </a:rPr>
              <a:t>2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 (All.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Possibilità di bonifica a CSC con presentazione di progetto un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SC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All. 5) Sono riprese le attuali CLA del D.M. 471/99 con alcune correzio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3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164360" y="5084640"/>
            <a:ext cx="792360" cy="1152720"/>
          </a:xfrm>
          <a:prstGeom prst="downArrow">
            <a:avLst>
              <a:gd name="adj1" fmla="val 50000"/>
              <a:gd name="adj2" fmla="val 36370"/>
            </a:avLst>
          </a:prstGeom>
          <a:solidFill>
            <a:srgbClr val="339966">
              <a:alpha val="62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3280" y="5000760"/>
            <a:ext cx="720720" cy="299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>
              <a:alpha val="47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7680" y="422280"/>
            <a:ext cx="16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44280"/>
            <a:ext cx="878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3160" y="20192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1197000"/>
            <a:ext cx="43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981000"/>
            <a:ext cx="85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44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cedura per il soggetto responsabil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art. 2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836640"/>
            <a:ext cx="8569080" cy="520200"/>
          </a:xfrm>
          <a:prstGeom prst="rect">
            <a:avLst/>
          </a:prstGeom>
          <a:solidFill>
            <a:srgbClr val="ffffff">
              <a:alpha val="2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1720" indent="-266760">
              <a:buClr>
                <a:srgbClr val="ff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Evento che sia potenzialmente in grado di contaminare il sito, ovv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01720" indent="-266760">
              <a:buClr>
                <a:srgbClr val="ff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ntaminazione storiche  con rischio di aggravamento della situazion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1455840"/>
            <a:ext cx="792000" cy="388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1900080"/>
            <a:ext cx="8569080" cy="520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Il responsabile dell’inquinamento mette in opera le misure di prevenzione e ne dà immediata comunicazione a Comune, Provincia, Regione e Prefe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2565360"/>
            <a:ext cx="792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8080" y="2924280"/>
            <a:ext cx="8713800" cy="307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Il responsabile svolge un’indagine preliminare sui parametri oggetto dell’inqui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3876600">
            <a:off x="3462840" y="3259800"/>
            <a:ext cx="576000" cy="631800"/>
          </a:xfrm>
          <a:prstGeom prst="downArrow">
            <a:avLst>
              <a:gd name="adj1" fmla="val 50000"/>
              <a:gd name="adj2" fmla="val 27422"/>
            </a:avLst>
          </a:prstGeom>
          <a:solidFill>
            <a:srgbClr val="ff33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7892000">
            <a:off x="5040000" y="3251160"/>
            <a:ext cx="576000" cy="649440"/>
          </a:xfrm>
          <a:prstGeom prst="downArrow">
            <a:avLst>
              <a:gd name="adj1" fmla="val 50000"/>
              <a:gd name="adj2" fmla="val 28188"/>
            </a:avLst>
          </a:prstGeom>
          <a:solidFill>
            <a:srgbClr val="ff33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4221000"/>
            <a:ext cx="417672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Il responsabile provvede al ripristino e ne dà notizia al Comune e la Provincia con autocertificazione entro 24 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8000" y="4280040"/>
            <a:ext cx="410508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Il responsabile dà immediata notizia al Comune e alla Regione con le misure di prevenzione e messa in sicurezza d’emergenz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3546360"/>
            <a:ext cx="288108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&lt; C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3557520"/>
            <a:ext cx="2808000" cy="307080"/>
          </a:xfrm>
          <a:prstGeom prst="rect">
            <a:avLst/>
          </a:prstGeom>
          <a:solidFill>
            <a:srgbClr val="3399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4360" y="3935520"/>
            <a:ext cx="720720" cy="285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66">
              <a:alpha val="62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3921120"/>
            <a:ext cx="720720" cy="299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>
              <a:alpha val="47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971640" y="6237360"/>
            <a:ext cx="1584360" cy="574560"/>
            <a:chOff x="971640" y="6237360"/>
            <a:chExt cx="1584360" cy="574560"/>
          </a:xfrm>
        </p:grpSpPr>
        <p:sp>
          <p:nvSpPr>
            <p:cNvPr id="193" name=""/>
            <p:cNvSpPr/>
            <p:nvPr/>
          </p:nvSpPr>
          <p:spPr>
            <a:xfrm>
              <a:off x="971640" y="6237360"/>
              <a:ext cx="1584360" cy="57456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47920" y="637992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403280" y="5877000"/>
            <a:ext cx="792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>
              <a:alpha val="47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946920" y="6237360"/>
            <a:ext cx="1225440" cy="503280"/>
            <a:chOff x="6946920" y="6237360"/>
            <a:chExt cx="1225440" cy="503280"/>
          </a:xfrm>
        </p:grpSpPr>
        <p:sp>
          <p:nvSpPr>
            <p:cNvPr id="197" name=""/>
            <p:cNvSpPr/>
            <p:nvPr/>
          </p:nvSpPr>
          <p:spPr>
            <a:xfrm>
              <a:off x="6977160" y="6302520"/>
              <a:ext cx="11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SEG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46920" y="6237360"/>
              <a:ext cx="1225440" cy="5032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50920" y="5349960"/>
            <a:ext cx="41767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Attività di verifica e controllo da parte della Regione nei successivi 15 g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17680" y="422280"/>
            <a:ext cx="16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44280"/>
            <a:ext cx="878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44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cedura per il soggetto responsabil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seg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1413000"/>
            <a:ext cx="8642160" cy="733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Il responsabile dà immediata notizia al Comune e alla Regione con le misure di prevenzione e messa in sicurezza d’emergenza e presenta alla Regione il piano della caratterizzazione entro 30 gg dalla comunic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59280" y="692280"/>
            <a:ext cx="2952720" cy="307080"/>
          </a:xfrm>
          <a:prstGeom prst="rect">
            <a:avLst/>
          </a:prstGeom>
          <a:solidFill>
            <a:srgbClr val="3399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11640" y="1068480"/>
            <a:ext cx="792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66">
              <a:alpha val="62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2529000"/>
            <a:ext cx="8642520" cy="307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LA Regione, convocata la CdS, autorizza il piano entro 30 g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3219480"/>
            <a:ext cx="8642520" cy="307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alisi di Rischio sito specif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9280" y="3909960"/>
            <a:ext cx="8642520" cy="520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Entro 6 mesi dall’approvazione del piano di caratterizzazione, il soggetto responsabile presenta alla Regione i risultati dell’analisi di Risch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11640" y="2190600"/>
            <a:ext cx="79200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66">
              <a:alpha val="62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11640" y="2868480"/>
            <a:ext cx="79200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66">
              <a:alpha val="62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11640" y="3573360"/>
            <a:ext cx="792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66">
              <a:alpha val="62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3876600">
            <a:off x="3371760" y="4424760"/>
            <a:ext cx="576360" cy="631800"/>
          </a:xfrm>
          <a:prstGeom prst="downArrow">
            <a:avLst>
              <a:gd name="adj1" fmla="val 50000"/>
              <a:gd name="adj2" fmla="val 27405"/>
            </a:avLst>
          </a:prstGeom>
          <a:solidFill>
            <a:srgbClr val="339966">
              <a:alpha val="62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7892000">
            <a:off x="5113080" y="4415760"/>
            <a:ext cx="576360" cy="649440"/>
          </a:xfrm>
          <a:prstGeom prst="downArrow">
            <a:avLst>
              <a:gd name="adj1" fmla="val 50000"/>
              <a:gd name="adj2" fmla="val 28170"/>
            </a:avLst>
          </a:prstGeom>
          <a:solidFill>
            <a:srgbClr val="339966">
              <a:alpha val="62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4581360"/>
            <a:ext cx="2881080" cy="307080"/>
          </a:xfrm>
          <a:prstGeom prst="rect">
            <a:avLst/>
          </a:prstGeom>
          <a:solidFill>
            <a:srgbClr val="99cc00">
              <a:alpha val="72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&lt; C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2000" y="4581360"/>
            <a:ext cx="2808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014480" y="6253200"/>
            <a:ext cx="1584360" cy="574560"/>
            <a:chOff x="1014480" y="6253200"/>
            <a:chExt cx="1584360" cy="574560"/>
          </a:xfrm>
        </p:grpSpPr>
        <p:sp>
          <p:nvSpPr>
            <p:cNvPr id="218" name=""/>
            <p:cNvSpPr/>
            <p:nvPr/>
          </p:nvSpPr>
          <p:spPr>
            <a:xfrm>
              <a:off x="1014480" y="6253200"/>
              <a:ext cx="1584360" cy="57456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76360" y="636912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79280" y="5229360"/>
            <a:ext cx="424836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CdS convocata dalla Regione approva l’Analisi di Rischio entro 60 gg dalla ricezione e può prescrivere lo svolgimento di un piano di monitoragg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03280" y="4941720"/>
            <a:ext cx="79236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>
              <a:alpha val="38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4360" y="5084640"/>
            <a:ext cx="792360" cy="1152720"/>
          </a:xfrm>
          <a:prstGeom prst="downArrow">
            <a:avLst>
              <a:gd name="adj1" fmla="val 50000"/>
              <a:gd name="adj2" fmla="val 36370"/>
            </a:avLst>
          </a:prstGeom>
          <a:solidFill>
            <a:srgbClr val="ffcc00">
              <a:alpha val="4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948360" y="6308640"/>
            <a:ext cx="1225440" cy="503280"/>
            <a:chOff x="6948360" y="6308640"/>
            <a:chExt cx="1225440" cy="503280"/>
          </a:xfrm>
        </p:grpSpPr>
        <p:sp>
          <p:nvSpPr>
            <p:cNvPr id="224" name=""/>
            <p:cNvSpPr/>
            <p:nvPr/>
          </p:nvSpPr>
          <p:spPr>
            <a:xfrm>
              <a:off x="6978600" y="6373800"/>
              <a:ext cx="11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SEG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48360" y="6308640"/>
              <a:ext cx="1225440" cy="5032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17680" y="422280"/>
            <a:ext cx="16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44280"/>
            <a:ext cx="878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9280" y="44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cedura per il soggetto responsabil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seg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2062080"/>
            <a:ext cx="8642160" cy="307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CdS convocata dalla Regione approva l’Analisi di Rischio entro 60 gg dalla rice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59280" y="1341360"/>
            <a:ext cx="295272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11640" y="1717560"/>
            <a:ext cx="792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>
              <a:alpha val="4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2830680"/>
            <a:ext cx="8642520" cy="520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Il soggetto responsabile sottopone alla regione il progetto operativo degli interventi di  bonifica o messa in sicurezza e, ove necessario, delle ulteriori misure di riparazione e ripristino ambient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9280" y="3868560"/>
            <a:ext cx="8642520" cy="307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La Regione approva il progetto, con eventuali prescrizioni e integrazioni, , entro 60 gg dal ricev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11640" y="2422440"/>
            <a:ext cx="792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>
              <a:alpha val="4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11640" y="3430440"/>
            <a:ext cx="79200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>
              <a:alpha val="4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11640" y="4295880"/>
            <a:ext cx="792000" cy="428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>
              <a:alpha val="4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648240" y="4842000"/>
            <a:ext cx="1944360" cy="790560"/>
            <a:chOff x="3648240" y="4842000"/>
            <a:chExt cx="1944360" cy="790560"/>
          </a:xfrm>
        </p:grpSpPr>
        <p:sp>
          <p:nvSpPr>
            <p:cNvPr id="239" name=""/>
            <p:cNvSpPr/>
            <p:nvPr/>
          </p:nvSpPr>
          <p:spPr>
            <a:xfrm>
              <a:off x="3648240" y="4842000"/>
              <a:ext cx="1944360" cy="79056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24240" y="502776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F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78920" y="764640"/>
            <a:ext cx="87138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Art. 245  (ex art.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I soggetti non responsabili possono attivare le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Il proprietario o gestore che rilevi &gt; CSC deve darne comunicazione a regione, provincia e comune e attuare le M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E’ sua facoltà intervenire volontari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Art. 242 co.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Nel caso di 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contaminazioni storiche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, in assenza di rischio immediato per l’ambiente e per la salute pubblica, il soggetto interessato comunica alla regione, alla Provincia e al Comune competenti </a:t>
            </a:r>
            <a:r>
              <a:rPr b="0" lang="it-IT" sz="2000" spc="-1" strike="noStrike" u="sng">
                <a:solidFill>
                  <a:srgbClr val="333399"/>
                </a:solidFill>
                <a:uFillTx/>
                <a:latin typeface="Arial"/>
              </a:rPr>
              <a:t>l’esistenza di una potenziale contaminazione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unitamente al piano di caratterizzazione del sito, al fine di determinarne l’entità e l’estensione con riferimento ai parametri indicati nelle CSC ed applica le procedure di cui ai commi 4 e segu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Art. 253 commi 3 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I privilegi possono essere esercitati nei confronti del proprietario incolpevole dell’inquinamento solo a seguito di provvedimento motivato dell’autorità competente che giustifichi l’impossibilità di accertare l’identità del responsa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Il proprietario non responsabile è tenuto a rimborsare le spese soltanto nei limiti del valore di mercato del sito a seguito dell’esecuzione degli interventi medes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44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oggetto interessato (non responsab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9280" y="44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’intervento della Pubblica Amministr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45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ccertamento di &gt; CSC da parte di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ubbliche amministrazioni nell’esercizio delle proprie funzi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municazione a Regione, Provincia e Com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La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Provinci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volge l’indagine per individuare il responsabile e,  sentito il comune, diffida lo stesso responsabile a provvedere (prima era il Comu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L’ordinanza della Provincia è notificata anche al proprietario del s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In caso di inerzia del responsa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otere sostitutivo dell’amministrazione competente (art. 250 Comune o in caso di inerzia dalla Regione) – (ex art. 1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907920"/>
            <a:ext cx="4103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rt. 244 Ordinanze (ex art.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24000" y="1484280"/>
            <a:ext cx="4248000" cy="5157720"/>
            <a:chOff x="324000" y="1484280"/>
            <a:chExt cx="4248000" cy="5157720"/>
          </a:xfrm>
        </p:grpSpPr>
        <p:sp>
          <p:nvSpPr>
            <p:cNvPr id="249" name=""/>
            <p:cNvSpPr/>
            <p:nvPr/>
          </p:nvSpPr>
          <p:spPr>
            <a:xfrm>
              <a:off x="324000" y="1484280"/>
              <a:ext cx="4248000" cy="1512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4000" y="3141360"/>
              <a:ext cx="4248000" cy="15843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4000" y="4868640"/>
              <a:ext cx="4248000" cy="17733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24000" y="2178000"/>
              <a:ext cx="6476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24000" y="5346360"/>
              <a:ext cx="6476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076720" y="69228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rt. 250 Bonifica da parte dell’amministrazione (ex art. 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859280" y="1484280"/>
            <a:ext cx="3997080" cy="2592360"/>
            <a:chOff x="4859280" y="1484280"/>
            <a:chExt cx="3997080" cy="2592360"/>
          </a:xfrm>
        </p:grpSpPr>
        <p:sp>
          <p:nvSpPr>
            <p:cNvPr id="256" name=""/>
            <p:cNvSpPr/>
            <p:nvPr/>
          </p:nvSpPr>
          <p:spPr>
            <a:xfrm>
              <a:off x="5040000" y="1557000"/>
              <a:ext cx="3672000" cy="19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160560" indent="-160560" algn="just">
                <a:lnSpc>
                  <a:spcPct val="90000"/>
                </a:lnSpc>
                <a:spcBef>
                  <a:spcPts val="34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Se il responsabile  non è individuabile o non provveda, né provveda il proprietario e o altri soggetti interessati gli interventi sono realizzati d’ufficio dal Comune e ove questo non provveda, dalla Regione. Priorità di intervento fissate con i piani di bonifica (art. 199 c. 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560" indent="-160560" algn="just">
                <a:lnSpc>
                  <a:spcPct val="90000"/>
                </a:lnSpc>
                <a:spcBef>
                  <a:spcPts val="34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560" indent="-160560" algn="just">
                <a:lnSpc>
                  <a:spcPts val="0"/>
                </a:lnSpc>
                <a:spcBef>
                  <a:spcPts val="34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0560" indent="-160560" algn="just">
                <a:lnSpc>
                  <a:spcPct val="90000"/>
                </a:lnSpc>
                <a:spcBef>
                  <a:spcPts val="34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Possibilità di avvalersi di soggetti pubblici o privati con procedure di evidenza pubbl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9280" y="1484280"/>
              <a:ext cx="3997080" cy="25923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17680" y="422280"/>
            <a:ext cx="16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44280"/>
            <a:ext cx="878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13160" y="20192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9280" y="1197000"/>
            <a:ext cx="43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44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vvedimenti attuativi previ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9079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1673280"/>
            <a:ext cx="8642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Regolamento aree agricole (art. 241, co. 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Individuazione siti di interesse nazionale (art. 252, co. 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Perimetrazione dell’ex discarica di Strillaie (art. 252, co.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Incentivazione nuove tecnologie di bonifica (art. 265, co.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981000"/>
            <a:ext cx="7921440" cy="55436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189000"/>
            <a:ext cx="5977080" cy="151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92360" y="333360"/>
            <a:ext cx="575928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D.Lgs. 3 aprile 2006, n. 1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333399"/>
                </a:solidFill>
                <a:latin typeface="Arial"/>
              </a:rPr>
              <a:t>Norme in materia ambien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1844640"/>
            <a:ext cx="7632720" cy="51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arte Qua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Norme in materia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di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 gestione dei rifiuti e di bonifica dei siti inquin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Titolo V: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Bonifica di siti contamin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Titolo VI: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Sanzioni (art. 257), Abrogazione di norme (art. 264 c. 1, lett. i), Disposizioni transitorie (art. 265 c. 3 e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3789360"/>
            <a:ext cx="10080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17680" y="422280"/>
            <a:ext cx="16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8000" y="4428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anzioni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art. 25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13160" y="20192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9280" y="1197000"/>
            <a:ext cx="43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187280" y="907920"/>
          <a:ext cx="7561440" cy="342432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RAVVEN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AN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uperamento delle CSR con bonifica difforme al progetto approv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resto da 6 mesi a 1 an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mmenda da € 2.600 a € 26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ncata effettuazione della comunicazione di cui all’art. 2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resto da 3 mesi a 1 an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mmenda da € 1.000 a € 26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quinamento provocato da sostanze perico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resto da 1 anno a 2 an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mmenda da € 5.200 a € 5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900000" y="1341360"/>
            <a:ext cx="216000" cy="201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1917720"/>
            <a:ext cx="576000" cy="4032360"/>
          </a:xfrm>
          <a:custGeom>
            <a:avLst/>
            <a:gdLst>
              <a:gd name="textAreaLeft" fmla="*/ 77040 w 576000"/>
              <a:gd name="textAreaRight" fmla="*/ 498960 w 576000"/>
              <a:gd name="textAreaTop" fmla="*/ 705600 h 4032360"/>
              <a:gd name="textAreaBottom" fmla="*/ 2923560 h 40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4508640"/>
            <a:ext cx="7848720" cy="2167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Nella sentenza di condanna per queste due contravvenzioni, o nella sentenza emessa ai sensi dell’art. 444 c.p.p., il beneficio della sospensione condizionale della pena può essere subordinato all’esecuzione degli interventi di emergenza, bonifica e ripristino ambienta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L’osservanza dei progetti approvati a i sensi degli artt. 242 e seguenti costituisce condizione di non punibilità per i reati ambientali contemplati da altre leggi per il medesimo evento e per  il superamento delle CSR con bonifica difforme al progetto approv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17680" y="422280"/>
            <a:ext cx="16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9280" y="44280"/>
            <a:ext cx="878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13160" y="20192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9280" y="1197000"/>
            <a:ext cx="43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9280" y="44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Abrogazioni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Art. 264 c. 1 lettera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9079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0920" y="1230480"/>
            <a:ext cx="8642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’ abrogat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l decreto legislativo 5 febbraio 1997, n. 22.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 fine di assicurare che non vi sia alcuna soluzione di continuità nel passaggio dalla preesistente normativa a quella prevista dalla parte quarta del presente decreto, i provvedimenti attuativi del citato decreto legislativo 5 febbraio 1997, n. 22, continuano ad applicarsi sino alla data di entrata in vigore dei corrispondenti provvedimenti attuativi previsti dalla parte quarta del presente decreto.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35280" y="4076640"/>
            <a:ext cx="1441440" cy="817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5254560"/>
            <a:ext cx="83534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Abrogato l’art. 17 del D.Lgs 22/97 ed il D.M. 471/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3440" y="907920"/>
            <a:ext cx="17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D.Lgs. 22/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( art. 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37080" y="907920"/>
            <a:ext cx="28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D.Lgs. 152/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 – </a:t>
            </a: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bonif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(artt. 239 e se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981000"/>
            <a:ext cx="0" cy="5877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44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6360" y="2349360"/>
            <a:ext cx="34192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IUNQUE CAGI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peramento CLA (ora C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ericolo di superamento CLA  (ora C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00720" y="2349360"/>
            <a:ext cx="27003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HIUNQUE CAGION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(ma v. art. 2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peramento C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4313160"/>
            <a:ext cx="33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l suolo, sottosu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lle acque superfi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lle acque sotterran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35640" y="431316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nel suolo, sottosu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NO (v. artt. 139 e 1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nelle acque sotterran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0" y="11592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incipali novità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" y="69228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500720" y="691920"/>
            <a:ext cx="0" cy="6165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0" y="1967040"/>
            <a:ext cx="91454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1440" y="942840"/>
            <a:ext cx="17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D.Lgs. 22/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( art. 17)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71640" y="981000"/>
            <a:ext cx="20880" cy="5877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86280" y="93204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D.Lgs. 152/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 – </a:t>
            </a: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bonifiche (artt. 239 e se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981000"/>
            <a:ext cx="0" cy="5877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44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Principali novità….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(segue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349360"/>
            <a:ext cx="39607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EVE PROVVEDER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ssa in sicurezza d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merg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oni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ipri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451944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’ fatto salvo il risarcimento ex Legge 349/86, art. 1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32360" y="2349360"/>
            <a:ext cx="3960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EVE PROVVEDER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ssa in sicurezza d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mergenz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ve previ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oni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ipri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0" y="620640"/>
            <a:ext cx="91454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0" y="1967040"/>
            <a:ext cx="91454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500360" y="620640"/>
            <a:ext cx="45720" cy="6237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4508640"/>
            <a:ext cx="365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ve non provveda … è obbligato al risarcimento  per  equivalente patrimonia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v. Parte V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5080" y="1125360"/>
            <a:ext cx="17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D.Lgs. 22/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( art. 17)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771640" y="981000"/>
            <a:ext cx="20880" cy="5877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106200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D.Lgs. 152/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 – </a:t>
            </a: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bonifiche (artt. 239 e se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981000"/>
            <a:ext cx="0" cy="5877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2060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Principali novità….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(segue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2916360"/>
            <a:ext cx="30970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ANZIONI (art. 51 bi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e non provvede ex art. 17 (elemento costitutivo o causa di non punibilità del reato?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48360" y="2924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NZIONI (art. 25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 non realizza il progetto approvato (realizzazione = causa di non punibilità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56360" y="2928960"/>
            <a:ext cx="32032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ANZIONI (art. 25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e non realizza il progetto appro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realizzazione = causa di non punibilità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0" y="785880"/>
            <a:ext cx="91454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2276640"/>
            <a:ext cx="91454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500360" y="764640"/>
            <a:ext cx="45720" cy="6093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1456800">
            <a:off x="4858920" y="2997360"/>
            <a:ext cx="863640" cy="4316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4654440"/>
            <a:ext cx="8353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494320"/>
            <a:ext cx="568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2133720"/>
            <a:ext cx="846000" cy="503280"/>
          </a:xfrm>
          <a:prstGeom prst="rightArrow">
            <a:avLst>
              <a:gd name="adj1" fmla="val 50000"/>
              <a:gd name="adj2" fmla="val 4202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98640" y="2878200"/>
            <a:ext cx="233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Showcard Gothic"/>
              </a:rPr>
              <a:t>CARATTERIZZAZIONE E ANALISI DI RISC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356000" y="4437000"/>
            <a:ext cx="1008000" cy="504720"/>
            <a:chOff x="4356000" y="4437000"/>
            <a:chExt cx="1008000" cy="504720"/>
          </a:xfrm>
        </p:grpSpPr>
        <p:sp>
          <p:nvSpPr>
            <p:cNvPr id="98" name=""/>
            <p:cNvSpPr/>
            <p:nvPr/>
          </p:nvSpPr>
          <p:spPr>
            <a:xfrm>
              <a:off x="4356000" y="4437000"/>
              <a:ext cx="1008000" cy="50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00360" y="447336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</a:rPr>
                <a:t>CS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610240" y="4424400"/>
            <a:ext cx="177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Showcard Gothic"/>
              </a:rPr>
              <a:t>MONITORAGG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9515000">
            <a:off x="4858920" y="1988640"/>
            <a:ext cx="804960" cy="432000"/>
          </a:xfrm>
          <a:prstGeom prst="rightArrow">
            <a:avLst>
              <a:gd name="adj1" fmla="val 50000"/>
              <a:gd name="adj2" fmla="val 46583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80000" y="2349360"/>
            <a:ext cx="324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Showcard Gothic"/>
              </a:rPr>
              <a:t>AZIONI DI MITIGAZIONE DEL RISC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9640" y="2128680"/>
            <a:ext cx="2147760" cy="5806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Harlow Solid Italic"/>
              </a:rPr>
              <a:t>Sito potenzialmente contamin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1640" y="1844640"/>
            <a:ext cx="26636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&gt; CSR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= Sito contamin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1760" y="3933720"/>
            <a:ext cx="31082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&lt; CS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= Sito non  contamin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2133720"/>
            <a:ext cx="49536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44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SC e C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84360" y="4437000"/>
            <a:ext cx="1079280" cy="504720"/>
            <a:chOff x="684360" y="4437000"/>
            <a:chExt cx="1079280" cy="504720"/>
          </a:xfrm>
        </p:grpSpPr>
        <p:sp>
          <p:nvSpPr>
            <p:cNvPr id="110" name=""/>
            <p:cNvSpPr/>
            <p:nvPr/>
          </p:nvSpPr>
          <p:spPr>
            <a:xfrm>
              <a:off x="684360" y="4437000"/>
              <a:ext cx="1008000" cy="50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6120" y="4471920"/>
              <a:ext cx="94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</a:rPr>
                <a:t>CS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V="1">
            <a:off x="1187280" y="909360"/>
            <a:ext cx="0" cy="3529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859280" y="909360"/>
            <a:ext cx="0" cy="3529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17680" y="422280"/>
            <a:ext cx="16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44280"/>
            <a:ext cx="878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3160" y="20192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4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alisi di Rischio: defini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208160"/>
            <a:ext cx="864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alisi di rischio sanitario e ambientale sito specif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alisi sito specifica degli effetti sulla salute umana derivanti dall’esposizione prolungata all’azione delle sostanze presenti nelle matrici ambientali contaminate, condotta con i criteri indicati nell’Allegato 1 alla parte quarta del presente dec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art. 240, comma 1, lett. 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17680" y="422280"/>
            <a:ext cx="16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44280"/>
            <a:ext cx="878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13160" y="20192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1197000"/>
            <a:ext cx="43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981000"/>
            <a:ext cx="85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44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SC e CSR: defini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9079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836640"/>
            <a:ext cx="864216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ncentrazione Soglia di Contaminazione (S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ivelli di contaminazione delle matrici ambientali che costituiscono valori al di sopra dei quali è necessaria la caratterizzazione del sito e l’analisi di rischio sito specifica, come individuati nell’allegato 5 alla parte quarta del presente decreto. Nel caso in cui il sito potenzialmente contaminato sia ubicato in un’area interessata da fenomeni antropici o naturali che abbiano determinato il superamento di una o più concentrazioni soglia di contaminazione, queste ultime si assumono pari al valore di fondo esistente per tutti i parametri super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art. 240, comma 1, lett.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ncentrazioni Soglia di Rischio (C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ivelli di contaminazione delle matrici ambientali, da determinare caso per caso con l’applicazione della procedura di analisi di rischio sito specifica secondo i principi illustrati nell’allegato 1 alla parte quarta del presente decreto e sulla base dei risultati del piano di caratterizzazione, il cui superamento richiede la messa in sicurezza e la bonifica. I livelli di concentrazione così definiti costituiscono i livelli di accettabilità per il s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art. 240, comma 1, lett.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17680" y="422280"/>
            <a:ext cx="16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44280"/>
            <a:ext cx="878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3160" y="20192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1197000"/>
            <a:ext cx="43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981000"/>
            <a:ext cx="85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44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onifica: defini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134136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Bonif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L’insieme degli interventi atti ad eliminare le fonti di inquinamento e le sostanze inquinanti  o a ridurre le concentrazioni delle stesse presenti nel suolo, nel sottosuolo e nelle acque sotterranee ad un livello uguale o inferiore ai valori delle concentrazioni soglia di rischio (C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(art. 240, comma 1, lett.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12:32:42Z</dcterms:created>
  <dc:creator>Tes02</dc:creator>
  <dc:description/>
  <dc:language>en-US</dc:language>
  <cp:lastModifiedBy>Pautasso</cp:lastModifiedBy>
  <dcterms:modified xsi:type="dcterms:W3CDTF">2006-07-06T15:15:22Z</dcterms:modified>
  <cp:revision>48</cp:revision>
  <dc:subject/>
  <dc:title>Diapositiva 1</dc:title>
</cp:coreProperties>
</file>