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053-C290-4BE4-8574-D87E8214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2A3-5FEC-40CB-BC51-ED9BFE8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98A-17D5-42AF-B0B0-4D4E40C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C62-1C40-4CBC-BA15-0D995E6B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7833-DCD9-4E7E-B128-98949A57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E160-A9FE-4BCC-8EB8-509F8110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8EFC-5CFE-4D0F-A09B-B047F68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0352-713C-49C7-81AE-C5B103A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121A-5170-408D-9206-8094E36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605-A3FC-4D67-BED8-2D2547F9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A60-34FC-46BD-9B63-5B2702A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9B1-C8B1-4CF2-A11F-ACC13A0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327E-6D4E-4B86-946E-5D8CB9C6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372-468E-4418-B129-0219930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651-26B0-4644-A9A4-0521779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F5F5-C062-4FFD-8655-C7842264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80ED-A336-43FB-89D9-B6A12292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AA10-76CC-44D9-BD06-45BC2681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118E-EC17-4350-ADCF-C63EA48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4F4C-C37C-4BDD-856B-49E8351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5961-600A-4CA3-B1DD-2C39CFE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1E16-A330-4D86-9C62-39C76730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97B-3A68-4A63-BDC6-1CF299D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4E44-24C4-4817-B1B6-A01B3AA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8196-62FF-4F29-810D-C4AED15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5021-7093-4976-B5E5-FCA3B94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273C-7372-46B9-8AB6-CF4A51C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F45B-DB7E-4C5E-9A85-2D47CDB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55C9-5BFE-4337-A56F-134BC32C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0E74-3819-4398-808D-9FD0D59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CAB-BFF6-41E3-BF18-A7ED837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178-0028-4B4A-87DF-CB28729E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539-05EC-4FFE-9688-5A99BAE3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739-AA58-4BA0-893E-63319DD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58A-1AE5-4F7F-85A1-80078F1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677-233A-4DA1-B258-5A375DE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798-7C44-4AB2-A6AD-E7016A44B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590920" y="6324480"/>
          <a:ext cx="3962160" cy="27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6324480"/>
                    <a:ext cx="39621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385128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1EAE-486C-40DB-A41F-162458D9C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6324480"/>
          <a:ext cx="3962160" cy="27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6324480"/>
                    <a:ext cx="39621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AC8-D679-41C0-94EC-E6615AAC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Legislativo 3 aprile 2006, n. 15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clusioni dall’autorizz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alimentati a biogas di potenz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3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pi elettrogeni di cogenerazione alimentati a metano o GPL, di potenza &lt; 3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pi elettrogeni di cogenerazione alimentati a benzina di potenza &lt; 1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connessi ad attività di stoccaggio di prodotti petroliferi funzionanti per meno di 2200 ore annue, di potenza &lt; 5 MW se a metano o GPL, e &lt; 2,5 MW se a gasol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emergenza, sicurezza, laboratori di analisi e ricerca, impianti pilota per prove, ricerche, sperimentazione, individuazione di prototipi (tranne in caso di emissioni di sostanze cancerogene, tossiche per la riproduzione o mutagene o di tossicità e cumulabilità particolarmente elevate – parte II, allegato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79B-49C7-48D7-89D7-2A1F6E6C13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clusioni dall’autorizz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impianti elencati, l’A.C. può prevedere l’obbligo di comunicare, in via preventiva, la data di messa in esercizio o di avvio dell’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rme di cui al Titolo I non si applicano agli impianti e alle attività di cui all’elenco della parte I dell’allegato IV (impianti con emissioni scarsamente rilev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li impianti e attività l’A.C. può prevedere una comunicazione che attesti il ricadere in tale elenco nonché, in via preventiva, la data di messa in esercizio o inizio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49F-AF38-4D95-90DC-9A6E00DFD5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clusioni dall’autorizz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inoltre esclusi gli impianti di deposito di oli minerali, compresi gas liquefatti. I gestori devono comunque adottare misure per contenere le emissioni diffuse e le disposizioni eventualmente impartite dall’A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D53-86CD-4428-84AD-B9322A06DC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ttura della domanda di autorizza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760" y="1883880"/>
            <a:ext cx="823104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a all’A.C. accompagnata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tto dell’impi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iche adottate per limitare le emissioni in quantità e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alità di eserc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, quantità e caratteristiche dei combustibili uti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zione tecnica di descrizione del processo produttivo in cui si inserisce l’attività a cui l’impianto è destinato e indicante il periodo intercorrente tra messa in esercizio e messa a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188-D1E3-4DB7-96D1-64EE95A5C5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r autorizzativ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.C. procede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vocazione entro 30 gg dalla domanda di una conferenza d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nuncia entro 120 gg (150 in caso di integraz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o di mancata pronuncia il gestore può, entro 60 gg, richiedere il pronunciamento del Ministro dell’ambiente che si esprime, di concerto con quello della salute e delle attività produttive, sentito il Comune interessato, entro 90 gg (150 gg per i casi di presentazione della nuova domanda per impianti anteriori al 1988 e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13F-8C7F-4907-A427-5E9B0FB253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uti dell’autorizza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utorizzazione stabilis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tà di captazione e convogliamento per le emissioni convogliabi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ori limite di emissione, prescrizioni, metodi di campionamento e analisi, criteri per la valutazione della conformità dei valori misurati ai valori limite, periodicità dei controlli in capo al ge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crizioni per il contenimento delle emissioni diff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o intercorrente tra messa in esercizio (da comunicarsi almeno 15 gg prima) e messa a reg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data per comunicare i dati relativi alle emissioni effettuate in un periodo continuativo non &lt; 10 gg dalla messa a regime, la durata di detto periodo e il numero di campiona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15F-B3B7-4658-8A0D-1B4E6F57BE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a dell’autorizza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domanda di rinnovo deve essere presentata almeno un anno prima della sca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caso di mancata risposta dell’A.C. occorre presentare la domanda al Ministero per poter continuare l’attività anche successivamente la scadenza dell’autor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’aggiornamento dell’autorizzazione comporta un nuovo periodo di 15 anni solo in caso di modifica sosta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6ED-641A-4B7A-BD7F-3F1D905838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odific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variazione di quanto indicato nel progetto, nella relazione tecnica o nell’autor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ifica sostan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difica che comporta un aumento o una variazione qualitativa delle emission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che modifica le modalità di convogl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375-69C4-4755-9B41-15511B16BF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a modifica (anche delle modalità di esercizio e circa l’utilizzo di combustibili) deve essere comunicata all’A.C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 sostanziale, l’A.C. ordina la presentazione di una domanda di aggior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 non sostanziale, l’A.C. provvede, se necessario, all’aggiornamento dell’autorizz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 l’A.C. non si pronuncia entro 60 gg. il gestore può procedere all’esecuzione della modifica comunicata (l’A.C. può comunque pronunciarsi entro 6 mes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la modifica è sostanziale il gestore può presentare direttamente domanda di autorizzazione evitando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C1A-7CD1-487F-A6A9-15889980A8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ogliamento delle emiss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’A.C. verifica se le emissioni diffuse di un impianto o macchinario sono convogliabili sulla base delle migliori tecniche disponibili e, in tal caso, ne dispone la captazione e il convogl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iascun impianto o macchinario deve avere un solo punto di emissione, salvo impossibilità tecnica, nel qual caso i limiti in flusso di massa o in fattore di emissione sono riferiti all’impianto nel suo complesso. Gli impianti preesistenti si adeguano entro i tre anni successivi al primo rinnovo dell’autor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3AA-484F-4229-AC38-E03AD347CD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ttu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quinta del codice, 32 articoli, 10 all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olo I – Prevenzione e limitazione delle emissioni in atmosfera di impianti e attività (artt. 267-2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olo II – Impianti termici civili (artt. 282-2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olo III – Combustibili (artt. 291-2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D0E-5CD4-44B6-AC41-7E0F85EF90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miti per gli impianti ex art. 12 del D.P.R. 203/1988 sono riportati in allegat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impianti autorizzati ex art. 15 del D.P.R. 203/1988 valgono le autorizzazioni in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impianti nuovi l’A.C. autorizza, in attesa di specifici decreti ministeriali, sulla base delle migliori tecnologie e con valori comunque non superiori a quelli minimi dell’allegat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195-0E82-48CB-983D-A7E73102EE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og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articolari categorie di impianti l’A.C. può prevedere autorizzazioni di carattere generale. A tali autorizzazioni, l’A.C. deve provvedere entro 2 anni dall’entrata in vigore della parte quinta del decreto per gli impianti e le attività elencate nella parte II dell’allegato IV (se non provvede l’autorizzazione in via generale è rilasciata dal Ministro dell’ambiente e i gestori comunicano la loro adesione all’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FE4-77FE-46D2-B1D1-96D365777D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og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gestore di tali impianti o attività presenta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meno 45 gg pri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una domanda di adesione all’autorizzazione in via gene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’A.C. procede ogni 15 anni al rinnovo di tali autorizz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le autorizzazioni rilasciate ai sensi del DPCM 21.07.89 e del DPR 25.07.91, il primo rinnovo è effettu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 conformi alle nuove disposizioni, entro 15 an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 non conformi, entro un an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i casi di rinnovo l’esercizio dell’impianto/attività può continuare se entro 60 gg dall’adozione della nuova autorizzazione generale, il gestore presenta domanda di adesione con progetto di adeguamento e se l’adesione non è neg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1C5-9491-4B65-8FC7-2B4F636F07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ti organici volatili (COV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gestore che eserciti una o più attività di cui all’all. III, parte II (impianti che emettono COV) deve presentare domanda di autor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utorizzazione stabilisce i valori limite da rispettare nonché il consumo max teorico di solvente, l’emissione totale annua e la periodicità dell’aggiornamento del piano di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9D0-C9F6-412D-8D40-9E1909AFDF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ttività già autorizzate prima del 13 marzo 2004 le emissioni devono essere adeguate entro il 31 ottobr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deguamento deve avvenire sulla base dei progetti presentati all’A.C. ai sensi del D.M. 44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o di mancata presentazione del progetto o di diniego dello stesso, le attività si considerano in esercizio senza autor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fatte salve autorizzazioni anteriori al 13 marzo 2004 qualora prevedano un maggior contenimento delle emis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990-DC43-4B97-90AD-4310A33337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e attività in oggetto sono esclusivamente svolte da macchinari non fissi o da operazioni manuali, e in esercizio prima dell’entrata in vigore della parte V del Decreto, l’adeguamento deve intervenire entro il 31 ottobre 2007 e l’autorizzazio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e essere chiesta entro 6 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BCA-B2BD-4350-8A50-ACC5E5472F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333360"/>
            <a:ext cx="82310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IANTI A CICLO CHIUSO DI PULIZIA A SECCO DI TESSUTI E DI PELLAMI (escluse le pellicce) E DELLE PULITINTOLAVANDER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68200"/>
            <a:ext cx="82296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’A.C. non ha adottato autorizzazioni in via generale, i gestori comunicano alla stessa di aderire all’autorizzazione di cui alla parte VII dell’allegato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amente all’adozione da parte dell’A.C. di autorizzazioni generali, il gestore aderirà alle stesse con decadimento di quella prevista alla parte VII dell’allegato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185-7A01-4880-AC39-C2DFEC4186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 – modifiche sostanzial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modifiche sostanzi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le attività a ridotte dimensioni, una modifica del consumo max teorico di solventi che comporta un aumento delle emissioni di COV &gt;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ltre attività, aumento delle emissioni di COV &g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siasi modifica che a giudizio dell’A.C., potrebbe avere effetti negativi significativi su ambiente e salute 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siasi modifica del consumo massimo teorico di solventi che comporti la variazione dei valori limite applic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934-AC9C-4E03-88A7-9699019243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V – attiv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a ridotte dimens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attività indicate ai punti: 1, 3, 4, 5, 8, 10, 13, 16 o 17 , parte III dell’all. III aventi un consumo max teorico di solventi inferiore o uguale alla più bassa delle soglie di consumo indicate nella terza col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altre attività indicate nella parte III aventi un consumo max teorico di solventi inferiore alle 10 t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A80-4A91-4795-8A35-A6C59A42E1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 impianti di combust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zioni applicabili agli impianti di potenzialità termica nominale non inferiore a 50 MW, esclusi quelli che utilizzano direttamente i prodotti di combustione nei processi produ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miti per gli impianti nuovi e esistenti sono riportati nell’allegato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à in sede di rilascio dell’autorizzazione che impianti di potenzialità inferiore a 50 MW vengano considerati come un unico impianto se le emissioni possono essere convogliate ad un unico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nuncia annuale ad APAT entro il 31 m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t. 273-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DEA-BA71-4237-8809-E1C5F6382A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etti general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rticolato e gli allegati derivano dall’accorpamento in un unico testo del D.P.R. 203/1988 con i successivi decreti attuativi e con le norme sugli impianti termici civ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disposizioni preesistenti sono integrate con alcune prescrizioni nuove che appesantiscono il quadro degli adempimenti e dei vin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EFB-B18A-4E00-8A1D-CB2AE77FE0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osizioni transitor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gestori provvisti di autorizzazione, anche in forma tacita o provvisoria, dovranno presentare nuova domanda di autorizzazione secondo calendari fissati dalle regioni/ province autonome e che comunque rispettino la seguente tempis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mpianti ante 198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ra l’entrata in vigore della parte V del decreto e il 31/12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mpianti autorizzati prima del 1° gennaio 20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ra il 1/1/2011 e il 31/12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 impianti anteriori al 2006 e autorizzati in data successiva al 31 dicembre 199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ra l’1/1/2015 e il 31/12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2A8-55AA-4EF3-9E29-CA6BA27860F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osizioni transitor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i impianti esistenti non rientranti nell’ambito del 203/1988 e ora ricompresi nel campo di applicazione del decreto devono essere adeguati entro 3 anni; se soggetti ad autorizzazione, questa deve essere presentata almeno 18 mesi prima del termine di adegu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 le attività poco significative o a ridotto inquinamento che ora sono tenute ad apposita autorizzazione, la relativa domanda deve essere presentata entro 15 m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BDE-FB1E-4580-BE24-C376410C42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33336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osservanza prescrizioni autorizz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388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o di inosservanza delle prescrizioni contenute nell’autorizzazione, l’A.C., a seconda della gravità dell’infrazione proced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un termine per sanare l’irregola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ida con sospensione dell’attivit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un periodo determinato in caso di pericolo per la salute o per l’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voca dell’autorizzazione e cessazione dell’attivit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aso di mancato adeguamento a quanto impartito con la diffida o qualora la reiterata inosservanza delle prescrizioni comporti situazioni di pericolo o di danno per la salute o per l’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1CB-3A1B-4541-847C-A2D6EB93E7A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 inizia a installare o esercisce un impianto o chi esercita un’attività senza autorizzazione, con autorizzazione scaduta, decaduta, sospesa, revocata o dopo l’ordine di chiusura o cess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da 2 mesi a 2 anni o ammenda da 258 a 1.03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 attua una modific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stan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za autorizz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 6 mesi o ammenda fino a 1.03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 attua una modific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n sostanzia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enza la preventiva comunic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menda fino a 1.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E18-7A28-4E64-A269-F44AB8482B6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zione dei limiti di emissione o le prescrizioni dell’autorizzazione, dell’allegato 1 o comunque imposte dall’A.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d 1 anno o ammenda fino a 1.032 €; sempre l’arresto fino a 1 anno se il superamento dei valori limite comporta anche il superamento dei valori limite di qualità dell’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a comunicazione della messa in eserciz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 1 anno o ammenda fino a 1.03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B2A-4A6D-4F01-AB03-490883CFB0D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a comunicazione dei dati sulle emiss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 6 mesi o ammenda fino a 1.03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a adozione delle misure atte a evitare un aumento anche temporaneo delle emissioni per impianti autorizzati in via provvisoria o tacita, fino alla pronuncia defini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 1 anno o ammenda fino a 1.03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03B-9EB4-463C-9187-1C9AAB62658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olo II - Campo di applica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applica agli impianti termici civili con potenza termica nominale &lt; alle soglie stabilite dall’art. 269, comma 14 (impianti non sottoposti ad autorizzazione di cui al Titolo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li impianti con potenza termica nominale uguale o superiore alle soglie di cui sopra o per quelli con potenza &gt; 3 MW e che utilizz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bone da va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ke metallurgico o d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racite, prodotti antracitosi o loro misc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applicano le disposizioni del Tito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F97-0468-4C04-A38D-01BFA9B4D55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ali definiz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mpianto termico civi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mpianto la cui produzione di calore è destinata al riscaldamento/climatizzazione degli ambienti o al riscaldamento di acqua per usi igienici e sanit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tenza termica nomin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omma delle potenze termiche nominali dei singoli focolari che costituiscono l’impia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alore di sog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otenza termica nominale dell’impianto pari a 0,035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esponsabile dell’esercizio e della manuten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oprietario o terzo incaricato (art. 11, comma 1, D.P.R. 412/199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utorità compet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muni se &gt; 40.000 abitanti, altrimenti Provi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BBF-3AD3-4325-AB76-85110183FE3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atteristiche e limit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ratteristiche tecniche da rispettare per gli impianti con potenza &gt; al valore soglia sono riportate nella parte II dell’allegato 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stessi impianti i valori limite sono riportati nella parte III dell’allegato 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valori di emissione sono controllati almeno an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ono essere allegati al libretto di centrale i valori di emissione misurati e le indicazioni sul metodo di misura, le date di effettuazione, e il soggetto che ha effettuato le mi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1E9-6C9C-49AA-A7A0-5D6293D54A2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atteristiche e limit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misure annuali non sono dovute qualora l’impianto utilizzi i seguenti combustibil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 natu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 di cit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 di petrolio liquefa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olio, kerosene e altri distillati leggeri o medi di petrolio (vedi caratteristich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ulsioni acqua/gasolio, acqua/kerosene, acqua/altri distillati leggeri o medi di petrolio (vedi caratteristich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disel (vedi caratteristich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siano regolarmente effettuate le manutenzioni di cui al D.P.R. 412/19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1E0-8596-44E6-9498-815ACA4D4D2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e abrog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R. 203/1988 (preesistente norma quad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M. 8 maggio 1989 (grandi impianti di combust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C.M. 21/7/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M. 12/7/1990 (limiti agli impianti esist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R. 25/7/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M. 21/12/1995 (metodi di controllo emiss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M. 44/2004 (CO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 615/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R. 1391/1970 (impianti termici civi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C.M. 395/2001 (zolfo in combustibili liqui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P.C.M. 8/03/2002 (combustibi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8720" y="1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t. 280,289,2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BB5-C458-4D26-ADF2-91CA806B6E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allazione e modifi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tro 90 gg. dall’installazione/modifica di un impianto termico civile di potenza termica sopra soglia, il responsabile dell’esercizio trasmette all’A.C. denuncia redatta dall’installatore mediante apposito modulo (allegato IX, parte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 gli impianti in esercizio la denuncia è redatta e trasmessa dal responsabile dell’esercizio accompagnata dai documenti allegati al libretto di centrale (misure), entro il 29 april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040-1D37-497B-B9E4-8852A9F0298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dimento di combust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ingoli impianti di combustione devono essere dotati di rilevatori della temperatura negli effluenti gassosi e di un analizzatore per la misurazione e la registrazione in continuo dell’ossigeno libero e del monossido di carbonio se di potenza termica pari o superior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 MW se soggetti al Titolo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W se soggetti al Titolo I (salvo che l’autorizzazione non prescriva un limite al monossido di carbo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9CA-0ABC-4941-9860-62430B1B19A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ilitazione alla condu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la conduzione di impianti con potenza termica &gt;  0,232 MW, il personale addetto necessita di patentino rilasciato previo corso, dall’Ispettorato provinciale del lavo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entino I° g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ilitazione alla conduzione degli impianti termici per cui è richiesto il certificato di abilitazione alla conduzione dei generatori di vapore (R.D. 824/19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entino II° g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ilitazione per gli altri imp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atentino di I° grado assorbe quello di II° grado; il possesso di un certificato di abilitazione per i generatori di vapore esonera dall’e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164-34A3-49F9-B8C0-2F9B33A3855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a redazione della denuncia (installazione o modifica), redazione incompleta o mancata trasmissione della stes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pecuniaria da 516 € a 2.58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ianto non conforme alle caratteristiche tecn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da 516 € a 2.58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o rispetto dei valori limite e mancato controllo annu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da 516 € a 2.58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0DB-E813-4CCF-88C7-598C85484B6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olo III - Combustibil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mbustibili consentiti sono indic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impianti del Titolo I nell’allegato X, parte I, sezion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gli impianti del Titolo II nell’allegato X, parte I, sezion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EED-1E96-4074-BF04-6CDD30E206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one di materiali e sostanze non conformi, ma non costituenti rifiu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 2 anni o ammenda da 258 a 1.032 € se in impianti del Tito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da 200 a 1.000 € se in impianti del Titolo II (salvo che dalla documentazione risulti la conformità, nel qual caso di applica l’art. 515 del c.p. per chi ha effettuato la messa in commer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83F-0796-4FC0-8BD5-CEE62E98450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zio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o rispetto delle prescrizioni sul controllo in continuo del rendimento degli impianti di combust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o fino ad un anno o ammenda fino a 1.032 € per gli impianti del Tito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da 516 a 2.582 € per gli impianti del Titolo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ata denuncia degli impianti termici civili di potenza termica nominale &gt; 0,035 M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zione amministrativa da 516 a 2.58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7C3-B12E-476B-BA8B-941E5A7828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mangono in vig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. 549/1993 (sostanze lesive per l’ozono stratosfe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.Lgs. 216/2006 (gas ad effetto ser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posizioni sulla qualità dell’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782-C7E8-4A00-A72F-757684828B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olo I - Campo di applicazi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impianti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lusi gli impianti termici non disciplinati dal Titolo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 le attività che generano emissioni in atmosf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o di applicazione più ampio di quello del D.P.R. 203/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A0-E05C-41B1-9DA8-41900895DA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clus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ianti di cui al D.Lgs.133/2005 (incenerimento rifiu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7E3-821D-4F5E-9293-8AE8E999F2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rizzaz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impianti che producono emissioni in atmosfera devono essere autor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utorizzazione è dovuta per nuovi impianti, trasferimenti e modifiche sostanz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utorizzazione è assorb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’Autorizzazione Integrata Ambientale per gli impianti soggetti alla normativa IPPC (D.Lgs. 59/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’autorizzazione allo smaltimento e recupero di rifiuti in procedura ordinaria (art. 208) o semplificata (artt. 214, 216, per le modifiche sostanziali delle emissioni individuate dalle specifiche norme tecn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984-34D0-4C51-B6BF-F8A06BBAEA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clusioni dall’autorizz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(compresi i gruppi elettrogeni a cogenerazione), di potenza termica nominale &lt; 1 MW, alimentati a biomasse, a gasolio (anche in emulsione), o a biodis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alimentati ad olio combustibile di potenza termica nominale &lt; 0,3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alimentati alimentati a metano o GPL, di potenza termica nominale &lt; 3 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ianti di combustione ubicati all’interno di impianti di smaltimento rifiuti, alimentati da gas di discarica, gas residuati da processi di depurazione e biogas, di potenza termica fino a 3 MW, se l’attività di recupero è soggetta a procedure semplificate e le stesse sono state esple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189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657-BA86-4554-B6A0-3381CC2AB9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7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12Z</dcterms:created>
  <dc:creator>Max</dc:creator>
  <dc:description/>
  <dc:language>en-US</dc:language>
  <cp:lastModifiedBy>m.settis</cp:lastModifiedBy>
  <dcterms:modified xsi:type="dcterms:W3CDTF">2006-07-03T07:17:17Z</dcterms:modified>
  <cp:revision>106</cp:revision>
  <dc:subject/>
  <dc:title>Diapositiva 1</dc:title>
</cp:coreProperties>
</file>