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601-5B16-4A88-9B19-788EABA1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B4D-2DA0-4268-AC1B-919B40FA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F78-E3AF-4785-9673-96E66887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190-5831-4D13-BFE4-16B22635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9375-0E89-410D-A5E5-19323662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8B67-5025-4001-95DE-9841302E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AAB5-944C-4771-B0D1-DCDB5CE5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6498-8CB5-4F0E-94E1-16362910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5A27-826C-4EC4-80B1-C119CE51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29E0-F235-4DE3-8A3E-615B0001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EE5F-575A-4F37-B0E0-ECA5CBB4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4BB-E911-4A02-B1F3-90EB9C1A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43D3-2390-434F-BB33-EC146929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8226-EE4D-4E3C-8F19-F7F7335A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D14E-C37E-470B-A483-25EB13C4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1186-8BDF-423C-A10C-05194570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3763-AC2C-4F93-BF8D-8A24BD1B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9A2-AA2F-4F7D-ADDF-398B3458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9CC-642E-47B9-ACB1-88E7256E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E53-8DA3-4AA7-B25D-724ABA6C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871-D00C-47EB-9467-F4F8E10C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969-B5F3-4222-A67B-8523DA69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825-0039-46BD-A9A6-34733B7C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74E-962B-4DB5-9329-2F73A005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C36B-637E-4D7F-99A1-364C79C294F1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FDD6-B5B9-49D9-A201-C0475D989234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40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’EVOLUZIONE DELLA LEGISLAZI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RA LE ATTUALI INCERTEZZE E LE NUOVE PROSPETTIV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manato ai sensi della cd. “delega ambientale”,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egge 308/04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in procedura di infrazione per n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conformità all’art.1 della direttiva 91/156/Cee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), ha riscritto le regole su valutazione di impatt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mbientale, difesa del suolo e tutela delle acque, gestione dei rifiuti, riduzione dell’inquinament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tmosferico e risarcimento dei danni ambientali, abrogando la maggior parte dei previgent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rovvedimenti di settor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ntrato in vigore il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29 aprile 2006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, per le parti III^ (acque), IV^ (rifiuti e bonifiche), V^ (aria) e VI^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(danno ambientale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ntrata in vigore il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12 agosto 2006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, per la parte II^ (VIA, VAS e IPPC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ono stati emanati 19 decreti attuativi del DLgs.152/06, i DD.MM. 2 maggio 2006, di cui n.14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nteressanti la parte IV^, n.5 interessanti la parte III^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26 giugno 2006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il MATT, con comunicato pubblicato sulla G.U.n.146/06, ha dato avviso che n.17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D.MM, non possono considerarsi giuridicamente produttivi di effetti, non essendo stat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reventivamente inviati alla Corte dei Conti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30 giugno 2006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il CdM ha approvato uno schema di decreto “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Disposizioni integrative e correttiv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del DLgs.152/06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”, per la riscrittura delle norme in materia di acque e rifiuti (30.11.06) ed il restyling de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Lgs.152/06 (31.01.07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irettiva del Parlamento e del Consiglio Europea 2006/12/CE del 5 aprile 2006 relativa ai rifiut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(considerando p.5) – “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Potrebbe risultare necessario adottare apposite norme per i rifiuti riutilizzabili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”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02920" y="2133720"/>
            <a:ext cx="6481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E ATTIVITA’ DI CONTR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E DIFFICOLTA’ CHE EMERGONO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a legge delega n.308/04, riconosce in modo univoco il ruolo strategico dell’attività di vigilanza ambientale. Invero esaminando alcune disposizioni del DLgs.152/06, emergono difformità con i principi delineati dalla delega in materia di controlli e la loro attuazione (incremento dell’efficienza e della tempestività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rt.195, c.5 (funzioni “suppletive” di alcuni corpi di polizia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rt.193, c.8 (utilizzazione fanghi in agricoltura - esclusione dall’applicazione delle disposizion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elative al trasporto dei rifiuti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rt.190, c.2 (allungamento dei tempi per l’effettuazione delle annoatzioni sui registri di carico 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carico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rt.183, c.1, lett.n) (ceneri di pirite), lett.u) (mps rottami ferrosi) – lett.s) e art.229, c.2 (cdr) – art.18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(terre e rocce da scavo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rt.230        (ampliamento della nozione di luogo di produzione di cui all’art.183, c.1, lett.i)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e definizioni di “non rifiuto” (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sottoprodotto, 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materia prima secondaria, m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ateria prima secondaria fin dall’origine)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, oltre a porre problemi sul piano del contrasto con le norme comunitarie sulla gestione die rifiuti, sul piano della legittimità costituzionale (art.76 della Costituzione - violazione dei principi di delega), introducono “oggettive difficoltà” nell’espletamento delle attività da parte degli organi di controllo. La Commissione UE, con un comunicato del 3 luglio, ha annunciato che ricorrerà alla Corte Europea di Giustizia con riferimento all’esclusione dal regime dei rifiuti ex legge 308/04 e DLgs.152/06.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40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A NUOVA ORGANIZZAZIONE DEL SERVIZIO DI GESTIONE INTEGR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rtt. 200 - 2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a gestione dei RU è organizzata sulla base di ATO (art.200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’AdA aggiudica il servizio mediante gara (art.202, c.1), gli impianti e le altre dotazioni patrimonial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egli EE.LL. già esistenti al momento di assegnazione del servizio sono conferiti, in comodato, a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oggetti affidatari del servizio (art202, c.4) - (ex 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D.M. 2 maggio 2006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) – la realizzazione dei nuov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mpianti è regolamentata con le procedure previste dall’art.202, c.5;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 rapporti tra le AdA ed i soggetti affidatari dei servizi sono regolati da un contratto di servizi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conforme allo “schema tipo” adottato dalla Regione in conformità ai criteri ed agli indirizzi d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cui all’art.195, c.1, lett.m),n),o) - (art.203, c.1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i fini della definizione dei contenuti dello schema di contratto di servizio, l’AdA opera la ricognizion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elle opere e degli impianti esistenti e trasmette alla Regione i relativi dati (art.203, c.3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 soggetti che esercitano il servizio (gestioni esistenti), continuano sino all’istituzione 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rganizzazione del servizio di gestione integrata dei rifiuti da parte dell’AdA (art.204, c.1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’AdA dispone i nuovi affidamenti, in relazione alla scadenza del termine di cui all’art.113, c.15-bi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el DLgs.267/00, entro 9 mesi dall’entrata in vigore della parte IV^ del DLgs.152/06 - (art.204,c.2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n caso di inadempienza, il Presidente della G.R. esercita i poteri sostitutivi, nominando u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commissario ad acta” (art.204, c.3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lla scadenza o all’anticipata risoluzione delle gestioni esistenti gli impianti delle imprese gi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concessionarie sono trasferiti direttamente all’ente locale concedente nei limiti e secondo le modalit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reviste dalle rispettive convenzioni di affidamento (art.204, c.4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4008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E MODIFICHE INFLUENTI SULLA PROGRAMMAZI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E ATTIVITA’ DI RD e TRATTAMENTO DEI RIFIUT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uova definizione di RD (art.183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biettivi di RD per ATO (35% - 2006, 45% - 2008, 65% - 2012) – art.205,c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a frazione organica umida separata fisicamente </a:t>
            </a:r>
            <a:r>
              <a:rPr b="1" lang="it-IT" sz="1000" spc="-1" strike="noStrike" u="sng">
                <a:solidFill>
                  <a:srgbClr val="ffffff"/>
                </a:solidFill>
                <a:uFillTx/>
                <a:latin typeface="Arial"/>
              </a:rPr>
              <a:t>dopo la raccolta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e finalizzata al recuper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complessivo tra materia ed energia contribuisce al raggiungimento degli obiettivi (art.205, c.2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eve essere garantita una copertura omogenea del territorio in ciascun ATO e nel caso non sian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garantiti sistemi efficaci di RD dei rifiuti di imballaggio, l’Autorità (art.207), può richiedere al CONAI d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ostituirsi ai gestori dei servizi, anche avvalendosi di soggetti pubblici o privati (art.222, c.2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el caso non siano raggiunti gli obiettivi, si applica una addizionale del 20%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ull’ecotassa a carico dell’AdA, che ne ripartisce gli oneri tra i singoli Comuni inadempienti (art.205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c.3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’ prevista l’emanazione di un DM per stabilire la metodologia ed i criteri di calcol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elle % di RD, in attesa, si continua ad applicare la legge n.549/95 (Tributospeciale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e frazioni di rifiuti oggetto di RD hanno </a:t>
            </a:r>
            <a:r>
              <a:rPr b="1" lang="it-IT" sz="1000" spc="-1" strike="noStrike" u="sng">
                <a:solidFill>
                  <a:srgbClr val="ffffff"/>
                </a:solidFill>
                <a:uFillTx/>
                <a:latin typeface="Arial"/>
              </a:rPr>
              <a:t>libertà di circolazione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sul territorio nazionale (art.182, c.5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 rifiuti derivanti dalle attività di </a:t>
            </a:r>
            <a:r>
              <a:rPr b="1" lang="it-IT" sz="1000" spc="-1" strike="noStrike" u="sng">
                <a:solidFill>
                  <a:srgbClr val="ffffff"/>
                </a:solidFill>
                <a:uFillTx/>
                <a:latin typeface="Arial"/>
              </a:rPr>
              <a:t>selezione meccanica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dei rifiuti solidi urbani, sono classificati “rifiut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peciali” (art.184, c.3, lett.n)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e Regioni, previa intesa con il MATT, possono indicare maggiori obiettivi di riciclo e recuper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(art.205, c.6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E MODIFICHE INFLUENTI LA PROGRAMMAZI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L RECUPERO DEI RIFIUT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uolo degli Accordi di programma (art.181, c.7) che contengono, per ciascun tipo di attività, tipi e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quantità di rifiuti e le condizioni alle quali l’attività di recupero è dispensata dall’autorizzazion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(art.181, c.9) e sono approvati con DM e pubblicati in G.U. (art.181, c.9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 soggetti firmatari degli accordi sono iscritti presso un’apposita sezione dell’Albo (art.181, c.10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a disciplina in materia di gestione dei rifiuti si applica sino al completamento delle operazioni d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ecupero che si realizza quando non sono più necessari ulteriori trattamenti perché le sostanz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ossono essere utilizzate in un processo industriale o commercializzate (art.181, c.12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a disciplina  in materia di gestione dei rifiuti non si applica alle sostanze che, senza necessità d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rasformazione, già presentano le caratteristiche delle MPS, dei combustibili o dei prodotti individuat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i sensi dell’art.181, salvo il disfarsi degli stessi (art.181, c.13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 soggetti che trasportano o utilizzano MPS, combustibili o prodotti, nel rispetto dell’art.181, non son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ottoposti alla normativa dei rifiuti (art.181, c.14)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er le attività di recupero agevolato dei rifiuti non pericolosi è stato emanato il D.M. 5 aprile 2006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.186 “Regolamento recante modifiche al DM 05.02.1998” – G.U. 19.05.2006, n.115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E MODIFICHE INFLUENTI LA PROGRAMMAZI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O SMALTIMENTO DEI RIFIUT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stituisce la parte residuale della gestione dei rifiuti, previa “verifica” da par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ella competente autorità dell’impossibilità tecnica ed economica di esperire 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operazioni di recupero (art.182, c.1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I rifiuti da avviare a smaltimento devono essere il più possibile ridotti sia in mass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he in volume (art.182, c.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E’ vietato smaltire rifiuti urbani non pericolosi in altre regioni (realizzare il principi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ell’autosufficienza nell’ATO (art.182, c.3, lett.a), salvo accordi regionali 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internazionali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ono esclusi dal divieto le frazioni di RU oggetto di RD destinate al recupero c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ono soggette a libera circolazione sul territorio nazionale, privilegiando i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ncetto di prossimità degli impianti (art.182, c.5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a frazione  biodegradabile può essere smaltita negli impianti di depurazione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revia verifica tecnica degli stessi da parte del gestore (art.182, c.8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1844280"/>
            <a:ext cx="68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L NUOVO REGIME AUTORIZZA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APO 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’AUTORIZZAZIONE UN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omanda per la realizzazione e gestione alla regione che entro 30 gg. individua i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responsabile del procedimento e convoca la CdS (preavviso e documentazione 20 g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rima), entro 90 gg. trasmette le proprie conclusioni (art.208, c.3 e 4), entro 30 gg. d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ricevimento delle conclusioni, la regione approva ed autorizza la realizzazione e gestione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ell’impianto (art.208, c.6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’istruttoria si conclude entro 150 gg. (30 gg. Covocaz. CdS – 90 gg. Conclus. CdS – 30 g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doz. atto) (art.208, c.8). I termini sono interrotti una sola volta (art.208, c.9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’autorizzazione è concessa per un periodo di 10 anni (art.208, c.12) ed inserita dall’Alb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in un elenco nazionale (art.209, c.7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e garanzie finanziarie (le agevolazioni per chi è in possesso di certificazion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mbientali è prevista solo per  le autorizzazioni di cui all’art.210, c.3, lett.h), sono prestate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olo al momento </a:t>
            </a:r>
            <a:r>
              <a:rPr b="1" lang="it-IT" sz="1200" spc="-1" strike="noStrike" u="sng">
                <a:solidFill>
                  <a:srgbClr val="ffffff"/>
                </a:solidFill>
                <a:uFillTx/>
                <a:latin typeface="Arial"/>
              </a:rPr>
              <a:t>dell’avvio effettivo dell’esercizio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dell’impianto (art.208, c.11, lett.g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Gli impianti mobili di smaltimento o recupero (con alcune esclusioni), sono autorizzati i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via definitiva dalla regione (art.208, c.15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gevolazioni per le imprese in possesso di certificazione ambientale per l’esercizio di u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impianto e l’iscrizione all’Albo (autocertificazione valevole 180 gg. successivi alla data di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municazione della decadenza) - art.209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rocedimenti pendenti (realizzazione ex art.27 del DLgs.22/97) e conclusa la VIA (art.208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.16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utorizzazioni in ipotesi particolari per impianti esistenti (esercizio) – 90 gg. (art.210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8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L NUOVO REGIME AUTORIZZA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APO 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’A.I.A. sostituisce a tutti gli effetti le autorizzazioni di cui al Capo IV° e le comunicazion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i cui all’art.216 (operazioni di recupero), limitatamente alle attività non ricadenti nel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at.5, All.1 del DLgs.59/05 (art.213, c.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e imprese che effettuano attività di smaltimento dei rifiuti non pericolosi nel luogo d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roduzione ai sensi dell’art.215 (autosmaltimento), sono iscritte dall’Albo in un apposit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registro (art.212, c.24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e imprese che svolgono attività di recupero dei rifiuti ai sensi dell’art.216 (operazioni d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recupero), sono iscritte dall’Albo in un apposito registro (art.212, c.25) che ne da notiz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lla Provincia entro 10 gg. (art.216, c.1), validità 5 anni (art.216, c.5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E’ prevista una “visita preventiva” da parte della Provincia (RAEE, VFU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impianti di coincenerimento (?) – (art.216, c.1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’Albo, verifica d’ufficio la sussistenza dei presupposti e dei requisiti richiesti (art. 216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.3) e, nel caso accerti il mancato rispetto delle norme tecniche e delle condizioni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ropone alla Provincia di disporre il divieto di inizio o di prosecuzione delle attivit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(art.216, c.4), salvo non si adegui entro il termine e le prescrizioni stabiliti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e comunicazioni e le iscrizioni sul recupero agevolato già effettuate restano valide e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efficaci sino alla scadenza dei termini di cui all’art.33, c.5 del DLgs.22/97(art.216,c.15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I soggetti firmatari degli accordi e contratti di programma (artt.181 e 206), sono iscritt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resso un’apposita sezione dell’Albo (art.212, c.22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844640"/>
            <a:ext cx="640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BONIFICHE  DI SITI CONTAMINA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ITOLO 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travolgimento delle procedure vigenti (ex D.M. 471/99) con un accentramento de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ruolo delle Regioni (articoli 239 – 253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a procedura di caratterizzazione e del progetto di bonifica si svolge in conferenz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i servizi, convocata dalla Regione, è previsto che l’iter sia in contraddittorio c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n il soggetto responsabile (art.242, c.4), la Provincia rilascia la certificazione d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vvenuta bonifica (art.242,c.13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Introduzione del concetto dell’analisi di rischio sanitario e ambientale sito specific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econdo i criteri di cui all’Allegato 1 (art.240, c.1,lett.s), livelli di concentrazio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oglia di contaminazione (CSC), livelli di concentrazione soglia di rischio (CS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Introduzione del concetto di messa in sicurezza operativa per siti contaminati c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ttività in esercizio (art.242,c.9 e 10 - Allegato 3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Nel caso di eventi avvenuti anteriormente all’entrata in vigore della parte IV^ de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ecreto (art.242, c.11), le indagini ed attività istruttorie sono svolte dalla Provinci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he si avvale della competenza tecnica dell’ARTA (art.242, c.12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rocedure semplificate per le aree di ridotte dimensioni non superiori a 1.000 mq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(art.249 - Allegato 4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a disciplina del titolo V, non si applica agli abbandoni di rifiuti di cui all’art.192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alvo casi di cui all’art.239, c.2, lett.a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e regioni disciplinano gli interventi di bonifica e ripristino ambientale per le are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aratterizzate da inquinamento diffuso (art.239, c.3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71640" y="1844640"/>
            <a:ext cx="7416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Procedura individuata dal DLgs.152/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Confronto con concentrazioni soglia di contaminazione (Cs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rt.242 “procedure operative ed amministrative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NO SUPERAMENTO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SUPERA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ito non contaminato                                      Sito potenzialmente contamina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Indagine preliminare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                              Piano di caratterizzazione – ai sensi dell’All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rt.242 -  art.304, c.2                                      Applicazione analisi di rischio per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valutare se il sito è realmente contamina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rt.242, c.4 – All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e l’analisi di rischio dimostra che la concentrazione di contaminanti è inferiore alle CSR, si conclude il procedimento con l’approvazione di un programma di monitoraggio, approvato dalla Regione sentita la Provincia (art,242, c.5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e l’analisi di rischio dimostra che il sito è contaminato in quanto la concentrazione di contaminanti presenti nel sito è superiore ai valori di concentrazione soglia di rischio (Csr)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(art.242, c.7), il responsabile presenta entro 6 mesi il progetto operativo per la bonifica o di messa in sicurezza. Segue CdS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rocedura per la messa in sicurezza operativa o permanente (art.242, c.8), sono definiti nell’All.3 e si applicano ai siti contaminati in cui siano presenti attività produttive in esercizio. Caratterizzzazione del sito finalizzata all’analisi di rischio-specific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71640" y="2060280"/>
            <a:ext cx="7416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A NUOVA TARIFFA DEL DLgs.152/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ITOLO V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a tariffa costituisce il corrispettivo per lo svolgimento del servizio di raccolta, recupero e smaltimento dei RU 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icomprende ai costi di cui all’art.15 del DLgs.36/03 (art.238, c.1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a tariffa è commisurata alle quantità e qualità medie ordinarie di rifiuti prodotti per unità di superficie sulla base d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arametri determinati con il regolamento (art.238, c.6) che tengano anche conto di indici reddituali articolati per fasc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i utenza e territoriali (art.238, c.2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Un apposito regolamento, da approvare con D.M. entro 6 mesi dall’entrata in vigore della parte IV^, disciplinerà la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uova tariffa (art.238, c.6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uovi criteri qunti-qualitativi di assimilazione ai fini della raccolta e smaltimento dei RS ai RU. 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Non assimilazione &gt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150 mq 10.000 ab. / &gt; a 250 mq per Comuni &gt; 10.000 ab.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(art.195,c.2, lett.e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’AdA approva il piano finanziario e lo presenta all’Autorità, prevede la copertura totale dei costi di esercizio ed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nvestimento (art.238, c.4), obiettivi di miglioramento della produttività e qualità del servizio (art.238, c.8), investiment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ffettuati dal dai Comuni o dai gestori (art.238, c.9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lla tariffa è applicato un coefficiente di riduzione proporzionale alle quantità di rifiuti assimilati che il produttore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imostri di aver avviato al recupero (art.238, c.10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ino all’emanazione del regolamento di cui al comma 6, si continuano ad applicare le discipline regolamentari vigent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(art.238, c.11).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40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D.MM 2 maggio 2006 - In riferimento alla parte IV^ DLgs.152/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m 2 maggio 2006 - Istituzione elenco dei rifiuti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• Dm 2 maggio 2006 - Gestione terre e rocce da scavo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• Dm 2 maggio 2006 - Gestione semplificata di terre e rocce da scavo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• Dm 2 maggio 2006 - Riorganizzazione Catasto rifiuti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• Dm 2 maggio 2006 - Modelli di registro carico e scarico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• Dm 2 maggio 2006 - Modalità aggiudicazione Autorità d'ambi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ervizio gestione integrata rifiuti urbani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• Dm 2 maggio 2006 - Albo gestori rifiuti, Registro impre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utorizzate alla gestione dei rifiuti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• Dm 2 maggio 2006 - Albo gestori rifiuti, gestione delle entrate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• Dm 2 maggio 2006 - Schema - tipo di Statuto Consorzi imballaggi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• Dm 2 maggio 2006 - Codici "CEN" (Comitato europeo normazione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i imballaggi e rifiuti di imballaggio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• Dm 2 maggio 2006 - Trattamento veicoli fuori uso rientranti nel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lgs.152/06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• Dm 2 maggio 2006 - Beni in polietilene rientranti nel Dlgs.152/06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4008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L NUOVO RUOLO DELL’ALBO GESTORI AMBIENTALI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ART.2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Obbligo di iscrizione delle imprese che svolgono in via ordinaria e regolare l’attivit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i raccolta e trasporto dei rifiuti non pericolosi da esse prodotti e le imprese c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trasportano i propri rifiuti pericolosi in quantità  che non eccedano 30 kg/g o 30 lt/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(art.212, c.8). Non sono dovute le fideiussioni (sentenza Corte di Giustiz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09.06.2005) – (art.212, c.18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e imprese che effettuano attività di smaltimento dei rifiuti non pericolosi nel luo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i produzione (art.212, c.24) o recupero ai sensi dell’art.216, sono iscritte in u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pposito registro (art.212, c.25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Albo nazionale gestori ambientali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(art.212) iscrive le imprese che svolgono attivit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i recupero mediante procedura semplificata (ex artt.31 33 del DLgs.22/97). 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rovince mantengono le funzioni di controllo (art.214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’iscrizione delle imprese con procedura semplificata (raccolta e trasporto di rifiut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vviati al recupero), deve essere rinnovata ogni 5 anni, la comunicazio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stituisce di per sé iscrizione, ..etc. (art.212, c.18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Nuovo sistema delle garanzie (fideiussioni da prestare allo Stato – c.7 e fideiussion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a prestare alla Regione – c.9) – art.212. Riduzioni delle garanzie per impre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registrate (EMAS) e certificate (ISO 14001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revisti registri per l’iscrizione delle autorizzazioni regionali (art.212, c.23) e degl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ccordi di programma (art.212, c.22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40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D.MM 2 maggio 2006 - In riferimento alla parte III^ DLgs.152/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m 2 maggio 2006 - Monitoraggio spesa ambientale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• Dm 2 maggio 2006 - Limiti esterni estuario, transizione acque dolci e costiere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• Dm 2 maggio 2006 - Norme tecniche per il riutilizzo delle acque reflue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• Dm 2 maggio 2006 - Aggiudicazione servizio idrico integrato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• Dm 2 maggio 2006 - Autorità di vigilanza risorse idriche e rifiuti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orme ancora efficaci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Dm 2 maggio 2006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- Utilizzo per la produzione di energia elettrica del Cdr e d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qualità elevata Cdr-Q (Min. Attività Produttiv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Dm 2 maggio 2006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- Sostanze assorbenti e neutralizzan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Dm 5 aprile 2006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- Recupero agevolato dei rifiuti non pericolosi - (art.21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(G.U. 19.05.2006, n.115), in vigore dal 3 giugno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(In accoglimento delle censure - 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Sentenza Corte di Giustizia UE 07.10.2004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400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NORMATIVE APPLICABI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e norme di carattere sostanziale del DLgs.152/06, non essendo state modificate da provvedimenti di pari rango, rimangono in vigore dal 29.04.06 nella loro formulazione originaria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n riferimento alle norme di carattere attuativo, dichiarate inefficaci dal MATT, queste fanno rivivere i corrispondenti DD.MM emanati in attuazione delle previgenti norme di riferimento (DLgs.152/99, DLgs.22/97)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isposizioni previste dal DLgs.152/06 - art.265 , c.2 “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Disposizioni transitorie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” 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Lgs 18 febbraio 2005, n.59 – IPPC (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abrogazione a partire dalla data di entrata in vigore del DM sull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tariffe da applicare per le istruttorie – DLgs.152/06 articoli 34 e da 48 a 52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Lgs 11 maggio 2005, n.133 (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Incenerimento e co-incenerimento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Lgs. 13 gennaio 2003, n.36 (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Discariche di rifiuti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NORMATIVE RIFERITE A PARTICOLARI CATEGORIE DI RIFIU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Rifiuti elettrici ed elettronici  (RAEE) - DLgs 25 luglio 2005, n.151 ed art.44 del DLgs.22/97 (art.227,c.1.lett.a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Rifiuti sanitari - DPR 15 luglio 2003, n.254 (art.227,c.1,lett.b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Veicolo fuori uso - 24 giugno 2003, n.209 e s.m.i. (art.227,c.1,lett.c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Recupero rifiuti dei beni e prodotti contenenti amianto - DM 29 luglio 2004, n.248 (art.227,c.1,lett.b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Rifiuti prodotti dalle navi e dei residui di carico - DLgs 24 giugno 2003, n.182 (art.232,c.1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Amianto - si applicano le disposizioni nazionali e comunitarie (DM 248/04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Pneumatici Fuori Uso (PFU) - nuove disposizioni per l’ottimizzazione dell’uso con DM (art.228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Combustibile da rifiuti (cdr) e combustibile da rifiuti di qualità elevata (cdr-q) - il CDR-Q è escluso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dall’ambito di applicazione della normativa sui rifiuti a certe  condizioni (art.229,c.2) - </a:t>
            </a:r>
            <a:r>
              <a:rPr b="1" i="1" lang="it-IT" sz="900" spc="-1" strike="noStrike">
                <a:solidFill>
                  <a:srgbClr val="ffffff"/>
                </a:solidFill>
                <a:latin typeface="Arial"/>
              </a:rPr>
              <a:t>D.M. 2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it-IT" sz="900" spc="-1" strike="noStrike">
                <a:solidFill>
                  <a:srgbClr val="ffffff"/>
                </a:solidFill>
                <a:latin typeface="Arial"/>
              </a:rPr>
              <a:t>maggio 2006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Rifiuti derivanti da attività di manutenzione delle infrastrutture e pulizia manutentiva delle fognature -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previste nuove disposizioni con DM (art.230);         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3280" y="1844280"/>
            <a:ext cx="6400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PARTE II^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VIA - VAS - IP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rticoli 4 - 52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e norme (art.52 - 120 gg.), costituiscono attuazione delle direttiv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2001/42/CE concernente “la valutazione degli effetti di determinati </a:t>
            </a:r>
            <a:r>
              <a:rPr b="1" lang="it-IT" sz="1000" spc="-1" strike="noStrike" u="sng">
                <a:solidFill>
                  <a:srgbClr val="ffffff"/>
                </a:solidFill>
                <a:uFillTx/>
                <a:latin typeface="Arial"/>
              </a:rPr>
              <a:t>piani e programmi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ull’ambiente naturale” -  (Valutazione Ambientale Strategica - VAS) – recepita con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(DLgs.152/06). Regolamento da emanare con DM entro il 10.11.2006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85/337/CEE e s.m.i. in materia di VIA di </a:t>
            </a:r>
            <a:r>
              <a:rPr b="1" lang="it-IT" sz="1000" spc="-1" strike="noStrike" u="sng">
                <a:solidFill>
                  <a:srgbClr val="ffffff"/>
                </a:solidFill>
                <a:uFillTx/>
                <a:latin typeface="Arial"/>
              </a:rPr>
              <a:t>progetti di opere ed interventi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– legge 349/86 e s.m.i.</a:t>
            </a:r>
            <a:r>
              <a:rPr b="1" lang="it-IT" sz="1000" spc="-1" strike="noStrike" u="sng">
                <a:solidFill>
                  <a:srgbClr val="ffffff"/>
                </a:solidFill>
                <a:uFillTx/>
                <a:latin typeface="Arial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96/61/CE in materia di IPPC (prevenzione e riduzione integrate dell’inquinamento), recepita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con DLgs.59/05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VAS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–  la valutazione, sin dalle prime fasi del processo decisionale, di piani e programmi, dell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conseguenze sul piano ambientale degli stessi, la verifica della rispondenza ai piani d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viluppo territoriali e la messa a disposizione delle informazioni sulla decision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Fasi distinte in </a:t>
            </a:r>
            <a:r>
              <a:rPr b="1" lang="it-IT" sz="1000" spc="-1" strike="noStrike" u="sng">
                <a:solidFill>
                  <a:srgbClr val="ffffff"/>
                </a:solidFill>
                <a:uFillTx/>
                <a:latin typeface="Arial"/>
              </a:rPr>
              <a:t>ex ante, intermedia ed ex post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, attraverso le quali si determinano gli impatti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ispetto agli obiettivi strategici dello sviluppo sostenibile (Allegati I e II)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’ un </a:t>
            </a:r>
            <a:r>
              <a:rPr b="1" lang="it-IT" sz="1000" spc="-1" strike="noStrike" u="sng">
                <a:solidFill>
                  <a:srgbClr val="ffffff"/>
                </a:solidFill>
                <a:uFillTx/>
                <a:latin typeface="Arial"/>
              </a:rPr>
              <a:t>Rapporto ambientale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parte integrante del piano o programma (art.9), comporta la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esignazione dei soggetti che devono essere consultati (art.10), per le loro specifich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competenze ambientali ed interessati all’attuazione di piani e programmi. E’ da organizzar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un’attività di monitoraggio per individuare tempestivamente gli eventuali effetti negativ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(art.10). Lascia impregiudicate le disposizioni della direttiva in materia di VI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a Regione Abruzzo non ha ancora emanato disposizioni in merito (artt.21 - 50), ma ha ricompreso in un DDLR in materia urbanistica il concetto di VAS (art.12 - QR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Il percorso di elaborazione del nuovo PRGR e di partecipazione dei soggetti interessati (Tavolo di concertazione), si inserisce nell’applicazione della direttiva VA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03280" y="1844280"/>
            <a:ext cx="6400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ARTE II^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VIA - VAS - IPP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rticoli 4 - 52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e norme costituiscono attuazione delle direttive in materia di VIA, VAS ed IPPC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VIA - disciplinata dal TITOLO III del DLgs.152/06 - VIA regionale artt.42 - 47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L’art.33 del DLgs.152/06 definisce le relazioni tra VAS e VIA: “</a:t>
            </a:r>
            <a:r>
              <a:rPr b="1" i="1" lang="it-IT" sz="800" spc="-1" strike="noStrike">
                <a:solidFill>
                  <a:srgbClr val="ffffff"/>
                </a:solidFill>
                <a:latin typeface="Arial"/>
              </a:rPr>
              <a:t>costituiscono dati acquisiti tutti gli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800" spc="-1" strike="noStrike">
                <a:solidFill>
                  <a:srgbClr val="ffffff"/>
                </a:solidFill>
                <a:latin typeface="Arial"/>
              </a:rPr>
              <a:t>elementi positivamente valutati in sede di valutazione di impatto strategico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L’art.42, c.2 prevede che in attesa del recepimento della Regione troano applicazione le disposizioni del decreto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L’art.46 prevede disposizioni per l’applicazine di procedure semplificate ed esoneri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La Regione Abruzzo ha recepito le normative nazionali in materia con DGR n.119/2002 – BURA n.73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Speciale del 14.06.200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Istituito un Comitato Regionale, regolamentate le misure di pubblicità (art.8 del DPR 12.04.96), definit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le procedure di VIA (art.5 del DPR 12.04.96);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All’art.7 – All.A e B si individuano gli impianti sottoposti a VIA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Per i progetti che non ricadono in aree naturali protette e per la modifica di alcune tipologie di impianti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esistenti la regione valuta (verifica preliminare) se le caratteristiche del progetto richiedono la VIA (art.9)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Valida 5 anni ed all’istanza deve essere allegata una perizia giurata (art.7 bis)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E’ prevista una valutazione di incidenza per i progetti che ricadono in Siti di Importanza Comunitaria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(SIC) e/o in Zone di Protezione Speciale (ZPS) – art.14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IPPC -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’art.34 del DLgs.152/06, contiene disposizioni per le relazioni che intercorrono tra VIA 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PPC: “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è facoltà del proponente ottenere che la procedura di VIA sia integrata ne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procedimento per il rilascio dell’AIA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La Regione Abruzzo ha disciplinato l’attuazione del DLgs.59/05 con diversi atti: DGR n. 58/04, n.686/04 e n.461/0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pubblicata sul BURA Speciale n.56  del 14.06.2006 (nuovo calendario (All.1 – impianti esistenti entro il 31.07.2006 ed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impianti nuovi 02.11.2006 – 30.11.2006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’art.49 del DLgs.152/06 recita: “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entro 90 gg dalla data di pubblicazione del decreto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sono disciplinate le modalità, anche contabili e le tariffe da applicare in relazione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alle istruttorie ed ai controlli previsti dalla parte II^ del decreto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1915920"/>
            <a:ext cx="6400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A NUOVA PROGRAMMAZIONE REGION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’ istituita un’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Autorità di vigilanza sulle risorse idriche e sui rifiuti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(art.159) che subentra in tutte l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competenze, assegnate dal’ex  DLgs.22/97, all’Osservatorio Nazionale sui Rifiuti - ONR (art.207,c.2) –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(ex 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D.M. 2 maggio 2006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a Regione adegua il proprio ordinamento entro un anno (art.177, c.1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a Regione approva o adegua il PRGR entro due anni, nel frattempo restano in vigore il PRGR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sistente (art.199, c.7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a gestione dei rifiuti urbani è organizzata sulla base di Ambiti Territoriali Ottimali (ATO - art.200, c.1)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i adeguate dimensioni gestionali (art.200, c.1, lett.b), per il superamento della frammentazion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considerando le precedenti delimitazioni (art.200, c.1, lett.f), presenza di impianti (art.200, c.1, lett.e)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…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tc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a Regione entro 6 mesi provvede alla delimitazione degli ATO (art.200, c.2), nel rispetto delle line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guida (art.195, c.1, lett.m.) e disciplina il controllo, anche in forma sostitutiva delle operazioni d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gestione dei rifiuti, funzionalità degli impianti, prescrizioni, ..etc.,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a Regione entro 6 mesi disciplina le forme ed i modi di cooperazione tra gli EE.LL. – Autorit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’Ambito (art.201, c.1), alla quale gli EE.LL. </a:t>
            </a:r>
            <a:r>
              <a:rPr b="1" lang="it-IT" sz="1000" spc="-1" strike="noStrike" u="sng">
                <a:solidFill>
                  <a:srgbClr val="ffffff"/>
                </a:solidFill>
                <a:uFillTx/>
                <a:latin typeface="Arial"/>
              </a:rPr>
              <a:t>partecipano obbligatoriamente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ed alla quale son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rasferite le competenze in materia di gestione dei rifiuti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 Comuni possono presentare motivate e documentate richieste di modifica all’assegnazione ad un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pecifico ATO e di spostamento in un ATO diverso, limitrofo (art.200, c.6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a Regione può adottare modelli alternativi o in deroga a quelli degli ATO (art.200, c.7) – bisogna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dimostrare l’adeguatezza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l ruolo degli Accordi di programma settoriali per il recupero stipulati ai sensi dell’art.181, c.4-11 (c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funzioni di specifica autorizzazione) ed art.206.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IL NUOVO QUADRO DELLE COMPETEN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ER LA GESTIONE DEI RIFIUTI URBA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LE REGIONI - art.1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approvano i PRGR (art.199, c.7), sentite le Province ed i Comuni, provvedono alla delimitazione degli ATO (art.200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c.2), disciplinano le forme di cooperazione dei Comuni (art.201, c.1), la durata delle gestioni (art.201, c.6), adottano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uno schema - tipo per l’affidamento dei servizi (art.202, c.2) – ex DM 2 maggio 06, assumono le competenze relativ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all’attivazione delle CdS per la bonifica dei siti contaminati (art.242, c.3), per l’esercizio delle funzioni si avvalgono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800" spc="-1" strike="noStrike" u="sng">
                <a:solidFill>
                  <a:srgbClr val="ffffff"/>
                </a:solidFill>
                <a:uFillTx/>
                <a:latin typeface="Arial"/>
              </a:rPr>
              <a:t>anche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dell’ARTA (art.196,c.2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LE AUTORITA’ D’AMBITO - art.201, c.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negli ATO, le Autorità d’Ambito (AdA) dispongono i nuovi affidamenti del servizio entro 9 mesi dall’entrata in vigoer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del DLgs.152/06 (art.204, c.2), organizzano la gestione dei rifiuti e la durata della gestione da parte dei soggetti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affidatari non può essereinferiore a 15 anni (art.201, c.6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LE PROVINCE - art.19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svuotate delle funzioni di programmazione (ex PPGR) e di deleghe ex DLgs.22/97 (es. recupero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agevolato);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Assumono sostanzialmente funzioni di controllo e verifica (art.197)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svolgono indagini ed attività istruttorie per eevnti avvenuti anteriormente all’entrata in vigore del DLgs.152/06 (art.242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c.12) -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I COMUNI - art.1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“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concorrono”, nell’ambito degli ATO, alla gestione dei rifiuti urbani ed assimilati (art.198, c.1);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“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concorrono” a disciplinare la gestione dei rifiuti con appositi regolamenti (art.198, c.2)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esprimono il proprio parere per l’approvazione dei progetti di bonifica rilasciati dalle regioni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(art.198, c.4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L’ALBO NAZIONALE GESTORI AMBIENTALI - art.212, c.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assume una nuova fisionomia e nuove funzioni (art.212), obbligo di iscrizione delle imprese di trasporto esentate dal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“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Ronchi” (art.212, c.8), iscrizione delle imprese che effettuano attività di recupero agevolato (art.214), registri dell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autorizzazioni (artt.210, c.9 e 212, c.23) e degli accordi di programma previsti dagli artt.181 e 206, …etc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84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DL</a:t>
            </a:r>
            <a:r>
              <a:rPr b="1" lang="it-IT" sz="1600" spc="-1" strike="noStrike">
                <a:solidFill>
                  <a:srgbClr val="ffffb7"/>
                </a:solidFill>
                <a:latin typeface="Arial Black"/>
              </a:rPr>
              <a:t>GS</a:t>
            </a:r>
            <a:r>
              <a:rPr b="1" lang="it-IT" sz="2800" spc="-1" strike="noStrike">
                <a:solidFill>
                  <a:srgbClr val="ffffb7"/>
                </a:solidFill>
                <a:latin typeface="Arial Black"/>
              </a:rPr>
              <a:t> 3 aprile 2006, n.152</a:t>
            </a:r>
            <a:br>
              <a:rPr sz="2800"/>
            </a:br>
            <a:r>
              <a:rPr b="1" lang="it-IT" sz="1800" spc="-1" strike="noStrike">
                <a:solidFill>
                  <a:srgbClr val="ffffb7"/>
                </a:solidFill>
                <a:latin typeface="Arial Black"/>
              </a:rPr>
              <a:t>Norme in materia di gestione dei rifiuti e di bonifica dei siti inquinati – Parte IV^ articoli 177 - 266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E DEFINIZIONI DEI “NON RIFIUTI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l DLgs.152/06 declina quali siano i “non rifiuti”, indicandoli in tre categorie di difficile individuazione ed il cui presupposto è il non “disfarsi”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sottoprodotto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- art.183, c.1, lett.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eriva da un processo industriale, ma non costituisce oggetto dell’attività principale, impiegato direttamente dal produttore (pronto all’uso), si ha convenienza economica a vender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materia prima secondaria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- art.183, c.1, lett.q) e art.181, c.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eriva da un’operazione di recupero, al completamento della quale (ex DD.MM), non sono necessari ulteriori trattamenti (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end of waste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) e viene successivamente usato tal quale in un processo industriale o commercializza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6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teria prima secondaria fin dall’origine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- art.181, c.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non è stato effettuato o completato il processo di recupero, importato, ed ha le sole “caratteristiche nominali” previste dal p.4 di ogni capitolo contenuto negli allegati sul recupero di materia di cui agli ex DD.MM 5 febbraio 1998 e 161/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5:01:53Z</dcterms:created>
  <dc:creator>franco.gerardini</dc:creator>
  <dc:description/>
  <dc:language>en-US</dc:language>
  <cp:lastModifiedBy>franco.gerardini</cp:lastModifiedBy>
  <dcterms:modified xsi:type="dcterms:W3CDTF">2006-07-11T07:14:31Z</dcterms:modified>
  <cp:revision>442</cp:revision>
  <dc:subject/>
  <dc:title>I VEICOLI FUORI USO DLGS.209/03</dc:title>
</cp:coreProperties>
</file>