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2E2-01A0-4861-9557-C05C740E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15B-691E-43BF-8ADE-FE4534AB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CAC-9F41-4A22-A80F-F93967D3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5BD-185D-4AFC-999B-AD7C6F23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7C1-6A4A-48F9-B165-5D261738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D42-342C-4509-A670-31FE113C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DDE-C43A-4B18-BE73-32AD8F3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D56-37A1-402D-82EB-7BCD28E8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039-E08C-4B53-A4C1-B6AD91F9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DF0-D284-48B2-A510-C15C9AA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D0F-B5DE-47EE-A9C8-0232B16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4F4-0F28-4C03-8969-95B022A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54C3-9696-4701-9689-6E42AC3A9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03840"/>
            <a:ext cx="77724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Indagine semestrale sull’industria abruzzese </a:t>
            </a:r>
            <a:br>
              <a:rPr sz="2800"/>
            </a:br>
            <a:r>
              <a:rPr b="1" i="1" lang="it-IT" sz="2800" spc="-1" strike="noStrike">
                <a:solidFill>
                  <a:srgbClr val="ff3300"/>
                </a:solidFill>
                <a:latin typeface="Arial"/>
              </a:rPr>
              <a:t>II semestre 2010</a:t>
            </a:r>
            <a:br>
              <a:rPr sz="2800"/>
            </a:br>
            <a:br>
              <a:rPr sz="2800"/>
            </a:br>
            <a:r>
              <a:rPr b="0" i="1" lang="it-IT" sz="1800" spc="-1" strike="noStrike">
                <a:solidFill>
                  <a:srgbClr val="333399"/>
                </a:solidFill>
                <a:latin typeface="Arial"/>
              </a:rPr>
              <a:t>a cura di Giuseppe D’Amico – Luciano Fratocchi – Massimo Parisse</a:t>
            </a:r>
            <a:br>
              <a:rPr sz="1800"/>
            </a:br>
            <a:br>
              <a:rPr sz="1800"/>
            </a:br>
            <a:r>
              <a:rPr b="0" i="1" lang="it-IT" sz="1800" spc="-1" strike="noStrike">
                <a:solidFill>
                  <a:srgbClr val="333399"/>
                </a:solidFill>
                <a:latin typeface="Arial"/>
              </a:rPr>
              <a:t>Confindustria Teramo, 28 April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38320" y="-27000"/>
            <a:ext cx="50673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previs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l mercato del lavoro nel I sem 2011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reg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920" y="1484280"/>
            <a:ext cx="91090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previs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Previsioni di assunzioni nel I sem 2011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settor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480" y="1227240"/>
            <a:ext cx="87786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previs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Previsioni di assunzioni nel I sem 2011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provin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7200" y="1268280"/>
            <a:ext cx="8705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30400"/>
            <a:ext cx="88567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Arial"/>
              </a:rPr>
              <a:t>Gli autori dell’Indagine sono grati all’Ing. Marco Iezzi ed al Dott. Andrea Galeota per il supporto fornito nelle fasi di raccolta ed analisi 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7640" y="304560"/>
            <a:ext cx="73090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lcuni indicatori di sintesi a livello regionale del II sem.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valutaz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I semestre vs I semestre 2010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reg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1557360"/>
            <a:ext cx="9109080" cy="521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5013360"/>
            <a:ext cx="107964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4869000"/>
            <a:ext cx="1079640" cy="143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4941720"/>
            <a:ext cx="107964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589720"/>
            <a:ext cx="882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valutaz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I semestre vs I semestre 2010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settor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7840" y="1484280"/>
            <a:ext cx="8858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valutaz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I semestre vs I semestre 2010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provin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00" y="1844640"/>
            <a:ext cx="90756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3280" y="115920"/>
            <a:ext cx="7021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valutaz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Previsioni vs Consuntivo II sem.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24000" y="1413000"/>
          <a:ext cx="8424720" cy="51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842472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4920" y="5518080"/>
            <a:ext cx="914400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previs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semestre 2011 vs II semestre 2010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reg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920" y="1473120"/>
            <a:ext cx="9109080" cy="5095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4941720"/>
            <a:ext cx="107964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4797360"/>
            <a:ext cx="107964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3080" y="4870440"/>
            <a:ext cx="107964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518080"/>
            <a:ext cx="882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previs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semestre 2011 vs II semestre 2010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settor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920" y="1508040"/>
            <a:ext cx="88581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1885680" cy="1403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3280" y="158760"/>
            <a:ext cx="702144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Le previsioni degli imprenditori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semestre 2011 vs II semestre 2010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Dati provin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4920" y="1498680"/>
            <a:ext cx="9045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20:33:01Z</dcterms:created>
  <dc:creator>Luciano Fratocchi</dc:creator>
  <dc:description/>
  <dc:language>en-US</dc:language>
  <cp:lastModifiedBy>LUCMAR</cp:lastModifiedBy>
  <dcterms:modified xsi:type="dcterms:W3CDTF">2011-04-26T09:43:48Z</dcterms:modified>
  <cp:revision>25</cp:revision>
  <dc:subject/>
  <dc:title>Indagine semestrale sull’industria abruzzese  I semestre 2010 a cura di Giuseppe D’Amico – Luciano Fratocchi – Massimo Parisse   Confindustria Chieti, 8 Novembre 2010</dc:title>
</cp:coreProperties>
</file>