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1D2A8-A2DC-4941-B5B5-D298B34AF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3D00-B9F8-4FF3-855B-395A9AF17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7A805-89C4-4F13-AF42-D0AD97935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7C7EC-FADE-4261-97C2-4B9BC0267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31F8F-C0E4-49DD-91EA-2E3B472DA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AEBE9-391B-4EB1-85DC-EB3EE81F2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1CA67-FFE9-495F-A611-4A0EE01E1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26C40-5209-42C6-B13D-5A4719A86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DD9E4-2224-4164-88E1-236338825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290E7-B0D1-40EA-B8A8-CAC68BFBE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68DBC-B171-4C82-AD50-D87004EB3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B8FDC-D86B-49D5-92D6-70FBF59F5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9D590-709D-44FF-A863-0B72E3807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DBEB8-8C19-4777-A2CC-9E6CB1A2B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B8250-F9F9-4449-8652-747E7F66B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3DAB4-C210-473F-B4AF-A02CF9243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02BF4-EC11-4BE6-8617-3D32AC75E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035F-8BA5-45E6-BFE6-411AE5629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0D822-BC46-4460-8D67-720B30DF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F8669-E777-4263-85EB-6AC7D2E31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69938-0619-4A5F-A80D-1B3EEAA75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BD5B-5F0E-499A-9854-77D1008EF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FA9A-C73D-414A-8FC3-D97116D9C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72C3-E3F2-4DD1-928E-C9CA6AEEF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CFCD-4012-454B-BF8D-45FC631CD303}"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46FB-EC56-4098-9D9E-527F88FA5135}"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920" y="260280"/>
            <a:ext cx="8229600" cy="14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1" lang="en-US" sz="2000" spc="-1" strike="noStrike">
                <a:solidFill>
                  <a:srgbClr val="330066"/>
                </a:solidFill>
                <a:latin typeface="Arial"/>
              </a:rPr>
              <a:t>	</a:t>
            </a:r>
            <a:r>
              <a:rPr b="0" lang="en-US" sz="1800" spc="-1" strike="noStrike">
                <a:solidFill>
                  <a:srgbClr val="330066"/>
                </a:solidFill>
                <a:latin typeface="Arial"/>
              </a:rPr>
              <a:t>SLIDE 1</a:t>
            </a:r>
            <a:br>
              <a:rPr sz="1800"/>
            </a:br>
            <a:r>
              <a:rPr b="1" lang="en-US" sz="1800" spc="-1" strike="noStrike">
                <a:solidFill>
                  <a:srgbClr val="330066"/>
                </a:solidFill>
                <a:latin typeface="Arial"/>
              </a:rPr>
              <a:t>Indicatori strategia di Lisbona su </a:t>
            </a:r>
            <a:br>
              <a:rPr sz="1800"/>
            </a:br>
            <a:r>
              <a:rPr b="1" lang="en-US" sz="1800" spc="-1" strike="noStrike">
                <a:solidFill>
                  <a:srgbClr val="330066"/>
                </a:solidFill>
                <a:latin typeface="Arial"/>
              </a:rPr>
              <a:t>Istruzione e Formazione</a:t>
            </a:r>
            <a:br>
              <a:rPr sz="1800"/>
            </a:br>
            <a:endParaRPr b="1" lang="en-US" sz="1800" spc="-1" strike="noStrike">
              <a:solidFill>
                <a:srgbClr val="330066"/>
              </a:solidFill>
              <a:latin typeface="Arial"/>
            </a:endParaRPr>
          </a:p>
        </p:txBody>
      </p:sp>
      <p:graphicFrame>
        <p:nvGraphicFramePr>
          <p:cNvPr id="149" name=""/>
          <p:cNvGraphicFramePr/>
          <p:nvPr/>
        </p:nvGraphicFramePr>
        <p:xfrm>
          <a:off x="324000" y="1413000"/>
          <a:ext cx="8640720" cy="5113080"/>
        </p:xfrm>
        <a:graphic>
          <a:graphicData uri="http://schemas.openxmlformats.org/drawingml/2006/table">
            <a:tbl>
              <a:tblPr/>
              <a:tblGrid>
                <a:gridCol w="303120"/>
                <a:gridCol w="1643040"/>
                <a:gridCol w="1174680"/>
                <a:gridCol w="988920"/>
                <a:gridCol w="706680"/>
                <a:gridCol w="885600"/>
                <a:gridCol w="684360"/>
                <a:gridCol w="819000"/>
                <a:gridCol w="684360"/>
                <a:gridCol w="750960"/>
              </a:tblGrid>
              <a:tr h="527040">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icatori</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biettivo al 201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980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E(25)</a:t>
                      </a: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lia</a:t>
                      </a:r>
                      <a:endParaRPr b="0" lang="en-US" sz="11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E(25)</a:t>
                      </a: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lia</a:t>
                      </a:r>
                      <a:endParaRPr b="0" lang="en-US" sz="11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ntro-Nord</a:t>
                      </a:r>
                      <a:endParaRPr b="0" lang="en-US" sz="11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zzo-giorno</a:t>
                      </a:r>
                      <a:endParaRPr b="0" lang="en-US" sz="11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ruzzo</a:t>
                      </a:r>
                      <a:endParaRPr b="0" lang="en-US" sz="11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96840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iovani che lasciano pre-maturamente la scuol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n più del 1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3</a:t>
                      </a:r>
                      <a:endParaRPr b="0" lang="en-US" sz="13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3</a:t>
                      </a:r>
                      <a:endParaRPr b="0" lang="en-US" sz="13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7</a:t>
                      </a:r>
                      <a:endParaRPr b="0" lang="en-US" sz="13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4</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8,8</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2</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n.d.</a:t>
                      </a:r>
                      <a:endParaRPr b="0" lang="en-US" sz="13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7635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petenze chiav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a riduzione del 20% rispet-to ai valori dell’anno 20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4</a:t>
                      </a:r>
                      <a:endParaRPr b="0" lang="en-US" sz="13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8,9</a:t>
                      </a:r>
                      <a:endParaRPr b="0" lang="en-US" sz="13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8</a:t>
                      </a:r>
                      <a:endParaRPr b="0" lang="en-US" sz="13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9</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4,7</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4,7</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n.d.</a:t>
                      </a:r>
                      <a:endParaRPr b="0" lang="en-US" sz="13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7491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sso di scolarizzazione superior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meno 8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6,4</a:t>
                      </a:r>
                      <a:endParaRPr b="0" lang="en-US" sz="13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8,8</a:t>
                      </a:r>
                      <a:endParaRPr b="0" lang="en-US" sz="13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6,7</a:t>
                      </a:r>
                      <a:endParaRPr b="0" lang="en-US" sz="13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2,3</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5,9</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7,7</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2</a:t>
                      </a:r>
                      <a:endParaRPr b="0" lang="en-US" sz="13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96840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aureati in matematica, scienze e tecnologi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mento del 15% rispetto ai valori dell’anno 20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2</a:t>
                      </a:r>
                      <a:endParaRPr b="0" lang="en-US" sz="13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6</a:t>
                      </a:r>
                      <a:endParaRPr b="0" lang="en-US" sz="13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3</a:t>
                      </a:r>
                      <a:endParaRPr b="0" lang="en-US" sz="13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3</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8</a:t>
                      </a:r>
                      <a:endParaRPr b="0" lang="en-US" sz="13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n.d.</a:t>
                      </a:r>
                      <a:endParaRPr b="0" lang="en-US" sz="13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66672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Life-long learning</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meno il 1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9</a:t>
                      </a:r>
                      <a:endParaRPr b="0" lang="en-US" sz="13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5</a:t>
                      </a:r>
                      <a:endParaRPr b="0" lang="en-US" sz="13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9</a:t>
                      </a:r>
                      <a:endParaRPr b="0" lang="en-US" sz="13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2</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5</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8</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4</a:t>
                      </a:r>
                      <a:endParaRPr b="0" lang="en-US" sz="13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66"/>
                </a:solidFill>
                <a:latin typeface="Arial"/>
              </a:rPr>
              <a:t>	</a:t>
            </a:r>
            <a:r>
              <a:rPr b="0" lang="en-US" sz="3500" spc="-1" strike="noStrike">
                <a:solidFill>
                  <a:srgbClr val="330066"/>
                </a:solidFill>
                <a:latin typeface="Arial"/>
              </a:rPr>
              <a:t>	</a:t>
            </a:r>
            <a:r>
              <a:rPr b="0" lang="en-US" sz="3500" spc="-1" strike="noStrike">
                <a:solidFill>
                  <a:srgbClr val="330066"/>
                </a:solidFill>
                <a:latin typeface="Arial"/>
              </a:rPr>
              <a:t>	</a:t>
            </a:r>
            <a:r>
              <a:rPr b="0" lang="en-US" sz="3500" spc="-1" strike="noStrike">
                <a:solidFill>
                  <a:srgbClr val="330066"/>
                </a:solidFill>
                <a:latin typeface="Arial"/>
              </a:rPr>
              <a:t>	</a:t>
            </a:r>
            <a:r>
              <a:rPr b="0" lang="en-US" sz="3500" spc="-1" strike="noStrike">
                <a:solidFill>
                  <a:srgbClr val="330066"/>
                </a:solidFill>
                <a:latin typeface="Arial"/>
              </a:rPr>
              <a:t>	</a:t>
            </a:r>
            <a:r>
              <a:rPr b="0" lang="en-US" sz="3500" spc="-1" strike="noStrike">
                <a:solidFill>
                  <a:srgbClr val="330066"/>
                </a:solidFill>
                <a:latin typeface="Arial"/>
              </a:rPr>
              <a:t>	</a:t>
            </a:r>
            <a:r>
              <a:rPr b="0" lang="en-US" sz="2200" spc="-1" strike="noStrike">
                <a:solidFill>
                  <a:srgbClr val="330066"/>
                </a:solidFill>
                <a:latin typeface="Arial"/>
              </a:rPr>
              <a:t>SLIDE 2</a:t>
            </a:r>
            <a:br>
              <a:rPr sz="2200"/>
            </a:br>
            <a:endParaRPr b="1" lang="en-US" sz="2200" spc="-1" strike="noStrike">
              <a:solidFill>
                <a:srgbClr val="330066"/>
              </a:solidFill>
              <a:latin typeface="Arial"/>
            </a:endParaRPr>
          </a:p>
        </p:txBody>
      </p:sp>
      <p:sp>
        <p:nvSpPr>
          <p:cNvPr id="151"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Sistemi, Qualità e Integrazione nel territorio</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a possibilità di promuovere un’azione efficace dipende da un buon sistema di istruzione e formazione, di cui sia chiara l’articolazione e la missione, che abbia una buona capacità di collaborazione interna, che sia dotato di strumenti adeguati per la garanzia della qualità delle prestazioni e la riconoscibilità di titoli e qualifiche, che sia capace di avanzare proposte e offrire collaborazione con le diverse istanze dei territori e delle altre politich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040"/>
            <a:ext cx="7543800" cy="1074600"/>
          </a:xfrm>
          <a:prstGeom prst="rect">
            <a:avLst/>
          </a:prstGeom>
          <a:noFill/>
          <a:ln w="0">
            <a:noFill/>
          </a:ln>
        </p:spPr>
        <p:txBody>
          <a:bodyPr lIns="90000" rIns="90000" tIns="46800" bIns="46800" anchor="b">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66"/>
                </a:solidFill>
                <a:latin typeface="Arial"/>
              </a:rPr>
              <a:t>	</a:t>
            </a:r>
            <a:r>
              <a:rPr b="1" lang="en-US" sz="2000" spc="-1" strike="noStrike">
                <a:solidFill>
                  <a:srgbClr val="330066"/>
                </a:solidFill>
                <a:latin typeface="Arial"/>
              </a:rPr>
              <a:t>SLIDE 3     Istruzione e formazione iniziale</a:t>
            </a:r>
            <a:endParaRPr b="1" lang="en-US" sz="2000" spc="-1" strike="noStrike">
              <a:solidFill>
                <a:srgbClr val="330066"/>
              </a:solidFill>
              <a:latin typeface="Arial"/>
            </a:endParaRPr>
          </a:p>
        </p:txBody>
      </p:sp>
      <p:sp>
        <p:nvSpPr>
          <p:cNvPr id="153" name="PlaceHolder 2"/>
          <p:cNvSpPr>
            <a:spLocks noGrp="1"/>
          </p:cNvSpPr>
          <p:nvPr>
            <p:ph/>
          </p:nvPr>
        </p:nvSpPr>
        <p:spPr>
          <a:xfrm>
            <a:off x="429840" y="1025280"/>
            <a:ext cx="8713800" cy="5832360"/>
          </a:xfrm>
          <a:prstGeom prst="rect">
            <a:avLst/>
          </a:prstGeom>
          <a:noFill/>
          <a:ln w="0">
            <a:noFill/>
          </a:ln>
        </p:spPr>
        <p:txBody>
          <a:bodyPr lIns="90000" rIns="90000" tIns="46800" bIns="46800" anchor="t">
            <a:normAutofit/>
          </a:bodyPr>
          <a:p>
            <a:pPr marL="343080" indent="0" algn="just">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2000" spc="-1" strike="noStrike">
                <a:solidFill>
                  <a:srgbClr val="000000"/>
                </a:solidFill>
                <a:latin typeface="Times New Roman"/>
              </a:rPr>
              <a:t>Innalzare la  qualità del sistema di istruzione e di formazione</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versificare l’offerta di istruzione e formazione all’interno di un sistema integrato</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Rendere il sistema scolastico e formativo più attraente agendo su infrastrutture (laboratori, società dell’informazione), didattica, servizi extra-curriculari (apertura delle sedi in orario extra curriculare, strutture sportive, mense) </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muovere l’innovazione con interventi di aggiornamento degli Operatori</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muovere i percorsi di istruzione e formazione scientifica;</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afforzare la dimensione europea dei sistemi di istruzione e formazione, attuando scambi di esperienze di studio e lavoro per formatori, docenti, studenti.</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 </a:t>
            </a:r>
            <a:r>
              <a:rPr b="1" lang="it-IT" sz="2000" spc="-1" strike="noStrike">
                <a:solidFill>
                  <a:srgbClr val="000000"/>
                </a:solidFill>
                <a:latin typeface="Times New Roman"/>
              </a:rPr>
              <a:t>Integrare i sistemi di istruzione e di formazione col mondo produttivo</a:t>
            </a:r>
            <a:r>
              <a:rPr b="0" lang="it-IT" sz="2000" spc="-1" strike="noStrike">
                <a:solidFill>
                  <a:srgbClr val="000000"/>
                </a:solidFill>
                <a:latin typeface="Times New Roman"/>
              </a:rPr>
              <a:t> </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Sostenere le iniziative di alternanza scuola/formazione e lavoro e la condivisione di progetti tra scuole, agenzie formative, università, centri di ricerca, imprese.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Equità, coesione e sostegno ai soggetti deboli</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stenere i soggetti  meritevoli che versano in condizioni meno favorevoli. </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cuperare  gli individui che hanno abbandonato la Scuola e la F.P.</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avorire l’integrazione degli strani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92000" y="-360"/>
            <a:ext cx="6840360" cy="5763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	</a:t>
            </a:r>
            <a:r>
              <a:rPr b="1" lang="en-US" sz="3200" spc="-1" strike="noStrike">
                <a:solidFill>
                  <a:srgbClr val="330066"/>
                </a:solidFill>
                <a:latin typeface="Arial"/>
              </a:rPr>
              <a:t>	</a:t>
            </a:r>
            <a:br>
              <a:rPr sz="3200"/>
            </a:br>
            <a:br>
              <a:rPr sz="3200"/>
            </a:br>
            <a:br>
              <a:rPr sz="3200"/>
            </a:br>
            <a:br>
              <a:rPr sz="3200"/>
            </a:br>
            <a:br>
              <a:rPr sz="3200"/>
            </a:br>
            <a:r>
              <a:rPr b="1" lang="en-US" sz="2000" spc="-1" strike="noStrike">
                <a:solidFill>
                  <a:srgbClr val="330066"/>
                </a:solidFill>
                <a:latin typeface="Arial"/>
              </a:rPr>
              <a:t>SLIDE4  Formazione superiore e Alta Formazione</a:t>
            </a:r>
            <a:endParaRPr b="1" lang="en-US" sz="2000" spc="-1" strike="noStrike">
              <a:solidFill>
                <a:srgbClr val="330066"/>
              </a:solidFill>
              <a:latin typeface="Arial"/>
            </a:endParaRPr>
          </a:p>
        </p:txBody>
      </p:sp>
      <p:sp>
        <p:nvSpPr>
          <p:cNvPr id="155" name="PlaceHolder 2"/>
          <p:cNvSpPr>
            <a:spLocks noGrp="1"/>
          </p:cNvSpPr>
          <p:nvPr>
            <p:ph/>
          </p:nvPr>
        </p:nvSpPr>
        <p:spPr>
          <a:xfrm>
            <a:off x="-360" y="1196640"/>
            <a:ext cx="8893080" cy="5256360"/>
          </a:xfrm>
          <a:prstGeom prst="rect">
            <a:avLst/>
          </a:prstGeom>
          <a:noFill/>
          <a:ln w="0">
            <a:noFill/>
          </a:ln>
        </p:spPr>
        <p:txBody>
          <a:bodyPr lIns="90000" rIns="90000" tIns="46800" bIns="46800" anchor="t">
            <a:normAutofit/>
          </a:bodyPr>
          <a:p>
            <a:pPr marL="36180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Times New Roman"/>
              </a:rPr>
              <a:t>L’alta formazione in Italia denota due ordini di problemi: </a:t>
            </a:r>
            <a:endParaRPr b="0" lang="en-US" sz="2000" spc="-1" strike="noStrike">
              <a:solidFill>
                <a:srgbClr val="000000"/>
              </a:solidFill>
              <a:latin typeface="Arial"/>
            </a:endParaRPr>
          </a:p>
          <a:p>
            <a:pPr marL="361800" indent="-361800" algn="just">
              <a:lnSpc>
                <a:spcPct val="80000"/>
              </a:lnSpc>
              <a:spcBef>
                <a:spcPts val="499"/>
              </a:spcBef>
              <a:buClr>
                <a:srgbClr val="330066"/>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nsufficiente sviluppo di un sistema di formazione superiore non accademica, a carattere professionalizzante ancorato ai fabbisogni del territorio, </a:t>
            </a:r>
            <a:endParaRPr b="0" lang="en-US" sz="2000" spc="-1" strike="noStrike">
              <a:solidFill>
                <a:srgbClr val="000000"/>
              </a:solidFill>
              <a:latin typeface="Arial"/>
            </a:endParaRPr>
          </a:p>
          <a:p>
            <a:pPr marL="361800" indent="-361800" algn="just">
              <a:lnSpc>
                <a:spcPct val="80000"/>
              </a:lnSpc>
              <a:spcBef>
                <a:spcPts val="499"/>
              </a:spcBef>
              <a:buClr>
                <a:srgbClr val="330066"/>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a:t>
            </a:r>
            <a:r>
              <a:rPr b="0" lang="it-IT" sz="2000" spc="-1" strike="noStrike">
                <a:solidFill>
                  <a:srgbClr val="000000"/>
                </a:solidFill>
                <a:latin typeface="Times New Roman"/>
              </a:rPr>
              <a:t> la scarsa propensione dei giovani a scegliere percorsi tecnico-scientifici. </a:t>
            </a:r>
            <a:endParaRPr b="0" lang="en-US" sz="2000" spc="-1" strike="noStrike">
              <a:solidFill>
                <a:srgbClr val="000000"/>
              </a:solidFill>
              <a:latin typeface="Arial"/>
            </a:endParaRPr>
          </a:p>
          <a:p>
            <a:pPr marL="361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1" lang="it-IT" sz="2000" spc="-1" strike="noStrike">
                <a:solidFill>
                  <a:srgbClr val="000000"/>
                </a:solidFill>
                <a:latin typeface="Times New Roman"/>
              </a:rPr>
              <a:t>Obiettivi</a:t>
            </a:r>
            <a:endParaRPr b="0" lang="en-US" sz="2000" spc="-1" strike="noStrike">
              <a:solidFill>
                <a:srgbClr val="000000"/>
              </a:solidFill>
              <a:latin typeface="Arial"/>
            </a:endParaRPr>
          </a:p>
          <a:p>
            <a:pPr marL="361800" indent="-36180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stenere la costruzione di un sistema di formazione tecnica superiore non universitaria di alto livello, quale strumento di innovazione della Formazione, di promozione della  competitività e dello sviluppo dei sistemi produttivi. </a:t>
            </a:r>
            <a:endParaRPr b="0" lang="en-US" sz="2000" spc="-1" strike="noStrike">
              <a:solidFill>
                <a:srgbClr val="000000"/>
              </a:solidFill>
              <a:latin typeface="Arial"/>
            </a:endParaRPr>
          </a:p>
          <a:p>
            <a:pPr marL="361800" indent="-361800" algn="just">
              <a:lnSpc>
                <a:spcPct val="80000"/>
              </a:lnSpc>
              <a:spcBef>
                <a:spcPts val="499"/>
              </a:spcBef>
              <a:spcAft>
                <a:spcPts val="10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re l’informazione, l’orientamento ed incentivare la scelta di percorsi di istruzione e formazione superiore (universitari e non) a carattere tecnico – scientifico, con particolare attenzione al segmento femminile.</a:t>
            </a:r>
            <a:endParaRPr b="0" lang="en-US" sz="2000" spc="-1" strike="noStrike">
              <a:solidFill>
                <a:srgbClr val="000000"/>
              </a:solidFill>
              <a:latin typeface="Arial"/>
            </a:endParaRPr>
          </a:p>
          <a:p>
            <a:pPr marL="361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1" lang="it-IT" sz="2000" spc="-1" strike="noStrike">
                <a:solidFill>
                  <a:srgbClr val="000000"/>
                </a:solidFill>
                <a:latin typeface="Times New Roman"/>
              </a:rPr>
              <a:t>Campi prioritari d’intervento e principi operativi</a:t>
            </a:r>
            <a:endParaRPr b="0" lang="en-US" sz="2000" spc="-1" strike="noStrike">
              <a:solidFill>
                <a:srgbClr val="000000"/>
              </a:solidFill>
              <a:latin typeface="Arial"/>
            </a:endParaRPr>
          </a:p>
          <a:p>
            <a:pPr marL="361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 creazione di reti partenariali per la formazione d’eccellenza è di per sé stessa fattore di forte attrattività di un territorio, capace di orientare persone ed investimenti allo sviluppo di esso. Ciò implica l’opportunità di politiche di sostegno alla realizzazione di centri di eccellenza valorizzando forme associative e consortili tra Università, centri di ricerca pubblici e privati, imprese.</a:t>
            </a:r>
            <a:endParaRPr b="0" lang="en-US" sz="2000" spc="-1" strike="noStrike">
              <a:solidFill>
                <a:srgbClr val="000000"/>
              </a:solidFill>
              <a:latin typeface="Arial"/>
            </a:endParaRPr>
          </a:p>
        </p:txBody>
      </p:sp>
      <p:sp>
        <p:nvSpPr>
          <p:cNvPr id="156" name=""/>
          <p:cNvSpPr/>
          <p:nvPr/>
        </p:nvSpPr>
        <p:spPr>
          <a:xfrm>
            <a:off x="6948360" y="26028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SLIDE 5 A)  Formazione ed educazione permanente</a:t>
            </a:r>
            <a:endParaRPr b="1" lang="en-US" sz="1800" spc="-1" strike="noStrike">
              <a:solidFill>
                <a:srgbClr val="330066"/>
              </a:solidFill>
              <a:latin typeface="Arial"/>
            </a:endParaRPr>
          </a:p>
        </p:txBody>
      </p:sp>
      <p:sp>
        <p:nvSpPr>
          <p:cNvPr id="158" name="PlaceHolder 2"/>
          <p:cNvSpPr>
            <a:spLocks noGrp="1"/>
          </p:cNvSpPr>
          <p:nvPr>
            <p:ph/>
          </p:nvPr>
        </p:nvSpPr>
        <p:spPr>
          <a:xfrm>
            <a:off x="0" y="1341000"/>
            <a:ext cx="8820000" cy="4824360"/>
          </a:xfrm>
          <a:prstGeom prst="rect">
            <a:avLst/>
          </a:prstGeom>
          <a:noFill/>
          <a:ln w="0">
            <a:noFill/>
          </a:ln>
        </p:spPr>
        <p:txBody>
          <a:bodyPr lIns="90000" rIns="90000" tIns="46800" bIns="46800" anchor="t">
            <a:normAutofit fontScale="93000"/>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22% dei giovani tra 20 e 24 anni non ha diploma o  qualifica; la mancanza di titoli pregiudica carriera e mobilità degli adulti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biettivi da perseguire:</a:t>
            </a:r>
            <a:endParaRPr b="0" lang="en-US" sz="2000" spc="-1" strike="noStrike">
              <a:solidFill>
                <a:srgbClr val="000000"/>
              </a:solidFill>
              <a:latin typeface="Arial"/>
            </a:endParaRPr>
          </a:p>
          <a:p>
            <a:pPr indent="7812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arantire opportunità di istruzione/formazione lungo l’arco della vita ;</a:t>
            </a:r>
            <a:endParaRPr b="0" lang="en-US" sz="2000" spc="-1" strike="noStrike">
              <a:solidFill>
                <a:srgbClr val="000000"/>
              </a:solidFill>
              <a:latin typeface="Arial"/>
            </a:endParaRPr>
          </a:p>
          <a:p>
            <a:pPr indent="7812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ccrescere l’efficacia della F.P.in termini di inclusività ed occupabilità, </a:t>
            </a:r>
            <a:endParaRPr b="0" lang="en-US" sz="2000" spc="-1" strike="noStrike">
              <a:solidFill>
                <a:srgbClr val="000000"/>
              </a:solidFill>
              <a:latin typeface="Arial"/>
            </a:endParaRPr>
          </a:p>
          <a:p>
            <a:pPr indent="7812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ampi prioritari d’intervento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 Reinserimento nei percorsi di istruzione e formazione</a:t>
            </a:r>
            <a:endParaRPr b="0" lang="en-US" sz="2000" spc="-1" strike="noStrike">
              <a:solidFill>
                <a:srgbClr val="000000"/>
              </a:solidFill>
              <a:latin typeface="Arial"/>
            </a:endParaRPr>
          </a:p>
          <a:p>
            <a:pPr indent="7812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muovere l’acquisizione di un titolo secondario o di una qualifica attraverso percorsi differenziati e personalizzati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 Formazione per l’inserimento e il reinserimento al lavoro</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ccesso al lavoro ed il reinserimento nelle fasi di transizione, richiedono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un mix di formazione e politiche del lavoro differenziato a seconda dei </a:t>
            </a:r>
            <a:r>
              <a:rPr b="0" i="1" lang="it-IT" sz="2000" spc="-1" strike="noStrike">
                <a:solidFill>
                  <a:srgbClr val="000000"/>
                </a:solidFill>
                <a:latin typeface="Arial"/>
              </a:rPr>
              <a:t>target group</a:t>
            </a:r>
            <a:r>
              <a:rPr b="0" lang="it-IT" sz="2000" spc="-1" strike="noStrike">
                <a:solidFill>
                  <a:srgbClr val="000000"/>
                </a:solidFill>
                <a:latin typeface="Arial"/>
              </a:rPr>
              <a:t> di riferimento (persone con disabilità, soggetti svantaggiati, lavoratori che perdono il lavoro a seguito di crisi aziendali). ;</a:t>
            </a:r>
            <a:endParaRPr b="0" lang="en-US" sz="2000" spc="-1" strike="noStrike">
              <a:solidFill>
                <a:srgbClr val="000000"/>
              </a:solidFill>
              <a:latin typeface="Arial"/>
            </a:endParaRPr>
          </a:p>
          <a:p>
            <a:pPr indent="78120" algn="just">
              <a:lnSpc>
                <a:spcPct val="80000"/>
              </a:lnSpc>
              <a:spcBef>
                <a:spcPts val="4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corsi che integrano orientamento, formazione,incentivazione all’autoimpresa, soprattutto se attivano forme di tutoraggio individuale e assistenza allo start up;</a:t>
            </a:r>
            <a:endParaRPr b="0" lang="en-US" sz="2000" spc="-1" strike="noStrike">
              <a:solidFill>
                <a:srgbClr val="000000"/>
              </a:solidFill>
              <a:latin typeface="Arial"/>
            </a:endParaRPr>
          </a:p>
          <a:p>
            <a:pPr indent="78120" algn="just">
              <a:lnSpc>
                <a:spcPct val="80000"/>
              </a:lnSpc>
              <a:spcBef>
                <a:spcPts val="4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zioni che legano l’apprendimento alla esperienza del lavoro: tirocini, work    experiences , apprendistato in particola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74008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66"/>
                </a:solidFill>
                <a:latin typeface="Arial"/>
              </a:rPr>
              <a:t>	</a:t>
            </a:r>
            <a:r>
              <a:rPr b="0" lang="en-US" sz="3500" spc="-1" strike="noStrike">
                <a:solidFill>
                  <a:srgbClr val="330066"/>
                </a:solidFill>
                <a:latin typeface="Arial"/>
              </a:rPr>
              <a:t> </a:t>
            </a:r>
            <a:r>
              <a:rPr b="1" lang="en-US" sz="2000" spc="-1" strike="noStrike">
                <a:solidFill>
                  <a:srgbClr val="330066"/>
                </a:solidFill>
                <a:latin typeface="Arial"/>
              </a:rPr>
              <a:t>SLIDE 5B)  Formazione ed educazione permanente</a:t>
            </a:r>
            <a:endParaRPr b="1" lang="en-US" sz="2000" spc="-1" strike="noStrike">
              <a:solidFill>
                <a:srgbClr val="330066"/>
              </a:solidFill>
              <a:latin typeface="Arial"/>
            </a:endParaRPr>
          </a:p>
        </p:txBody>
      </p:sp>
      <p:sp>
        <p:nvSpPr>
          <p:cNvPr id="160" name="PlaceHolder 2"/>
          <p:cNvSpPr>
            <a:spLocks noGrp="1"/>
          </p:cNvSpPr>
          <p:nvPr>
            <p:ph/>
          </p:nvPr>
        </p:nvSpPr>
        <p:spPr>
          <a:xfrm>
            <a:off x="468360" y="1988640"/>
            <a:ext cx="8229600" cy="4411800"/>
          </a:xfrm>
          <a:prstGeom prst="rect">
            <a:avLst/>
          </a:prstGeom>
          <a:noFill/>
          <a:ln w="0">
            <a:noFill/>
          </a:ln>
        </p:spPr>
        <p:txBody>
          <a:bodyPr lIns="90000" rIns="90000" tIns="46800" bIns="46800" anchor="t">
            <a:normAutofit fontScale="99000"/>
          </a:bodyPr>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 Formazione per le “competenze chiave”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manutenzione delle competenze “chiave” costituisce il prerequisito per l’occupabilità e per l’esercizio dei diritti di cittadinanza. Occorre differenziare l’offerta formativa per target di riferimento, rivolgendola a uomini e donne con basso titolo di studio, disoccupati di lunga durata, giovani che hanno abbandonato i percorsi scolastici, immigrati inattivi, casalinghe e anziani.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ul piano operativo :</a:t>
            </a:r>
            <a:endParaRPr b="0" lang="en-US" sz="2400" spc="-1" strike="noStrike">
              <a:solidFill>
                <a:srgbClr val="000000"/>
              </a:solidFill>
              <a:latin typeface="Arial"/>
            </a:endParaRPr>
          </a:p>
          <a:p>
            <a:pPr lvl="1" marL="685080" indent="-344160" algn="just">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reare reti di Scuole, C.T.E.P., Centri per l’impiego, Università popolari, Organismi formativi  per capitalizzare le infrastrutture esistenti e costruire un sistema capillare di informazioni per raggiungere ampi segmenti di utenza</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SLIDE 6A) Adattabilità</a:t>
            </a:r>
            <a:endParaRPr b="1" lang="en-US" sz="2400" spc="-1" strike="noStrike">
              <a:solidFill>
                <a:srgbClr val="330066"/>
              </a:solidFill>
              <a:latin typeface="Arial"/>
            </a:endParaRPr>
          </a:p>
        </p:txBody>
      </p:sp>
      <p:sp>
        <p:nvSpPr>
          <p:cNvPr id="162" name="PlaceHolder 2"/>
          <p:cNvSpPr>
            <a:spLocks noGrp="1"/>
          </p:cNvSpPr>
          <p:nvPr>
            <p:ph/>
          </p:nvPr>
        </p:nvSpPr>
        <p:spPr>
          <a:xfrm>
            <a:off x="0" y="1413000"/>
            <a:ext cx="8964720" cy="5184720"/>
          </a:xfrm>
          <a:prstGeom prst="rect">
            <a:avLst/>
          </a:prstGeom>
          <a:noFill/>
          <a:ln w="0">
            <a:noFill/>
          </a:ln>
        </p:spPr>
        <p:txBody>
          <a:bodyPr lIns="90000" rIns="90000" tIns="46800" bIns="46800"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nseguimento di obiettivi di sviluppo e competitività richiede di mettere le imprese in condizioni di  anticipare, anziché subire, i cambiamenti indispensabili nell’economia globalizzata e basata sulla conoscenza.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Obiettivi</a:t>
            </a:r>
            <a:r>
              <a:rPr b="0" lang="it-IT" sz="2400" spc="-1" strike="noStrike">
                <a:solidFill>
                  <a:srgbClr val="000000"/>
                </a:solidFill>
                <a:latin typeface="Times New Roman"/>
              </a:rPr>
              <a:t>:</a:t>
            </a:r>
            <a:endParaRPr b="0" lang="en-US" sz="2400" spc="-1" strike="noStrike">
              <a:solidFill>
                <a:srgbClr val="000000"/>
              </a:solidFill>
              <a:latin typeface="Arial"/>
            </a:endParaRPr>
          </a:p>
          <a:p>
            <a:pPr algn="just">
              <a:lnSpc>
                <a:spcPct val="80000"/>
              </a:lnSpc>
              <a:spcBef>
                <a:spcPts val="601"/>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Sviluppare politiche di anticipazione e di  rafforzamento della competitività delle imprese attraverso l’osservazione continua dei cambiamenti nell’organizzazione del lavoro e nei mercati nazionali ed internazionali. </a:t>
            </a:r>
            <a:endParaRPr b="0" lang="en-US" sz="2400" spc="-1" strike="noStrike">
              <a:solidFill>
                <a:srgbClr val="000000"/>
              </a:solidFill>
              <a:latin typeface="Arial"/>
            </a:endParaRPr>
          </a:p>
          <a:p>
            <a:pPr algn="just">
              <a:lnSpc>
                <a:spcPct val="80000"/>
              </a:lnSpc>
              <a:spcBef>
                <a:spcPts val="601"/>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efinire una strategia di formazione continua che determini un’offerta radicata nel territorio ma non chiusa in una prospettiva localistica. </a:t>
            </a:r>
            <a:endParaRPr b="0" lang="en-US" sz="2400" spc="-1" strike="noStrike">
              <a:solidFill>
                <a:srgbClr val="000000"/>
              </a:solidFill>
              <a:latin typeface="Arial"/>
            </a:endParaRPr>
          </a:p>
          <a:p>
            <a:pPr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ampi prioritari d’intervento e principi operativi</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strategia va  articolata in rapporto a due ambiti di riferimento: le politiche riferite alle persone, sia lavoratori, sia imprenditori, e le politiche rivolte alle organizzazioni imprese e amministrazioni pubbliche.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0"/>
            <a:ext cx="754380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	</a:t>
            </a:r>
            <a:r>
              <a:rPr b="1" lang="en-US" sz="2400" spc="-1" strike="noStrike">
                <a:solidFill>
                  <a:srgbClr val="330066"/>
                </a:solidFill>
                <a:latin typeface="Arial"/>
              </a:rPr>
              <a:t>SLIDE 6B)</a:t>
            </a:r>
            <a:r>
              <a:rPr b="0" lang="en-US" sz="2400" spc="-1" strike="noStrike">
                <a:solidFill>
                  <a:srgbClr val="330066"/>
                </a:solidFill>
                <a:latin typeface="Arial"/>
              </a:rPr>
              <a:t> segue </a:t>
            </a:r>
            <a:r>
              <a:rPr b="1" lang="en-US" sz="2400" spc="-1" strike="noStrike">
                <a:solidFill>
                  <a:srgbClr val="330066"/>
                </a:solidFill>
                <a:latin typeface="Arial"/>
              </a:rPr>
              <a:t>Adattabilità</a:t>
            </a:r>
            <a:endParaRPr b="1" lang="en-US" sz="2400" spc="-1" strike="noStrike">
              <a:solidFill>
                <a:srgbClr val="330066"/>
              </a:solidFill>
              <a:latin typeface="Arial"/>
            </a:endParaRPr>
          </a:p>
        </p:txBody>
      </p:sp>
      <p:sp>
        <p:nvSpPr>
          <p:cNvPr id="164" name="PlaceHolder 2"/>
          <p:cNvSpPr>
            <a:spLocks noGrp="1"/>
          </p:cNvSpPr>
          <p:nvPr>
            <p:ph/>
          </p:nvPr>
        </p:nvSpPr>
        <p:spPr>
          <a:xfrm>
            <a:off x="0" y="1125360"/>
            <a:ext cx="8964720" cy="57326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voratori e imprenditori</a:t>
            </a:r>
            <a:endParaRPr b="0" lang="en-US" sz="2000" spc="-1" strike="noStrike">
              <a:solidFill>
                <a:srgbClr val="000000"/>
              </a:solidFill>
              <a:latin typeface="Arial"/>
            </a:endParaRPr>
          </a:p>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ivare misure di stabilizzazione , anche utilizzando la leva formativa , per i lavoratori con contratti flessibili; </a:t>
            </a:r>
            <a:endParaRPr b="0" lang="en-US" sz="2000" spc="-1" strike="noStrike">
              <a:solidFill>
                <a:srgbClr val="000000"/>
              </a:solidFill>
              <a:latin typeface="Arial"/>
            </a:endParaRPr>
          </a:p>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viluppare politiche di conciliazione per favorire la permanenza delle donne nel M.d.L. e l’accesso alla Formazione ;</a:t>
            </a:r>
            <a:endParaRPr b="0" lang="en-US" sz="2000" spc="-1" strike="noStrike">
              <a:solidFill>
                <a:srgbClr val="000000"/>
              </a:solidFill>
              <a:latin typeface="Arial"/>
            </a:endParaRPr>
          </a:p>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re le modalità di intervento a favore di  piccoli imprenditori e management aziendale sul piano dei contenuti, delle modalità e dei format didattici, in modo da trasmettere un apprendimento efficace ottimizzando la risorsa tempo.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mprese ed organizzazioni</a:t>
            </a:r>
            <a:endParaRPr b="0" lang="en-US" sz="2000" spc="-1" strike="noStrike">
              <a:solidFill>
                <a:srgbClr val="000000"/>
              </a:solidFill>
              <a:latin typeface="Arial"/>
            </a:endParaRPr>
          </a:p>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vorire  processi di aggregazione della domanda di formazione da parte delle PMI ed il raccordo tra il FSE ed i  Fondi interprofessionali.</a:t>
            </a:r>
            <a:endParaRPr b="0" lang="en-US" sz="2000" spc="-1" strike="noStrike">
              <a:solidFill>
                <a:srgbClr val="000000"/>
              </a:solidFill>
              <a:latin typeface="Arial"/>
            </a:endParaRPr>
          </a:p>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entire alle imprese di essere “soggetti attivi” nella progettazione e nella realizzazione di attività formative coerenti con le proprie esigenze. </a:t>
            </a:r>
            <a:endParaRPr b="0" lang="en-US" sz="2000" spc="-1" strike="noStrike">
              <a:solidFill>
                <a:srgbClr val="000000"/>
              </a:solidFill>
              <a:latin typeface="Arial"/>
            </a:endParaRPr>
          </a:p>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stenere l’innovazione nelle PMI, anche attraverso la formazione di figure professionali di “cerniera” e di supporto all’innovazione. </a:t>
            </a:r>
            <a:endParaRPr b="0" lang="en-US" sz="2000" spc="-1" strike="noStrike">
              <a:solidFill>
                <a:srgbClr val="000000"/>
              </a:solidFill>
              <a:latin typeface="Arial"/>
            </a:endParaRPr>
          </a:p>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seguire e migliorare le azioni di capacity building finalizzate a mettere in grado le istituzioni di concorrere meglio alle innovazioni necessari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48:50Z</dcterms:created>
  <dc:creator>Regione Abruzzo</dc:creator>
  <dc:description/>
  <dc:language>en-US</dc:language>
  <cp:lastModifiedBy>Administrator</cp:lastModifiedBy>
  <dcterms:modified xsi:type="dcterms:W3CDTF">2006-06-21T13:57:38Z</dcterms:modified>
  <cp:revision>72</cp:revision>
  <dc:subject/>
  <dc:title>PROGRAMMAZIONE 2007/13</dc:title>
</cp:coreProperties>
</file>