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DED5-1BC7-4AF8-9775-B2E7C0B0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41AD-2E47-417C-BD8E-FF56F7E5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7C87-97FE-4347-A341-1CE79D05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2A9D-6C0F-4F6B-920B-1B4FCC39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BBBF-A406-4C04-8280-5BF3AA4A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4B22-3438-4A21-85EF-9100AC1D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4129-1D2A-4A74-89FD-2B64A9D0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50D6-8B09-4210-A654-F3C2C504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5579-6CFC-47BB-BD0F-87DFA22D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3AD0-C867-408E-ADDD-C1C291B5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5DDB-77A6-4B66-8B24-1AA7BFE0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B50D-445F-44D5-90C1-09FEFF17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5A17-B918-4D5A-9A83-7EE2BFD0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65F8-5232-4434-809E-965FAF2E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DCE8-F9FE-4772-BF61-09EDD7E8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7ECC-CEC2-40DD-9206-545E8F91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17B1-E0FD-4BF3-A026-E3DE0E87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DA10-ECB0-4BB2-943C-B0ED95E4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FB2BD-1488-4935-B3CD-8E78FC84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7B6A-CF6E-4644-ACA3-BC151EF1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6ECC-87E0-49C5-AC69-0697CF0F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4731-6E2C-411D-8031-062D004E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1174F-2725-4377-B3A4-2916304E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08F2-952B-4BE5-867F-673A91F5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DD51-CF61-463C-9425-D5220368FF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FBF4-2368-495E-A09F-22366CC72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ano degli interventi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ff"/>
                </a:solidFill>
                <a:latin typeface="Arial"/>
              </a:rPr>
              <a:t>Appro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Arial"/>
              </a:rPr>
              <a:t>D.G.R. n. 515 del 22 maggi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ff"/>
                </a:solidFill>
                <a:latin typeface="Arial"/>
              </a:rPr>
              <a:t>Peculia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Arial"/>
              </a:rPr>
              <a:t>Il Piano è stato strutturato in modo da cogliere in chiave anticipatoria le opportunità e le stimolazioni della nuova Programmazione, anche al fine di fronteggiare criticità emergenti nel contesto socio-economico reg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ff"/>
                </a:solidFill>
                <a:latin typeface="Arial"/>
              </a:rPr>
              <a:t>Innov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Arial"/>
              </a:rPr>
              <a:t>Struttura per Macroprogetti funzionale all’obiettivo di “aggredire organicamente” i diversi fattori di criticità di interv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Arial"/>
              </a:rPr>
              <a:t>Gestione partenariale di significative linee di intervento in accordo con Amministrazioni Provinciali e Ufficio Scolastico reg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O.R. Abruzzo Ob. 3 2000/2006 - Comitato di Sorveglianza 8 giugn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DBC0-C718-442F-8FE7-EDDADD5331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ano degli interventi 2006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765000"/>
          <a:ext cx="8353440" cy="5543640"/>
        </p:xfrm>
        <a:graphic>
          <a:graphicData uri="http://schemas.openxmlformats.org/drawingml/2006/table">
            <a:tbl>
              <a:tblPr/>
              <a:tblGrid>
                <a:gridCol w="4248000"/>
                <a:gridCol w="1728720"/>
                <a:gridCol w="1295640"/>
                <a:gridCol w="1081080"/>
              </a:tblGrid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e priorita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proget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n. di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Contrasto alla povertà quale causa di esclu-sione dal M.d.L. e di abbandono scolas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Cittadinanza solid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A1, B1, C2, C3, C4, 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Sviluppo del capitale umano, e di moderni strumenti di governance, quali fattore propul-sivo della competitività  e dell’innovazione dell’econo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nnovazione, Competitività, Gover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A1, B1, C1, C2, C3, D1, D2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nterventi a supporto dell’inserimento nel M.d.L. e dell’inclusione sociale e per il contrasto ai fenomeni di precarietà lavor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nserimento, Transizione, Inclus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A1, A2, B1, C3, 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Rafforzamento professionale dei lavoratori, imprenditori e management, come fattore coadiuvante dei processi di riorganizzazione mirati allo sviluppo aziendale o alla prevenzione di cri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Adattabili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Promozione del lifelong learning, quale stru-mento per una effettiva cittadinanza a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Cittadinanza a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C2, C4, D1, 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Ulteriori interv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8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O.R. Abruzzo Ob. 3 2000/2006 - Comitato di Sorveglianza 8 giugn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1C69-8883-4659-A812-93B8D6152FC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ano degli interventi 2006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765000"/>
          <a:ext cx="8389800" cy="5427720"/>
        </p:xfrm>
        <a:graphic>
          <a:graphicData uri="http://schemas.openxmlformats.org/drawingml/2006/table">
            <a:tbl>
              <a:tblPr/>
              <a:tblGrid>
                <a:gridCol w="8389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progetto Cittadinanza Solid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 rivolti ai componenti di famiglie al di sotto della soglia di povertà, tra cui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49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se di lavoro, incentivi per l’assunzione e per l’autoimprenditorialità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49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all’impiego dedicat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499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stegni per la scolarità (libri di testo, voucher di servizi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progetto Cittadinanza At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9280" indent="-1792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9280" indent="-1792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 rivolti ai soggetti a rischio di esclusione marginalizzazione e di obsolescenza, tra cui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499"/>
                        </a:spcBef>
                        <a:buClr>
                          <a:srgbClr val="666699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orsi integrati per l’acquisizione del titolo di istruzione secondaria  e/o della qualifica professionale per giovani tra 20 e 24 ann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499"/>
                        </a:spcBef>
                        <a:buClr>
                          <a:srgbClr val="666699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 educativi e formativi per il recupero ed il consolidamento delle competenze chi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O.R. Abruzzo Ob. 3 2000/2006 - Comitato di Sorveglianza 8 giugn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AAFF-4B04-48A0-A0AA-B1DF49EFB9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ano degli interventi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36360" y="1341360"/>
          <a:ext cx="9001080" cy="4946760"/>
        </p:xfrm>
        <a:graphic>
          <a:graphicData uri="http://schemas.openxmlformats.org/drawingml/2006/table">
            <a:tbl>
              <a:tblPr/>
              <a:tblGrid>
                <a:gridCol w="2087280"/>
                <a:gridCol w="6913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e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7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POL_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Master  e percorsi professionalizzanti a supporto dell’innovazione tecnologica e organizzativa del settore manifatturiero e del settore dei serviz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PROGETTO REGIONALE FORMAZIONE TECNICO SCIENTI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Orientamento rivolto a discenti e famiglie, rafforzamento delle competenze metodologiche dei docenti, sperimentazione di metodologie ludiche di insegnamento ed altri interventi finalizzati a far lievitare la propensione alle scelte di percorsi tecnico-scientif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N_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Azioni integrate per lo sviluppo di “Intermediari della conoscenza tecnologica, organizzativa e gestional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GOVERNANCE REGIO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Formazione a supporto dei processi di delega, dell’ampliamento dell’offerta di servizi on line, della semplificazione e flessibilizzazione delle procedure inerenti azioni di sviluppo locale, Osservatori per le conoscenze, etc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95280" y="90792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croprogetto Innovazione, Competitività, Gover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O.R. Abruzzo Ob. 3 2000/2006 - Comitato di Sorveglianza 8 giugn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1B3E-D783-4B53-B1CB-E5C21039DF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ano degli interventi 2006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620640"/>
          <a:ext cx="8785440" cy="5586480"/>
        </p:xfrm>
        <a:graphic>
          <a:graphicData uri="http://schemas.openxmlformats.org/drawingml/2006/table">
            <a:tbl>
              <a:tblPr/>
              <a:tblGrid>
                <a:gridCol w="1695600"/>
                <a:gridCol w="708984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progetto Inserimento, Transazione, Inclus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et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 lav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9280" indent="-179280">
                        <a:spcBef>
                          <a:spcPts val="400"/>
                        </a:spcBef>
                        <a:buClr>
                          <a:srgbClr val="666699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zazione dell’area incrocio domanda – offerta di lavoro per l’inserimento, l’inclusione ed il contrasto alla precarietà lavor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400"/>
                        </a:spcBef>
                        <a:buClr>
                          <a:srgbClr val="666699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ti formative, borse di inserimento e tirocini formati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400"/>
                        </a:spcBef>
                        <a:buClr>
                          <a:srgbClr val="666699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stegni alla conciliazione tra lavoro e famig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ttaforma Integrata per il disagio soc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9280" indent="-179280">
                        <a:spcBef>
                          <a:spcPts val="400"/>
                        </a:spcBef>
                        <a:buClr>
                          <a:srgbClr val="666699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fforzamento dei servizi all’impiego ed alla cittadinanza per l'inclusione degli immigrati e sostegni per la creazione di impre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400"/>
                        </a:spcBef>
                        <a:buClr>
                          <a:srgbClr val="666699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orsi integrati e incentivi alle imprese e all’autoimprenditorialità per l’inserimento nel M.d.L. dei soggetti svantaggi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progetto Adattabil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et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9280" indent="-1792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ttabilità delle impr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9280" indent="-179280">
                        <a:spcBef>
                          <a:spcPts val="451"/>
                        </a:spcBef>
                        <a:buClr>
                          <a:srgbClr val="666699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C.  a sostegno della crescita imprenditoriale e manageriale delle piccole imprese imperniata sulle metodologie di e-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ttabilità dei lavor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9280" indent="-179280">
                        <a:spcBef>
                          <a:spcPts val="451"/>
                        </a:spcBef>
                        <a:buClr>
                          <a:srgbClr val="666699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C. finalizzata all’accrescimento e all’adeguamento delle competenze dei lavoratori delle PMI, in funzione della crescita competitiva dell’Azienda e della salvaguardia dell’occupazione nei processi di riorganizzazione mirati ad evitare stati di cri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O.R. Abruzzo Ob. 3 2000/2006 - Comitato di Sorveglianza 8 giugn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458D-66A7-4D26-84C3-8AE5F4E17D3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3:50:52Z</dcterms:created>
  <dc:creator>Regione Abruzzo</dc:creator>
  <dc:description/>
  <dc:language>en-US</dc:language>
  <cp:lastModifiedBy>Administrator</cp:lastModifiedBy>
  <dcterms:modified xsi:type="dcterms:W3CDTF">2006-06-21T14:35:56Z</dcterms:modified>
  <cp:revision>24</cp:revision>
  <dc:subject/>
  <dc:title>Diapositiva 1</dc:title>
</cp:coreProperties>
</file>