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F4F99-894B-4035-AF4A-94F0E923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8B6DF-BA1A-4643-8EF9-084A9587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1B1BB-0EBD-41AF-9DB7-C6312E5D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5CB1B-D5A9-4F8C-9F69-B3872D8F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244B-10D5-4675-AC72-F3E76C31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C2D7-E914-40CE-8DD6-D34D1FAE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F7F9-101B-4B47-AE02-B59302A5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57EB-7FF8-4506-BFA0-8E10A779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6FDC-C6D6-4C52-A91B-61C53A76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EC32-4DD5-4BEE-A7A1-39B69785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1F05-78E7-4983-97A6-F42C87A5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D4530-1241-4BA1-931C-E398C5AF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8901-3D92-45DA-B6C4-52C61B10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8B75-C328-41F8-8F3A-8CDC0DAF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AB35-0DBD-42EC-B2F9-C4D29955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E0DB-8948-426C-BC40-5B3CC70A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98C6-92CA-4DEF-815D-7D72CDCB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725F9-9197-4CF2-9EF7-58437C3F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76B8E-4471-48C8-9B62-F868AADF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94284-6757-4F0F-AF65-D86041CC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E893D-6834-4582-ABC4-ABC488C8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2DADA-1810-407B-A395-1652D327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80C10-9A74-4F6C-BA99-B3AA6848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C6553-1646-4056-AF0E-DF9900A4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EF5A-E9AD-4017-879D-B96DF9B748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4FDF-8528-48FD-A9F4-CEEF384B3A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Primi orientamenti </a:t>
            </a: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per la programmazione 2007/2013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Sintesi idee - prior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O.R. Abruzzo Ob. 3 2000/2006 - Comitato di Sorveglianza 8 giugno 20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7d"/>
                </a:solidFill>
                <a:latin typeface="Arial"/>
              </a:rPr>
              <a:t>Slid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838080"/>
          <a:ext cx="8229600" cy="5297760"/>
        </p:xfrm>
        <a:graphic>
          <a:graphicData uri="http://schemas.openxmlformats.org/drawingml/2006/table">
            <a:tbl>
              <a:tblPr/>
              <a:tblGrid>
                <a:gridCol w="2209680"/>
                <a:gridCol w="3417840"/>
                <a:gridCol w="762120"/>
                <a:gridCol w="838080"/>
                <a:gridCol w="1001880"/>
              </a:tblGrid>
              <a:tr h="3175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Linee di azione 2007/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Interventi anticipatori Piano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bo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erenza QS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Ob. specifi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Ob. gener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3080"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65b16"/>
                          </a:solidFill>
                          <a:latin typeface="Arial"/>
                        </a:rPr>
                        <a:t>Sostenere l’adattabilità dei sistemi di formazione ed istruzione </a:t>
                      </a:r>
                      <a:r>
                        <a:rPr b="0" lang="it-IT" sz="1400" spc="-1" strike="noStrike">
                          <a:solidFill>
                            <a:srgbClr val="f65b16"/>
                          </a:solidFill>
                          <a:latin typeface="Arial"/>
                        </a:rPr>
                        <a:t>nella prospettiva dello sviluppo di competenze in linea con il M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Innovazione, Competitività, Governance</a:t>
                      </a:r>
                      <a:r>
                        <a:rPr b="0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(Progetto </a:t>
                      </a:r>
                      <a:r>
                        <a:rPr b="0" i="1" lang="it-IT" sz="12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Governance regionale</a:t>
                      </a:r>
                      <a:r>
                        <a:rPr b="0" lang="it-IT" sz="12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 - Sostegno all’avvio di forme aggregate di offerta per l’erogazione di servizi formativ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Rafforzare, integrare e migliorare la qualità dei sistemi di istruzione, formazione e lavo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5840"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65b16"/>
                          </a:solidFill>
                          <a:latin typeface="Arial"/>
                        </a:rPr>
                        <a:t>Aumentare la capacità di anticipare le esigenze del MdL </a:t>
                      </a:r>
                      <a:r>
                        <a:rPr b="0" lang="it-IT" sz="1400" spc="-1" strike="noStrike">
                          <a:solidFill>
                            <a:srgbClr val="f65b16"/>
                          </a:solidFill>
                          <a:latin typeface="Arial"/>
                        </a:rPr>
                        <a:t>attraverso la creazione di specifici strumenti  di osserv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Innovazione, Competitività, Governance</a:t>
                      </a:r>
                      <a:r>
                        <a:rPr b="0" lang="it-IT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(Progetto </a:t>
                      </a:r>
                      <a:r>
                        <a:rPr b="0" i="1" lang="it-IT" sz="12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Governance regionale</a:t>
                      </a:r>
                      <a:r>
                        <a:rPr b="0" lang="it-IT" sz="12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- Osservatori per la conoscenza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- MdL e mondo produttivo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- Indicatori Sviluppo locale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- Nuove povertà e inclusione sociale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- Servizi di istruzione e disagio scolasti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0" rIns="0" tIns="72000" bIns="72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0" rIns="0" tIns="72000" bIns="72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440"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Modernizzare e sviluppare la rete regionale dei SpI e promuovere la connessione al nodo regionale della BCN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Innovazione, Competitività, Governance </a:t>
                      </a:r>
                      <a:r>
                        <a:rPr b="0" lang="it-IT" sz="12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(Progetto governance regionale – Rafforzamento degli strumenti e della capacità di intermediazione dei Sp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Cittadinanza solid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Inserimento, Transizione, Inclus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O.R. Abruzzo Ob. 3 2000/2006 - Comitato di Sorveglianza 8 giugno 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7d"/>
                </a:solidFill>
                <a:latin typeface="Arial"/>
              </a:rPr>
              <a:t>Slid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9280" y="838080"/>
          <a:ext cx="8713800" cy="5181840"/>
        </p:xfrm>
        <a:graphic>
          <a:graphicData uri="http://schemas.openxmlformats.org/drawingml/2006/table">
            <a:tbl>
              <a:tblPr/>
              <a:tblGrid>
                <a:gridCol w="2868840"/>
                <a:gridCol w="2971800"/>
                <a:gridCol w="838080"/>
                <a:gridCol w="762120"/>
                <a:gridCol w="1272960"/>
              </a:tblGrid>
              <a:tr h="330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Linee di azione 2007/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Interventi anticipatori Piano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bo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erenza QS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Ob. specifi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Ob. gener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0480"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5b16"/>
                          </a:solidFill>
                          <a:latin typeface="Arial"/>
                        </a:rPr>
                        <a:t>Prevenire la dispersione scolastica attraverso una offerta formativa rinnovata e flessibile e rafforzando la funzione di inclusione sociale delle istituzioni scolastiche</a:t>
                      </a:r>
                      <a:r>
                        <a:rPr b="0" lang="en-US" sz="1600" spc="-1" strike="noStrike">
                          <a:solidFill>
                            <a:srgbClr val="f65b16"/>
                          </a:solidFill>
                          <a:latin typeface="Arial"/>
                        </a:rPr>
                        <a:t> con particolare attenzione agli allievi in condizione di pover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Cittadinanza solidale</a:t>
                      </a:r>
                      <a:r>
                        <a:rPr b="0" lang="en-US" sz="16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Sostegno alle famiglie povere per l’acquisto di libri di testo, il pagamento di tasse di iscrizio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Voucher di servizio finalizzati alla mobilità didatt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Sostegno alla trasformazione delle scuole in centri polifunzionali erogatori di servizi educativi, culturali e ricreativi</a:t>
                      </a:r>
                      <a:r>
                        <a:rPr b="0" lang="en-US" sz="16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Innalzare i livelli di apprendimento e di competenze chiave, l'effettiva equità di accesso ai percorsi migliori, aumentare la copertura dei percorsi di istruzione e formazione iniziale</a:t>
                      </a: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O.R. Abruzzo Ob. 3 2000/2006 - Comitato di Sorveglianza 8 giugno 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7d"/>
                </a:solidFill>
                <a:latin typeface="Arial"/>
              </a:rPr>
              <a:t>Slid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880" y="838080"/>
          <a:ext cx="8436240" cy="5178600"/>
        </p:xfrm>
        <a:graphic>
          <a:graphicData uri="http://schemas.openxmlformats.org/drawingml/2006/table">
            <a:tbl>
              <a:tblPr/>
              <a:tblGrid>
                <a:gridCol w="2954520"/>
                <a:gridCol w="2676600"/>
                <a:gridCol w="819000"/>
                <a:gridCol w="743040"/>
                <a:gridCol w="1243080"/>
              </a:tblGrid>
              <a:tr h="2937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Linee di azione 2007/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Interventi anticipatori Piano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bo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erenza QS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Ob. specifi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Ob. gener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65b16"/>
                          </a:solidFill>
                          <a:latin typeface="Arial"/>
                        </a:rPr>
                        <a:t>Sviluppare la formazione post diploma e post laurea privilegiando l'acquisizione di competenze tecnico scientif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Macroprogetto </a:t>
                      </a:r>
                      <a:r>
                        <a:rPr b="1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Innovazione, Competitività, Governance</a:t>
                      </a:r>
                      <a:r>
                        <a:rPr b="0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: </a:t>
                      </a:r>
                      <a:r>
                        <a:rPr b="0" i="1" lang="it-IT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Progetto regionale Formazione Tecnico Scienti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- </a:t>
                      </a:r>
                      <a:r>
                        <a:rPr b="0" lang="it-IT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Orientamento ai percorsi tecnico-scientifici, Incentivi ai laureati per l'alta formazione tecnico-scientifica con priorità per le don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- Sostegni all'innovazione delle metodologie di insegnamento tecnico-scientifico nelle Scuole Medie attraverso l'attivazione di laboratori itineran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- Potenziamento delle attrezzature di laboratorio degli Istituti superiori con priorità per istituti  tecnici e professionali</a:t>
                      </a:r>
                      <a:r>
                        <a:rPr b="0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72000" rIns="0" tIns="72000" bIns="72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72000" rIns="0" tIns="72000" bIns="72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Innalzare i livelli di apprendimento e di competenze chiave, l'effettiva equità di accesso ai percorsi migliori, aumentare la copertura dei percorsi di istruzione e formazione iniziale</a:t>
                      </a: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3080"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65b16"/>
                          </a:solidFill>
                          <a:latin typeface="Arial"/>
                        </a:rPr>
                        <a:t>Stimolare l'accesso a percorsi di istruzione e formazione scientifica fin dalla Scuola Media, innovando metodologie e didattica ed orientando discenti e genito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0400"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Sviluppare percorsi integrati di istruzione e formazione iniziale, caratterizzati da una maggiore aderenza ai fabbisogni espressi dal territorio e da metodologie didattiche innov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O.R. Abruzzo Ob. 3 2000/2006 - Comitato di Sorveglianza 8 giugno 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7d"/>
                </a:solidFill>
                <a:latin typeface="Arial"/>
              </a:rPr>
              <a:t>Slid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9280" y="914400"/>
          <a:ext cx="8767800" cy="4684680"/>
        </p:xfrm>
        <a:graphic>
          <a:graphicData uri="http://schemas.openxmlformats.org/drawingml/2006/table">
            <a:tbl>
              <a:tblPr/>
              <a:tblGrid>
                <a:gridCol w="2922840"/>
                <a:gridCol w="2971800"/>
                <a:gridCol w="838080"/>
                <a:gridCol w="762120"/>
                <a:gridCol w="1272960"/>
              </a:tblGrid>
              <a:tr h="21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Linee di azione 2007/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Interventi anticipatori Piano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bo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erenza QS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Ob. specifi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Ob. gener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920"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Promuovere l'acquisizione di un Diploma o di una Qualifica attraverso percorsi personalizzati che utilizzino anche idonee tecnologie informatich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Macroprogetto </a:t>
                      </a:r>
                      <a:r>
                        <a:rPr b="1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Cittadinanza attiva</a:t>
                      </a:r>
                      <a:r>
                        <a:rPr b="0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 (percorsi integrati per l'acquisizione del titolo di istruzione secondaria o della qualifica professionale per giovani tra i 20 e i 24 ann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0" rIns="0" tIns="72000" bIns="72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Innalzare i livelli di apprendimento e di competenze chiave, l'effettiva equità di accesso ai percorsi migliori, aumentare la copertura dei percorsi di istruzione e formazione iniz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5400"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65b16"/>
                          </a:solidFill>
                          <a:latin typeface="Arial"/>
                        </a:rPr>
                        <a:t>Promuovere il recupero / consolidamento di competenze chi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Macroprogetto </a:t>
                      </a:r>
                      <a:r>
                        <a:rPr b="1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Cittadinanza attiva</a:t>
                      </a:r>
                      <a:r>
                        <a:rPr b="0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 (</a:t>
                      </a:r>
                      <a:r>
                        <a:rPr b="0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Interventi educativi e formativi per il recupero ed il consolidamento delle competenze chiave</a:t>
                      </a:r>
                      <a:r>
                        <a:rPr b="0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O.R. Abruzzo Ob. 3 2000/2006 - Comitato di Sorveglianza 8 giugno 20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7d"/>
                </a:solidFill>
                <a:latin typeface="Arial"/>
              </a:rPr>
              <a:t>Slid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914400"/>
          <a:ext cx="8642520" cy="5100480"/>
        </p:xfrm>
        <a:graphic>
          <a:graphicData uri="http://schemas.openxmlformats.org/drawingml/2006/table">
            <a:tbl>
              <a:tblPr/>
              <a:tblGrid>
                <a:gridCol w="2438280"/>
                <a:gridCol w="3330720"/>
                <a:gridCol w="838080"/>
                <a:gridCol w="762120"/>
                <a:gridCol w="1273320"/>
              </a:tblGrid>
              <a:tr h="21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Linee di azione 2007/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Interventi anticipatori Piano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bo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erenza QS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Ob. specifi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Ob. gener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3760"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65b16"/>
                          </a:solidFill>
                          <a:latin typeface="Arial"/>
                        </a:rPr>
                        <a:t>Sviluppare percorsi integrati per l’inserimento lavorativo dei soggetti a rischio di marginalità nel MdL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Fornire incentivi e servizi per  contribuire alla lotta alla povertà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65b16"/>
                          </a:solidFill>
                          <a:latin typeface="Arial"/>
                        </a:rPr>
                        <a:t>Sostenere la conciliazione tra vita lavorativa e vita familiar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Favorire l’integrazione di lavoratori immigrati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uovere, accompagnare ed Incentivare la creazione di impres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Macroprogetto </a:t>
                      </a:r>
                      <a:r>
                        <a:rPr b="1" lang="it-IT" sz="16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Cittadinanza solidale</a:t>
                      </a:r>
                      <a:r>
                        <a:rPr b="0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- </a:t>
                      </a:r>
                      <a:r>
                        <a:rPr b="0" lang="it-IT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Borse lavoro, Incentivi alle assunzioni ed all'autoimprenditorialità per soggetti in condizione di pover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- </a:t>
                      </a:r>
                      <a:r>
                        <a:rPr b="0" lang="it-IT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Voucher di servizio</a:t>
                      </a:r>
                      <a:r>
                        <a:rPr b="0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 e per la frequenza di percorsi di istruzione universitaria e di alta formazione, azioni di orientamento e consulenza individuale, per giovani in condizioni di povertà                                           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Macroprogetto </a:t>
                      </a:r>
                      <a:r>
                        <a:rPr b="1" lang="it-IT" sz="16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Inserimento, Transizione, Inclusione</a:t>
                      </a:r>
                      <a:r>
                        <a:rPr b="0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: </a:t>
                      </a:r>
                      <a:r>
                        <a:rPr b="0" i="1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Progetto Io lavoro</a:t>
                      </a:r>
                      <a:r>
                        <a:rPr b="0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 e </a:t>
                      </a:r>
                      <a:r>
                        <a:rPr b="0" i="1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Progetto Piattaforma integrata per il disagio soc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9999cc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Dote formativa per la manutenzione delle competenze di lavoratori atipi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9999cc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Incentivi per la conciliazione, anche sottoforma di voucher di serviz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Aumentare la partecipazione a opportunità formative lungo tutto l'arco della v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O.R. Abruzzo Ob. 3 2000/2006 - Comitato di Sorveglianza 8 giugno 20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7d"/>
                </a:solidFill>
                <a:latin typeface="Arial"/>
              </a:rPr>
              <a:t>Slid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762120"/>
          <a:ext cx="8642160" cy="5487840"/>
        </p:xfrm>
        <a:graphic>
          <a:graphicData uri="http://schemas.openxmlformats.org/drawingml/2006/table">
            <a:tbl>
              <a:tblPr/>
              <a:tblGrid>
                <a:gridCol w="3276360"/>
                <a:gridCol w="2492640"/>
                <a:gridCol w="838080"/>
                <a:gridCol w="762120"/>
                <a:gridCol w="1272960"/>
              </a:tblGrid>
              <a:tr h="21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Linee di azione 2007/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Interventi anticipatori Piano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bo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0erenza QS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Ob. specifi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Ob. gener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920"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spcAft>
                          <a:spcPts val="374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65b16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500" spc="-1" strike="noStrike">
                          <a:solidFill>
                            <a:srgbClr val="f65b16"/>
                          </a:solidFill>
                          <a:latin typeface="Arial"/>
                        </a:rPr>
                        <a:t>Sviluppare partenariati tra Università, Imprese, Organismi formativi finalizzati alla formazione di eccellenza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spcAft>
                          <a:spcPts val="374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65b16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500" spc="-1" strike="noStrike">
                          <a:solidFill>
                            <a:srgbClr val="f65b16"/>
                          </a:solidFill>
                          <a:latin typeface="Arial"/>
                        </a:rPr>
                        <a:t>Sviluppare partenariati finalizzati ad un'offerta non discontinua di Form. Sup. Tecnico-Scientifica;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spcAft>
                          <a:spcPts val="374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65b16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500" spc="-1" strike="noStrike">
                          <a:solidFill>
                            <a:srgbClr val="f65b16"/>
                          </a:solidFill>
                          <a:latin typeface="Arial"/>
                        </a:rPr>
                        <a:t>Promuovere l’acquisizione di conoscenze in ICT ed il loro trasferimento al sistema delle impre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Macroprogetto </a:t>
                      </a:r>
                      <a:r>
                        <a:rPr b="1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Innovazione, Competitività, Governance</a:t>
                      </a:r>
                      <a:r>
                        <a:rPr b="0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- </a:t>
                      </a:r>
                      <a:r>
                        <a:rPr b="0" lang="it-IT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Progetto POL_AF - Poli per l’alta formazione tecnico scientifica e l’innov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buClr>
                          <a:srgbClr val="666699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Progetto regionale Formazione tecnico-scientif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buClr>
                          <a:srgbClr val="666699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Progetto IN_CO </a:t>
                      </a:r>
                      <a:r>
                        <a:rPr b="0" i="1" lang="it-IT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Azioni integrate per lo sviluppo di intermediari della conoscenza tecnologica, organizzativa e gestio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 8,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Migliorare la capacità di adattamento, innovazione e competitività dei lavoratori e degli attori economici del siste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560"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65b1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65b16"/>
                          </a:solidFill>
                          <a:latin typeface="Arial"/>
                        </a:rPr>
                        <a:t>Accrescere l’adattabilità dei lavoratori, delle imprese e degli imprenditori al fine di anticipare e gestire i cambiamenti economici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65b1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65b16"/>
                          </a:solidFill>
                          <a:latin typeface="Arial"/>
                        </a:rPr>
                        <a:t>Consolidare i rapporti di lavoro precari e favorire l’emersione del lavoro ne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Macroprogetto </a:t>
                      </a:r>
                      <a:r>
                        <a:rPr b="1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Adattabilità</a:t>
                      </a:r>
                      <a:r>
                        <a:rPr b="0" lang="en-US" sz="1400" spc="-1" strike="noStrike">
                          <a:solidFill>
                            <a:srgbClr val="02487c"/>
                          </a:solidFill>
                          <a:latin typeface="Arial"/>
                        </a:rPr>
                        <a:t>: </a:t>
                      </a:r>
                      <a:r>
                        <a:rPr b="0" i="1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Progetto Adattabilità delle imprese e Progetto Adattabilità dei lavorato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72000" bIns="72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.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O.R. Abruzzo Ob. 3 2000/2006 - Comitato di Sorveglianza 8 giugno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3:50:52Z</dcterms:created>
  <dc:creator>Regione Abruzzo</dc:creator>
  <dc:description/>
  <dc:language>en-US</dc:language>
  <cp:lastModifiedBy>Administrator</cp:lastModifiedBy>
  <dcterms:modified xsi:type="dcterms:W3CDTF">2006-06-21T14:34:19Z</dcterms:modified>
  <cp:revision>36</cp:revision>
  <dc:subject/>
  <dc:title>Diapositiva 1</dc:title>
</cp:coreProperties>
</file>